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5.png" ContentType="image/png"/>
  <Override PartName="/ppt/media/image9.png" ContentType="image/png"/>
  <Override PartName="/ppt/media/image7.png" ContentType="image/png"/>
  <Override PartName="/ppt/media/image4.gif" ContentType="image/gif"/>
  <Override PartName="/ppt/media/image21.gif" ContentType="image/gif"/>
  <Override PartName="/ppt/media/image11.jpeg" ContentType="image/jpeg"/>
  <Override PartName="/ppt/media/image19.png" ContentType="image/png"/>
  <Override PartName="/ppt/media/image15.gif" ContentType="image/gif"/>
  <Override PartName="/ppt/media/image3.jpeg" ContentType="image/jpeg"/>
  <Override PartName="/ppt/media/image20.gif" ContentType="image/gif"/>
  <Override PartName="/ppt/media/image18.gif" ContentType="image/gif"/>
  <Override PartName="/ppt/media/image17.gif" ContentType="image/gif"/>
  <Override PartName="/ppt/media/image16.jpeg" ContentType="image/jpeg"/>
  <Override PartName="/ppt/media/image14.gif" ContentType="image/gif"/>
  <Override PartName="/ppt/media/image1.gif" ContentType="image/gif"/>
  <Override PartName="/ppt/media/image6.png" ContentType="image/pn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66D53-2912-447B-BDC1-8A1A6E9E7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1127-A59F-47B1-9EF4-46197B5B7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C901D-67C8-4A9B-B507-94D2F2F23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CC7B5-F81C-4453-A4CD-7865BFEAC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77E52-C9C8-43DF-BFB0-E8BEF6AB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475F2-F1BC-437A-A86F-34888A5A2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E1CB6-3BF0-4B1C-B96A-C206A698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12812-3081-4C44-93BC-E250516B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6A84C-949D-49BD-A03C-599DFCA4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61102-8318-4926-93C5-C1A8BA125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1026-F720-4969-B547-510840D33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DA7B-1DB8-46D7-BAFE-6F6D55186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417B-822E-4516-A0BF-68A851531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908000" y="189000"/>
            <a:ext cx="5328000" cy="1739880"/>
            <a:chOff x="1908000" y="189000"/>
            <a:chExt cx="5328000" cy="1739880"/>
          </a:xfrm>
        </p:grpSpPr>
        <p:sp>
          <p:nvSpPr>
            <p:cNvPr id="42" name=""/>
            <p:cNvSpPr/>
            <p:nvPr/>
          </p:nvSpPr>
          <p:spPr>
            <a:xfrm>
              <a:off x="1908000" y="189000"/>
              <a:ext cx="5328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Bodoni MT Black"/>
                </a:rPr>
                <a:t>Captain James Cook</a:t>
              </a:r>
              <a:endParaRPr b="0" lang="en-US" sz="5400" spc="-1" strike="noStrike">
                <a:solidFill>
                  <a:srgbClr val="000000"/>
                </a:solidFill>
                <a:latin typeface="Arial"/>
              </a:endParaRPr>
            </a:p>
          </p:txBody>
        </p:sp>
        <p:pic>
          <p:nvPicPr>
            <p:cNvPr id="43" name="" descr="animated australia flag"/>
            <p:cNvPicPr/>
            <p:nvPr/>
          </p:nvPicPr>
          <p:blipFill>
            <a:blip r:embed="rId1"/>
            <a:stretch/>
          </p:blipFill>
          <p:spPr>
            <a:xfrm>
              <a:off x="5508720" y="981000"/>
              <a:ext cx="1585800" cy="847800"/>
            </a:xfrm>
            <a:prstGeom prst="rect">
              <a:avLst/>
            </a:prstGeom>
            <a:ln w="0">
              <a:noFill/>
            </a:ln>
          </p:spPr>
        </p:pic>
        <p:pic>
          <p:nvPicPr>
            <p:cNvPr id="44" name="" descr="free british flag union jack animation"/>
            <p:cNvPicPr/>
            <p:nvPr/>
          </p:nvPicPr>
          <p:blipFill>
            <a:blip r:embed="rId2"/>
            <a:stretch/>
          </p:blipFill>
          <p:spPr>
            <a:xfrm rot="10800000">
              <a:off x="1979640" y="1052280"/>
              <a:ext cx="1595520" cy="828720"/>
            </a:xfrm>
            <a:prstGeom prst="rect">
              <a:avLst/>
            </a:prstGeom>
            <a:ln w="0">
              <a:noFill/>
            </a:ln>
          </p:spPr>
        </p:pic>
      </p:grpSp>
      <p:pic>
        <p:nvPicPr>
          <p:cNvPr id="45" name="" descr=""/>
          <p:cNvPicPr/>
          <p:nvPr/>
        </p:nvPicPr>
        <p:blipFill>
          <a:blip r:embed="rId3"/>
          <a:stretch/>
        </p:blipFill>
        <p:spPr>
          <a:xfrm>
            <a:off x="3143160" y="2205000"/>
            <a:ext cx="2857680" cy="3600360"/>
          </a:xfrm>
          <a:prstGeom prst="rect">
            <a:avLst/>
          </a:prstGeom>
          <a:ln w="0">
            <a:noFill/>
          </a:ln>
        </p:spPr>
      </p:pic>
      <p:sp>
        <p:nvSpPr>
          <p:cNvPr id="46" name=""/>
          <p:cNvSpPr/>
          <p:nvPr/>
        </p:nvSpPr>
        <p:spPr>
          <a:xfrm>
            <a:off x="1006560" y="5805360"/>
            <a:ext cx="712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Bodoni MT Black"/>
              </a:rPr>
              <a:t>The father of Australia</a:t>
            </a:r>
            <a:endParaRPr b="0" lang="en-US" sz="2000" spc="-1" strike="noStrike">
              <a:solidFill>
                <a:srgbClr val="000000"/>
              </a:solidFill>
              <a:latin typeface="Arial"/>
            </a:endParaRPr>
          </a:p>
        </p:txBody>
      </p:sp>
      <p:pic>
        <p:nvPicPr>
          <p:cNvPr id="47" name="" descr="free clock animation"/>
          <p:cNvPicPr/>
          <p:nvPr/>
        </p:nvPicPr>
        <p:blipFill>
          <a:blip r:embed="rId4"/>
          <a:stretch/>
        </p:blipFill>
        <p:spPr>
          <a:xfrm>
            <a:off x="2195640" y="1413000"/>
            <a:ext cx="4149720" cy="4249440"/>
          </a:xfrm>
          <a:prstGeom prst="rect">
            <a:avLst/>
          </a:prstGeom>
          <a:ln w="0">
            <a:noFill/>
          </a:ln>
        </p:spPr>
      </p:pic>
      <p:sp>
        <p:nvSpPr>
          <p:cNvPr id="48" name=""/>
          <p:cNvSpPr/>
          <p:nvPr/>
        </p:nvSpPr>
        <p:spPr>
          <a:xfrm>
            <a:off x="250920" y="40464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The story of Captain James Cook takes us back to 7th of November 1728…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gtEl>
                                        <p:attrNameLst>
                                          <p:attrName>style.visibility</p:attrName>
                                        </p:attrNameLst>
                                      </p:cBhvr>
                                      <p:to>
                                        <p:strVal val="visible"/>
                                      </p:to>
                                    </p:set>
                                    <p:anim calcmode="lin" valueType="num">
                                      <p:cBhvr additive="base">
                                        <p:cTn id="11" dur="500" fill="hold"/>
                                        <p:tgtEl>
                                          <p:spTgt spid="45"/>
                                        </p:tgtEl>
                                        <p:attrNameLst>
                                          <p:attrName>ppt_x</p:attrName>
                                        </p:attrNameLst>
                                      </p:cBhvr>
                                      <p:tavLst>
                                        <p:tav tm="0">
                                          <p:val>
                                            <p:strVal val="#ppt_x"/>
                                          </p:val>
                                        </p:tav>
                                        <p:tav tm="100000">
                                          <p:val>
                                            <p:strVal val="#ppt_x"/>
                                          </p:val>
                                        </p:tav>
                                      </p:tavLst>
                                    </p:anim>
                                    <p:anim calcmode="lin" valueType="num">
                                      <p:cBhvr additive="base">
                                        <p:cTn id="12" dur="500" fill="hold"/>
                                        <p:tgtEl>
                                          <p:spTgt spid="45"/>
                                        </p:tgtEl>
                                        <p:attrNameLst>
                                          <p:attrName>ppt_y</p:attrName>
                                        </p:attrNameLst>
                                      </p:cBhvr>
                                      <p:tavLst>
                                        <p:tav tm="0">
                                          <p:val>
                                            <p:strVal val="1+#ppt_h/2"/>
                                          </p:val>
                                        </p:tav>
                                        <p:tav tm="100000">
                                          <p:val>
                                            <p:strVal val="#ppt_y"/>
                                          </p:val>
                                        </p:tav>
                                      </p:tavLst>
                                    </p:anim>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46"/>
                                        </p:tgtEl>
                                        <p:attrNameLst>
                                          <p:attrName>style.visibility</p:attrName>
                                        </p:attrNameLst>
                                      </p:cBhvr>
                                      <p:to>
                                        <p:strVal val="visible"/>
                                      </p:to>
                                    </p:set>
                                    <p:animEffect filter="dissolve" transition="in">
                                      <p:cBhvr additive="repl">
                                        <p:cTn id="16" dur="500"/>
                                        <p:tgtEl>
                                          <p:spTgt spid="46"/>
                                        </p:tgtEl>
                                      </p:cBhvr>
                                    </p:animEffect>
                                  </p:childTnLst>
                                </p:cTn>
                              </p:par>
                            </p:childTnLst>
                          </p:cTn>
                        </p:par>
                        <p:par>
                          <p:cTn id="17" fill="hold">
                            <p:stCondLst>
                              <p:cond delay="1000"/>
                            </p:stCondLst>
                            <p:childTnLst>
                              <p:par>
                                <p:cTn id="18" nodeType="afterEffect" fill="hold" presetClass="exit" presetID="10">
                                  <p:stCondLst>
                                    <p:cond delay="5000"/>
                                  </p:stCondLst>
                                  <p:childTnLst>
                                    <p:animEffect filter="fade" transition="out">
                                      <p:cBhvr additive="repl">
                                        <p:cTn id="19" dur="2000"/>
                                        <p:tgtEl>
                                          <p:spTgt spid="45"/>
                                        </p:tgtEl>
                                      </p:cBhvr>
                                    </p:animEffect>
                                    <p:set>
                                      <p:cBhvr>
                                        <p:cTn id="20" dur="1" fill="hold">
                                          <p:stCondLst>
                                            <p:cond delay="1999"/>
                                          </p:stCondLst>
                                        </p:cTn>
                                        <p:tgtEl>
                                          <p:spTgt spid="45"/>
                                        </p:tgtEl>
                                        <p:attrNameLst>
                                          <p:attrName>style.visibility</p:attrName>
                                        </p:attrNameLst>
                                      </p:cBhvr>
                                      <p:to>
                                        <p:strVal val="hidden"/>
                                      </p:to>
                                    </p:set>
                                  </p:childTnLst>
                                </p:cTn>
                              </p:par>
                              <p:par>
                                <p:cTn id="21" nodeType="withEffect" fill="hold" presetClass="exit" presetID="10">
                                  <p:stCondLst>
                                    <p:cond delay="5000"/>
                                  </p:stCondLst>
                                  <p:childTnLst>
                                    <p:animEffect filter="fade" transition="out">
                                      <p:cBhvr additive="repl">
                                        <p:cTn id="22" dur="2000"/>
                                        <p:tgtEl>
                                          <p:spTgt spid="41"/>
                                        </p:tgtEl>
                                      </p:cBhvr>
                                    </p:animEffect>
                                    <p:set>
                                      <p:cBhvr>
                                        <p:cTn id="23" dur="1" fill="hold">
                                          <p:stCondLst>
                                            <p:cond delay="1999"/>
                                          </p:stCondLst>
                                        </p:cTn>
                                        <p:tgtEl>
                                          <p:spTgt spid="41"/>
                                        </p:tgtEl>
                                        <p:attrNameLst>
                                          <p:attrName>style.visibility</p:attrName>
                                        </p:attrNameLst>
                                      </p:cBhvr>
                                      <p:to>
                                        <p:strVal val="hidden"/>
                                      </p:to>
                                    </p:set>
                                  </p:childTnLst>
                                </p:cTn>
                              </p:par>
                              <p:par>
                                <p:cTn id="24" nodeType="withEffect" fill="hold" presetClass="exit" presetID="10">
                                  <p:stCondLst>
                                    <p:cond delay="5000"/>
                                  </p:stCondLst>
                                  <p:childTnLst>
                                    <p:animEffect filter="fade" transition="out">
                                      <p:cBhvr additive="repl">
                                        <p:cTn id="25" dur="2000"/>
                                        <p:tgtEl>
                                          <p:spTgt spid="46"/>
                                        </p:tgtEl>
                                      </p:cBhvr>
                                    </p:animEffect>
                                    <p:set>
                                      <p:cBhvr>
                                        <p:cTn id="26" dur="1" fill="hold">
                                          <p:stCondLst>
                                            <p:cond delay="1999"/>
                                          </p:stCondLst>
                                        </p:cTn>
                                        <p:tgtEl>
                                          <p:spTgt spid="46"/>
                                        </p:tgtEl>
                                        <p:attrNameLst>
                                          <p:attrName>style.visibility</p:attrName>
                                        </p:attrNameLst>
                                      </p:cBhvr>
                                      <p:to>
                                        <p:strVal val="hidden"/>
                                      </p:to>
                                    </p:set>
                                  </p:childTnLst>
                                </p:cTn>
                              </p:par>
                            </p:childTnLst>
                          </p:cTn>
                        </p:par>
                        <p:par>
                          <p:cTn id="27" fill="hold">
                            <p:stCondLst>
                              <p:cond delay="8000"/>
                            </p:stCondLst>
                            <p:childTnLst>
                              <p:par>
                                <p:cTn id="28" nodeType="afterEffect" fill="hold" presetClass="entr" presetID="21" presetSubtype="4">
                                  <p:stCondLst>
                                    <p:cond delay="0"/>
                                  </p:stCondLst>
                                  <p:childTnLst>
                                    <p:set>
                                      <p:cBhvr>
                                        <p:cTn id="29" dur="1" fill="hold">
                                          <p:stCondLst>
                                            <p:cond delay="0"/>
                                          </p:stCondLst>
                                        </p:cTn>
                                        <p:tgtEl>
                                          <p:spTgt spid="48"/>
                                        </p:tgtEl>
                                        <p:attrNameLst>
                                          <p:attrName>style.visibility</p:attrName>
                                        </p:attrNameLst>
                                      </p:cBhvr>
                                      <p:to>
                                        <p:strVal val="visible"/>
                                      </p:to>
                                    </p:set>
                                    <p:animEffect filter="wheel(4)" transition="in">
                                      <p:cBhvr additive="repl">
                                        <p:cTn id="30" dur="2000"/>
                                        <p:tgtEl>
                                          <p:spTgt spid="48"/>
                                        </p:tgtEl>
                                      </p:cBhvr>
                                    </p:animEffect>
                                  </p:childTnLst>
                                </p:cTn>
                              </p:par>
                              <p:par>
                                <p:cTn id="31" nodeType="withEffect" fill="hold" presetClass="entr" presetID="21" presetSubtype="4">
                                  <p:stCondLst>
                                    <p:cond delay="0"/>
                                  </p:stCondLst>
                                  <p:childTnLst>
                                    <p:set>
                                      <p:cBhvr>
                                        <p:cTn id="32" dur="1" fill="hold">
                                          <p:stCondLst>
                                            <p:cond delay="0"/>
                                          </p:stCondLst>
                                        </p:cTn>
                                        <p:tgtEl>
                                          <p:spTgt spid="47"/>
                                        </p:tgtEl>
                                        <p:attrNameLst>
                                          <p:attrName>style.visibility</p:attrName>
                                        </p:attrNameLst>
                                      </p:cBhvr>
                                      <p:to>
                                        <p:strVal val="visible"/>
                                      </p:to>
                                    </p:set>
                                    <p:animEffect filter="wheel(4)" transition="in">
                                      <p:cBhvr additive="repl">
                                        <p:cTn id="33" dur="2000"/>
                                        <p:tgtEl>
                                          <p:spTgt spid="47"/>
                                        </p:tgtEl>
                                      </p:cBhvr>
                                    </p:animEffect>
                                  </p:childTnLst>
                                </p:cTn>
                              </p:par>
                            </p:childTnLst>
                          </p:cTn>
                        </p:par>
                        <p:par>
                          <p:cTn id="34" fill="hold">
                            <p:stCondLst>
                              <p:cond delay="10000"/>
                            </p:stCondLst>
                            <p:childTnLst>
                              <p:par>
                                <p:cTn id="35" nodeType="afterEffect" fill="hold" presetClass="emph" presetID="8">
                                  <p:stCondLst>
                                    <p:cond delay="5000"/>
                                  </p:stCondLst>
                                  <p:childTnLst>
                                    <p:animRot by="21600000">
                                      <p:cBhvr>
                                        <p:cTn id="36" dur="2000" fill="hold"/>
                                        <p:tgtEl>
                                          <p:spTgt spid="47"/>
                                        </p:tgtEl>
                                        <p:attrNameLst>
                                          <p:attrName>r</p:attrName>
                                        </p:attrNameLst>
                                      </p:cBhvr>
                                    </p:animRot>
                                  </p:childTnLst>
                                </p:cTn>
                              </p:par>
                              <p:par>
                                <p:cTn id="37" nodeType="withEffect" fill="hold" presetClass="emph" presetID="8">
                                  <p:stCondLst>
                                    <p:cond delay="0"/>
                                  </p:stCondLst>
                                  <p:childTnLst>
                                    <p:animRot by="21600000">
                                      <p:cBhvr>
                                        <p:cTn id="38" dur="2000" fill="hold"/>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05" name=""/>
          <p:cNvSpPr/>
          <p:nvPr/>
        </p:nvSpPr>
        <p:spPr>
          <a:xfrm>
            <a:off x="1403280" y="2421000"/>
            <a:ext cx="6337440" cy="20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 name="" descr="baby-02"/>
          <p:cNvPicPr/>
          <p:nvPr/>
        </p:nvPicPr>
        <p:blipFill>
          <a:blip r:embed="rId1"/>
          <a:stretch/>
        </p:blipFill>
        <p:spPr>
          <a:xfrm>
            <a:off x="-1062000" y="7245360"/>
            <a:ext cx="2124000" cy="1592280"/>
          </a:xfrm>
          <a:prstGeom prst="rect">
            <a:avLst/>
          </a:prstGeom>
          <a:ln w="0">
            <a:noFill/>
          </a:ln>
        </p:spPr>
      </p:pic>
      <p:pic>
        <p:nvPicPr>
          <p:cNvPr id="107" name="" descr="baby-02"/>
          <p:cNvPicPr/>
          <p:nvPr/>
        </p:nvPicPr>
        <p:blipFill>
          <a:blip r:embed="rId2"/>
          <a:stretch/>
        </p:blipFill>
        <p:spPr>
          <a:xfrm>
            <a:off x="-2484360" y="7245360"/>
            <a:ext cx="2124000" cy="1592280"/>
          </a:xfrm>
          <a:prstGeom prst="rect">
            <a:avLst/>
          </a:prstGeom>
          <a:ln w="0">
            <a:noFill/>
          </a:ln>
        </p:spPr>
      </p:pic>
      <p:pic>
        <p:nvPicPr>
          <p:cNvPr id="108" name="" descr="baby-02"/>
          <p:cNvPicPr/>
          <p:nvPr/>
        </p:nvPicPr>
        <p:blipFill>
          <a:blip r:embed="rId3"/>
          <a:stretch/>
        </p:blipFill>
        <p:spPr>
          <a:xfrm>
            <a:off x="-3852720" y="7245360"/>
            <a:ext cx="2124000" cy="1592280"/>
          </a:xfrm>
          <a:prstGeom prst="rect">
            <a:avLst/>
          </a:prstGeom>
          <a:ln w="0">
            <a:noFill/>
          </a:ln>
        </p:spPr>
      </p:pic>
      <p:pic>
        <p:nvPicPr>
          <p:cNvPr id="109" name="" descr="baby-01"/>
          <p:cNvPicPr/>
          <p:nvPr/>
        </p:nvPicPr>
        <p:blipFill>
          <a:blip r:embed="rId4"/>
          <a:stretch/>
        </p:blipFill>
        <p:spPr>
          <a:xfrm>
            <a:off x="1403280" y="2421000"/>
            <a:ext cx="6337440" cy="2016000"/>
          </a:xfrm>
          <a:prstGeom prst="rect">
            <a:avLst/>
          </a:prstGeom>
          <a:ln w="0">
            <a:noFill/>
          </a:ln>
        </p:spPr>
      </p:pic>
      <p:sp>
        <p:nvSpPr>
          <p:cNvPr id="110" name=""/>
          <p:cNvSpPr/>
          <p:nvPr/>
        </p:nvSpPr>
        <p:spPr>
          <a:xfrm>
            <a:off x="168120" y="203040"/>
            <a:ext cx="88059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Before setting off on his first voyage, Cook had three children: a son, James, born 13</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of October 1763 drowned 25</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January 1794,</a:t>
            </a:r>
            <a:r>
              <a:rPr b="1" lang="en-US" sz="1800" spc="-1" strike="noStrike">
                <a:solidFill>
                  <a:srgbClr val="ffffff"/>
                </a:solidFill>
                <a:latin typeface="Bodoni MT Black"/>
              </a:rPr>
              <a:t> </a:t>
            </a:r>
            <a:r>
              <a:rPr b="0" lang="en-US" sz="1800" spc="-1" strike="noStrike">
                <a:solidFill>
                  <a:srgbClr val="ffffff"/>
                </a:solidFill>
                <a:latin typeface="Bodoni MT Black"/>
              </a:rPr>
              <a:t>second son Nathaniel, born 14 Dec 1764 drowned 5</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October 1780 and then his only daughter, Elizabeth, born 1767 died 9</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April 1771.</a:t>
            </a:r>
            <a:endParaRPr b="0" lang="en-US" sz="1800" spc="-1" strike="noStrike">
              <a:solidFill>
                <a:srgbClr val="000000"/>
              </a:solidFill>
              <a:latin typeface="Arial"/>
            </a:endParaRPr>
          </a:p>
        </p:txBody>
      </p:sp>
    </p:spTree>
  </p:cSld>
  <p:transition advTm="15000">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path" presetID="0">
                                  <p:stCondLst>
                                    <p:cond delay="0"/>
                                  </p:stCondLst>
                                  <p:childTnLst>
                                    <p:animMotion origin="layout" path="M 0.06285 -3.7037E-006 C 0.17379 -0.3287 0.2849 -0.6574 0.38369 -0.7699 C 0.48247 -0.8824 0.61025 -0.6912 0.65556 -0.67546 E">
                                      <p:cBhvr>
                                        <p:cTn id="185" dur="2000" fill="hold"/>
                                        <p:tgtEl>
                                          <p:spTgt spid="107"/>
                                        </p:tgtEl>
                                      </p:cBhvr>
                                    </p:animMotion>
                                  </p:childTnLst>
                                </p:cTn>
                              </p:par>
                            </p:childTnLst>
                          </p:cTn>
                        </p:par>
                        <p:par>
                          <p:cTn id="186" fill="hold">
                            <p:stCondLst>
                              <p:cond delay="2000"/>
                            </p:stCondLst>
                            <p:childTnLst>
                              <p:par>
                                <p:cTn id="187" nodeType="afterEffect" fill="hold" presetClass="path" presetID="0">
                                  <p:stCondLst>
                                    <p:cond delay="0"/>
                                  </p:stCondLst>
                                  <p:childTnLst>
                                    <p:animMotion origin="layout" path="M -1.66667E-006 -3.7037E-006 C 0.11094 -0.3287 0.22205 -0.6574 0.32084 -0.7699 C 0.41962 -0.8824 0.5474 -0.6912 0.59271 -0.67546 E">
                                      <p:cBhvr>
                                        <p:cTn id="188" dur="2000" fill="hold"/>
                                        <p:tgtEl>
                                          <p:spTgt spid="108"/>
                                        </p:tgtEl>
                                      </p:cBhvr>
                                    </p:animMotion>
                                  </p:childTnLst>
                                </p:cTn>
                              </p:par>
                            </p:childTnLst>
                          </p:cTn>
                        </p:par>
                        <p:par>
                          <p:cTn id="189" fill="hold">
                            <p:stCondLst>
                              <p:cond delay="4000"/>
                            </p:stCondLst>
                            <p:childTnLst>
                              <p:par>
                                <p:cTn id="190" nodeType="afterEffect" fill="hold" presetClass="path" presetID="0">
                                  <p:stCondLst>
                                    <p:cond delay="0"/>
                                  </p:stCondLst>
                                  <p:childTnLst>
                                    <p:animMotion origin="layout" path="M 0.12986 -3.7037E-006 C 0.2408 -0.3287 0.35191 -0.6574 0.45069 -0.7699 C 0.54948 -0.8824 0.67726 -0.6912 0.72257 -0.67546 E">
                                      <p:cBhvr>
                                        <p:cTn id="191" dur="2000" fill="hold"/>
                                        <p:tgtEl>
                                          <p:spTgt spid="106"/>
                                        </p:tgtEl>
                                      </p:cBhvr>
                                    </p:animMotion>
                                  </p:childTnLst>
                                </p:cTn>
                              </p:par>
                            </p:childTnLst>
                          </p:cTn>
                        </p:par>
                        <p:par>
                          <p:cTn id="192" fill="hold">
                            <p:stCondLst>
                              <p:cond delay="6000"/>
                            </p:stCondLst>
                            <p:childTnLst>
                              <p:par>
                                <p:cTn id="193" nodeType="afterEffect" fill="hold" presetClass="entr" presetID="10">
                                  <p:stCondLst>
                                    <p:cond delay="0"/>
                                  </p:stCondLst>
                                  <p:childTnLst>
                                    <p:set>
                                      <p:cBhvr>
                                        <p:cTn id="194" dur="1" fill="hold">
                                          <p:stCondLst>
                                            <p:cond delay="0"/>
                                          </p:stCondLst>
                                        </p:cTn>
                                        <p:tgtEl>
                                          <p:spTgt spid="109"/>
                                        </p:tgtEl>
                                        <p:attrNameLst>
                                          <p:attrName>style.visibility</p:attrName>
                                        </p:attrNameLst>
                                      </p:cBhvr>
                                      <p:to>
                                        <p:strVal val="visible"/>
                                      </p:to>
                                    </p:set>
                                    <p:animEffect filter="fade" transition="in">
                                      <p:cBhvr additive="repl">
                                        <p:cTn id="19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11" name=""/>
          <p:cNvSpPr/>
          <p:nvPr/>
        </p:nvSpPr>
        <p:spPr>
          <a:xfrm>
            <a:off x="324000" y="260280"/>
            <a:ext cx="8496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Cook’s first and most recognised voyage was abord Endeavour which left England in August 1768. The ship arrived in Tahiti in the April of 1769 and stayed there three months observing the transit of Venus. Cook then sailed around and charted New Zealand and it was then determined that there was in fact a north and south island. After this was when Cook finally discovered the east coast of Australia and charted most of it. He then left for home and the ship arrived home in the July of 1771.</a:t>
            </a:r>
            <a:r>
              <a:rPr b="0" lang="en-US" sz="1800" spc="-1" strike="noStrike">
                <a:solidFill>
                  <a:srgbClr val="ffffff"/>
                </a:solidFill>
                <a:latin typeface="Bodoni MT Black"/>
              </a:rPr>
              <a:t> </a:t>
            </a:r>
            <a:endParaRPr b="0" lang="en-US" sz="1800" spc="-1" strike="noStrike">
              <a:solidFill>
                <a:srgbClr val="000000"/>
              </a:solidFill>
              <a:latin typeface="Arial"/>
            </a:endParaRPr>
          </a:p>
        </p:txBody>
      </p:sp>
      <p:pic>
        <p:nvPicPr>
          <p:cNvPr id="112" name="front2" descr="Image Map text links follow"/>
          <p:cNvPicPr/>
          <p:nvPr/>
        </p:nvPicPr>
        <p:blipFill>
          <a:blip r:embed="rId1"/>
          <a:stretch/>
        </p:blipFill>
        <p:spPr>
          <a:xfrm>
            <a:off x="1332000" y="2565360"/>
            <a:ext cx="6480000" cy="4083120"/>
          </a:xfrm>
          <a:prstGeom prst="rect">
            <a:avLst/>
          </a:prstGeom>
          <a:ln w="0">
            <a:noFill/>
          </a:ln>
        </p:spPr>
      </p:pic>
      <p:pic>
        <p:nvPicPr>
          <p:cNvPr id="113" name="" descr=""/>
          <p:cNvPicPr/>
          <p:nvPr/>
        </p:nvPicPr>
        <p:blipFill>
          <a:blip r:embed="rId2"/>
          <a:srcRect l="0" t="13970" r="0" b="0"/>
          <a:stretch/>
        </p:blipFill>
        <p:spPr>
          <a:xfrm>
            <a:off x="1692360" y="4005360"/>
            <a:ext cx="425520" cy="442800"/>
          </a:xfrm>
          <a:prstGeom prst="rect">
            <a:avLst/>
          </a:prstGeom>
          <a:ln w="0">
            <a:noFill/>
          </a:ln>
        </p:spPr>
      </p:pic>
    </p:spTree>
  </p:cSld>
  <p:transition advTm="40000">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path" presetID="0" repeatCount="indefinite">
                                  <p:stCondLst>
                                    <p:cond delay="0"/>
                                  </p:stCondLst>
                                  <p:childTnLst>
                                    <p:animMotion origin="layout" path="M -0.00104 0.0125 C -0.00868 0.01829 -0.01615 0.02407 -0.02084 0.03055 C -0.02552 0.03704 -0.02934 0.03704 -0.02917 0.05139 C -0.029 0.06574 -0.02396 0.1 -0.01979 0.11667 C -0.01563 0.13333 -0.00938 0.14398 -0.00417 0.15139 C 0.00104 0.1588 0.0059 0.15278 0.01146 0.16111 C 0.01701 0.16944 0.02118 0.18981 0.02916 0.20139 C 0.03715 0.21296 0.04982 0.22801 0.05937 0.23055 C 0.06892 0.2331 0.07639 0.2213 0.08646 0.21667 C 0.09653 0.21204 0.10694 0.20509 0.11979 0.20278 C 0.13264 0.20046 0.14843 0.20787 0.16354 0.20278 C 0.17864 0.19768 0.19809 0.17893 0.21041 0.17222 C 0.22274 0.16551 0.22778 0.16481 0.2375 0.1625 C 0.24722 0.16018 0.26059 0.15764 0.26875 0.15833 C 0.27691 0.15903 0.28107 0.15833 0.28646 0.16667 C 0.29184 0.175 0.29496 0.19653 0.30104 0.20833 C 0.30712 0.22014 0.31649 0.22986 0.32291 0.2375 C 0.32934 0.24514 0.33784 0.24907 0.33958 0.25417 C 0.34132 0.25926 0.33698 0.26505 0.33333 0.26805 C 0.32968 0.27106 0.32135 0.27477 0.31771 0.27222 C 0.31406 0.26968 0.30729 0.25764 0.31146 0.25278 C 0.31562 0.24792 0.33611 0.2463 0.34271 0.24305 C 0.3493 0.23981 0.35069 0.23796 0.35104 0.23333 C 0.35139 0.2287 0.34826 0.21829 0.34479 0.21528 C 0.34132 0.21227 0.33246 0.21157 0.33021 0.21528 C 0.32795 0.21898 0.32708 0.23264 0.33125 0.2375 C 0.33541 0.24236 0.34774 0.24468 0.35521 0.24444 C 0.36267 0.24421 0.37118 0.24213 0.37604 0.23611 C 0.3809 0.23009 0.37899 0.21759 0.38437 0.20833 C 0.38975 0.19907 0.4 0.18843 0.40833 0.18055 C 0.41649 0.17268 0.42743 0.16273 0.43437 0.16111 C 0.44132 0.15949 0.45087 0.17014 0.45 0.17083 C 0.44913 0.17153 0.43871 0.16088 0.42916 0.16528 C 0.41962 0.16968 0.40208 0.18449 0.39271 0.19722 C 0.38333 0.20995 0.38229 0.23356 0.37291 0.24167 C 0.36354 0.24977 0.34392 0.24792 0.33646 0.24583 C 0.32899 0.24375 0.32899 0.23426 0.32812 0.22917 C 0.32725 0.22407 0.32708 0.21667 0.33125 0.21528 C 0.33541 0.21389 0.35087 0.21574 0.35312 0.22083 C 0.35538 0.22593 0.35139 0.24167 0.34479 0.24583 C 0.33819 0.25 0.31684 0.2412 0.31354 0.24583 C 0.31024 0.25046 0.32066 0.2706 0.325 0.27361 C 0.32934 0.27662 0.33819 0.26852 0.33958 0.26389 C 0.34097 0.25926 0.33837 0.25185 0.33333 0.24583 C 0.3283 0.23981 0.31614 0.23727 0.30937 0.22778 C 0.3026 0.21829 0.29913 0.20139 0.29271 0.18889 C 0.28628 0.17639 0.28541 0.15486 0.27083 0.15278 C 0.25625 0.15069 0.22326 0.16759 0.20521 0.17639 C 0.18715 0.18518 0.17778 0.20093 0.1625 0.20555 C 0.14722 0.21018 0.13021 0.19954 0.11354 0.20417 C 0.09687 0.2088 0.07482 0.23032 0.0625 0.23333 C 0.05017 0.23634 0.04809 0.23333 0.03958 0.22222 C 0.03107 0.21111 0.02066 0.18102 0.01146 0.16667 C 0.00225 0.15231 -0.00816 0.1456 -0.01563 0.13611 C -0.02309 0.12662 -0.02934 0.11134 -0.03334 0.10972 C -0.03733 0.1081 -0.04063 0.13449 -0.03959 0.12639 C -0.03854 0.11829 -0.03368 0.08218 -0.02709 0.06111 C -0.02049 0.04005 -0.00452 0.01018 2.77778E-006 7.40741E-007 E">
                                      <p:cBhvr>
                                        <p:cTn id="201" dur="5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04280"/>
            <a:ext cx="8229600" cy="863640"/>
          </a:xfrm>
          <a:prstGeom prst="rect">
            <a:avLst/>
          </a:prstGeom>
          <a:noFill/>
          <a:ln w="0">
            <a:noFill/>
          </a:ln>
        </p:spPr>
        <p:txBody>
          <a:bodyPr lIns="90000" rIns="90000" tIns="46800" bIns="46800"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doni MT Black"/>
              </a:rPr>
              <a:t>Cook’s third son Joseph was born </a:t>
            </a:r>
            <a:r>
              <a:rPr b="0" lang="en-US" sz="1800" spc="-1" strike="noStrike">
                <a:solidFill>
                  <a:srgbClr val="ffffff"/>
                </a:solidFill>
                <a:latin typeface="Bodoni MT Black"/>
              </a:rPr>
              <a:t>26</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August 1768</a:t>
            </a:r>
            <a:r>
              <a:rPr b="0" lang="en-US" sz="2800" spc="-1" strike="noStrike">
                <a:solidFill>
                  <a:srgbClr val="ffffff"/>
                </a:solidFill>
                <a:latin typeface="Arial"/>
              </a:rPr>
              <a:t> </a:t>
            </a:r>
            <a:r>
              <a:rPr b="0" lang="en-US" sz="1800" spc="-1" strike="noStrike">
                <a:solidFill>
                  <a:srgbClr val="ffffff"/>
                </a:solidFill>
                <a:latin typeface="Bodoni MT Black"/>
              </a:rPr>
              <a:t>and</a:t>
            </a:r>
            <a:r>
              <a:rPr b="0" lang="en-US" sz="1600" spc="-1" strike="noStrike">
                <a:solidFill>
                  <a:srgbClr val="ffffff"/>
                </a:solidFill>
                <a:latin typeface="Bodoni MT Black"/>
              </a:rPr>
              <a:t> after returning to England Cook’s forth son, George, was born a year later on 8 July 1772.</a:t>
            </a:r>
            <a:endParaRPr b="0" lang="en-US" sz="1600" spc="-1" strike="noStrike">
              <a:solidFill>
                <a:srgbClr val="000000"/>
              </a:solidFill>
              <a:latin typeface="Arial"/>
            </a:endParaRPr>
          </a:p>
        </p:txBody>
      </p:sp>
      <p:grpSp>
        <p:nvGrpSpPr>
          <p:cNvPr id="115" name=""/>
          <p:cNvGrpSpPr/>
          <p:nvPr/>
        </p:nvGrpSpPr>
        <p:grpSpPr>
          <a:xfrm>
            <a:off x="-4645080" y="7245360"/>
            <a:ext cx="6710400" cy="3184560"/>
            <a:chOff x="-4645080" y="7245360"/>
            <a:chExt cx="6710400" cy="3184560"/>
          </a:xfrm>
        </p:grpSpPr>
        <p:pic>
          <p:nvPicPr>
            <p:cNvPr id="116" name="" descr=""/>
            <p:cNvPicPr/>
            <p:nvPr/>
          </p:nvPicPr>
          <p:blipFill>
            <a:blip r:embed="rId1"/>
            <a:stretch/>
          </p:blipFill>
          <p:spPr>
            <a:xfrm>
              <a:off x="-468360" y="7245360"/>
              <a:ext cx="2533680" cy="3168720"/>
            </a:xfrm>
            <a:prstGeom prst="rect">
              <a:avLst/>
            </a:prstGeom>
            <a:ln w="0">
              <a:noFill/>
            </a:ln>
          </p:spPr>
        </p:pic>
        <p:pic>
          <p:nvPicPr>
            <p:cNvPr id="117" name="" descr="baby-02"/>
            <p:cNvPicPr/>
            <p:nvPr/>
          </p:nvPicPr>
          <p:blipFill>
            <a:blip r:embed="rId2"/>
            <a:stretch/>
          </p:blipFill>
          <p:spPr>
            <a:xfrm>
              <a:off x="-4645080" y="7245360"/>
              <a:ext cx="4248360" cy="3184560"/>
            </a:xfrm>
            <a:prstGeom prst="rect">
              <a:avLst/>
            </a:prstGeom>
            <a:ln w="0">
              <a:noFill/>
            </a:ln>
          </p:spPr>
        </p:pic>
      </p:grpSp>
    </p:spTree>
  </p:cSld>
  <p:transition advTm="15000">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0">
                                  <p:stCondLst>
                                    <p:cond delay="0"/>
                                  </p:stCondLst>
                                  <p:childTnLst>
                                    <p:animMotion origin="layout" path="M 2.22222E-006 2.59259E-006 C 0.13784 -0.33056 0.27535 -0.66065 0.375 -0.79306 C 0.47482 -0.92523 0.55573 -0.7956 0.59826 -0.79445 C 0.64097 -0.79329 0.63541 -0.78959 0.63021 -0.78588 E">
                                      <p:cBhvr>
                                        <p:cTn id="207" dur="2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118" name="front2" descr="Image Map text links follow"/>
          <p:cNvPicPr/>
          <p:nvPr/>
        </p:nvPicPr>
        <p:blipFill>
          <a:blip r:embed="rId1"/>
          <a:stretch/>
        </p:blipFill>
        <p:spPr>
          <a:xfrm>
            <a:off x="1332000" y="2565360"/>
            <a:ext cx="6480000" cy="4083120"/>
          </a:xfrm>
          <a:prstGeom prst="rect">
            <a:avLst/>
          </a:prstGeom>
          <a:ln w="0">
            <a:noFill/>
          </a:ln>
        </p:spPr>
      </p:pic>
      <p:sp>
        <p:nvSpPr>
          <p:cNvPr id="119" name=""/>
          <p:cNvSpPr/>
          <p:nvPr/>
        </p:nvSpPr>
        <p:spPr>
          <a:xfrm>
            <a:off x="179280" y="0"/>
            <a:ext cx="8785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Cook's second voyage began a year later, with two vessels, the RESOLUTION and the ADVENTURE, both colliers. Cook had been promoted to Commander and given command of a new expedition to determine if the south magnetic pole was on water or land, to claim land for England, to chart the South Seas, and collect scientific data and samples. During this voyage Cook discovered Antarctica, charted most of it. He returned to Tahiti and New Zealand, and discovered and charted Tonga, Fiji, the Society islands, the New Hebrides, and New Caledonia. He returned to England in July 1775, </a:t>
            </a:r>
            <a:endParaRPr b="0" lang="en-US" sz="1800" spc="-1" strike="noStrike">
              <a:solidFill>
                <a:srgbClr val="000000"/>
              </a:solidFill>
              <a:latin typeface="Arial"/>
            </a:endParaRPr>
          </a:p>
        </p:txBody>
      </p:sp>
      <p:pic>
        <p:nvPicPr>
          <p:cNvPr id="120" name="" descr=""/>
          <p:cNvPicPr/>
          <p:nvPr/>
        </p:nvPicPr>
        <p:blipFill>
          <a:blip r:embed="rId2"/>
          <a:srcRect l="0" t="13970" r="0" b="0"/>
          <a:stretch/>
        </p:blipFill>
        <p:spPr>
          <a:xfrm>
            <a:off x="1692360" y="4005360"/>
            <a:ext cx="425520" cy="442800"/>
          </a:xfrm>
          <a:prstGeom prst="rect">
            <a:avLst/>
          </a:prstGeom>
          <a:ln w="0">
            <a:noFill/>
          </a:ln>
        </p:spPr>
      </p:pic>
    </p:spTree>
  </p:cSld>
  <p:transition advTm="40000">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path" presetID="0" repeatCount="indefinite">
                                  <p:stCondLst>
                                    <p:cond delay="0"/>
                                  </p:stCondLst>
                                  <p:childTnLst>
                                    <p:animMotion origin="layout" path="M -0.00868 -0.00046 C -0.00781 -0.00069 -0.02135 0.01667 -0.02639 0.0301 C -0.03142 0.04352 -0.03871 0.05949 -0.03889 0.0801 C -0.03906 0.1007 -0.03593 0.12246 -0.02743 0.15371 C -0.01892 0.18496 -3.33333000000075E-006 0.2419 0.01216 0.2676 C 0.02431 0.29329 0.03021 0.30278 0.04549 0.30787 C 0.06077 0.31297 0.09028 0.30324 0.10382 0.29815 C 0.11736 0.29306 0.11459 0.28287 0.12674 0.27732 C 0.13889 0.27176 0.15903 0.26667 0.17674 0.26482 C 0.19445 0.26297 0.21598 0.26574 0.23299 0.26621 C 0.25 0.26667 0.26441 0.27176 0.27882 0.2676 C 0.29323 0.26343 0.30938 0.24375 0.31945 0.24121 C 0.32952 0.23866 0.32726 0.2419 0.33924 0.25232 C 0.35122 0.26274 0.37396 0.29306 0.39132 0.30371 C 0.40868 0.31436 0.42848 0.32223 0.44341 0.31621 C 0.45834 0.31019 0.47605 0.28727 0.48091 0.2676 C 0.48577 0.24792 0.48438 0.21621 0.47257 0.19815 C 0.46077 0.1801 0.43282 0.16574 0.41007 0.15926 C 0.38733 0.15278 0.35226 0.15695 0.33611 0.15926 C 0.31997 0.16158 0.31511 0.16389 0.3132 0.17315 C 0.31129 0.18241 0.32327 0.20394 0.32466 0.21482 C 0.32605 0.2257 0.31598 0.23334 0.32153 0.23843 C 0.32709 0.24352 0.34532 0.24676 0.35799 0.24537 C 0.37066 0.24399 0.38976 0.23774 0.39757 0.2301 C 0.40539 0.22246 0.40573 0.20625 0.40486 0.19954 C 0.404 0.19283 0.40052 0.18496 0.39236 0.18982 C 0.3842 0.19468 0.36511 0.21922 0.35591 0.22871 C 0.3467 0.2382 0.34688 0.24306 0.33716 0.24676 C 0.32743 0.25047 0.31059 0.24723 0.29757 0.25093 C 0.28455 0.25463 0.27865 0.26598 0.25903 0.26899 C 0.23941 0.27199 0.20191 0.26783 0.17986 0.26899 C 0.15782 0.27014 0.14011 0.27061 0.12674 0.27593 C 0.11337 0.28125 0.11424 0.29676 0.09966 0.30093 C 0.08507 0.3051 0.05851 0.3169 0.03924 0.30093 C 0.01997 0.28496 -0.00347 0.23611 -0.01597 0.2051 C -0.02847 0.17408 -0.03316 0.14375 -0.03576 0.11482 C -0.03836 0.08588 -0.03698 0.05093 -0.03159 0.03149 C -0.02621 0.01204 -0.00955 -0.00023 -0.00868 -0.00046 Z">
                                      <p:cBhvr>
                                        <p:cTn id="213" dur="5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21" name=""/>
          <p:cNvSpPr/>
          <p:nvPr/>
        </p:nvSpPr>
        <p:spPr>
          <a:xfrm>
            <a:off x="168120" y="340920"/>
            <a:ext cx="88059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Cook’s fifth and final son Hugh was born on the 23</a:t>
            </a:r>
            <a:r>
              <a:rPr b="0" lang="en-US" sz="1800" spc="-1" strike="noStrike" baseline="30000">
                <a:solidFill>
                  <a:srgbClr val="ffffff"/>
                </a:solidFill>
                <a:latin typeface="Bodoni MT Black"/>
              </a:rPr>
              <a:t>rd</a:t>
            </a:r>
            <a:r>
              <a:rPr b="0" lang="en-US" sz="1800" spc="-1" strike="noStrike">
                <a:solidFill>
                  <a:srgbClr val="ffffff"/>
                </a:solidFill>
                <a:latin typeface="Bodoni MT Black"/>
              </a:rPr>
              <a:t> of May 1776, only a month before Cook had to leave on his third and final voyage. Hugh died on the 21</a:t>
            </a:r>
            <a:r>
              <a:rPr b="0" lang="en-US" sz="1800" spc="-1" strike="noStrike" baseline="30000">
                <a:solidFill>
                  <a:srgbClr val="ffffff"/>
                </a:solidFill>
                <a:latin typeface="Bodoni MT Black"/>
              </a:rPr>
              <a:t>st</a:t>
            </a:r>
            <a:r>
              <a:rPr b="0" lang="en-US" sz="1800" spc="-1" strike="noStrike">
                <a:solidFill>
                  <a:srgbClr val="ffffff"/>
                </a:solidFill>
                <a:latin typeface="Bodoni MT Black"/>
              </a:rPr>
              <a:t> December 1793.</a:t>
            </a:r>
            <a:endParaRPr b="0" lang="en-US" sz="1800" spc="-1" strike="noStrike">
              <a:solidFill>
                <a:srgbClr val="000000"/>
              </a:solidFill>
              <a:latin typeface="Arial"/>
            </a:endParaRPr>
          </a:p>
        </p:txBody>
      </p:sp>
      <p:grpSp>
        <p:nvGrpSpPr>
          <p:cNvPr id="122" name=""/>
          <p:cNvGrpSpPr/>
          <p:nvPr/>
        </p:nvGrpSpPr>
        <p:grpSpPr>
          <a:xfrm>
            <a:off x="-4645080" y="7245360"/>
            <a:ext cx="6710400" cy="3184560"/>
            <a:chOff x="-4645080" y="7245360"/>
            <a:chExt cx="6710400" cy="3184560"/>
          </a:xfrm>
        </p:grpSpPr>
        <p:pic>
          <p:nvPicPr>
            <p:cNvPr id="123" name="" descr=""/>
            <p:cNvPicPr/>
            <p:nvPr/>
          </p:nvPicPr>
          <p:blipFill>
            <a:blip r:embed="rId1"/>
            <a:stretch/>
          </p:blipFill>
          <p:spPr>
            <a:xfrm>
              <a:off x="-468360" y="7245360"/>
              <a:ext cx="2533680" cy="3168720"/>
            </a:xfrm>
            <a:prstGeom prst="rect">
              <a:avLst/>
            </a:prstGeom>
            <a:ln w="0">
              <a:noFill/>
            </a:ln>
          </p:spPr>
        </p:pic>
        <p:pic>
          <p:nvPicPr>
            <p:cNvPr id="124" name="" descr="baby-02"/>
            <p:cNvPicPr/>
            <p:nvPr/>
          </p:nvPicPr>
          <p:blipFill>
            <a:blip r:embed="rId2"/>
            <a:stretch/>
          </p:blipFill>
          <p:spPr>
            <a:xfrm>
              <a:off x="-4645080" y="7245360"/>
              <a:ext cx="4248360" cy="3184560"/>
            </a:xfrm>
            <a:prstGeom prst="rect">
              <a:avLst/>
            </a:prstGeom>
            <a:ln w="0">
              <a:noFill/>
            </a:ln>
          </p:spPr>
        </p:pic>
      </p:grpSp>
    </p:spTree>
  </p:cSld>
  <p:transition advTm="15000">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path" presetID="0">
                                  <p:stCondLst>
                                    <p:cond delay="0"/>
                                  </p:stCondLst>
                                  <p:childTnLst>
                                    <p:animMotion origin="layout" path="M -3.88889E-006 1.85185E-006 C 0.12917 -0.31945 0.25851 -0.63866 0.35209 -0.76667 C 0.44566 -0.89468 0.52153 -0.76922 0.56146 -0.76806 C 0.60139 -0.7669 0.59653 -0.76343 0.59167 -0.75973 E">
                                      <p:cBhvr>
                                        <p:cTn id="219"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125" name="front2" descr="Image Map text links follow"/>
          <p:cNvPicPr/>
          <p:nvPr/>
        </p:nvPicPr>
        <p:blipFill>
          <a:blip r:embed="rId1"/>
          <a:stretch/>
        </p:blipFill>
        <p:spPr>
          <a:xfrm>
            <a:off x="1332000" y="2565360"/>
            <a:ext cx="6480000" cy="4083120"/>
          </a:xfrm>
          <a:prstGeom prst="rect">
            <a:avLst/>
          </a:prstGeom>
          <a:ln w="0">
            <a:noFill/>
          </a:ln>
        </p:spPr>
      </p:pic>
      <p:sp>
        <p:nvSpPr>
          <p:cNvPr id="126" name=""/>
          <p:cNvSpPr/>
          <p:nvPr/>
        </p:nvSpPr>
        <p:spPr>
          <a:xfrm>
            <a:off x="108000" y="189000"/>
            <a:ext cx="8712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Cook’s third and final voyage began with the Discovery and the Resolution leaving England in 1776. His mission was to determine wether there was a north-west passage above the American continent. He sailed around Africa and on his way north stopped in Australia, New Zealand, Tahiti, the Christmas Islands (which he named), past some of the Hawaiian islands and then up the coast of Alaska and into the Arctic Ocean until he was stopped by ice. He then returned to the Hawaiian Islands and harboured on the Kona Coast of Hawaii’s largest is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Bodoni MT Black"/>
              </a:rPr>
              <a:t>.</a:t>
            </a:r>
            <a:endParaRPr b="0" lang="en-US" sz="1800" spc="-1" strike="noStrike">
              <a:solidFill>
                <a:srgbClr val="000000"/>
              </a:solidFill>
              <a:latin typeface="Arial"/>
            </a:endParaRPr>
          </a:p>
        </p:txBody>
      </p:sp>
      <p:pic>
        <p:nvPicPr>
          <p:cNvPr id="127" name="" descr=""/>
          <p:cNvPicPr/>
          <p:nvPr/>
        </p:nvPicPr>
        <p:blipFill>
          <a:blip r:embed="rId2"/>
          <a:srcRect l="0" t="13970" r="0" b="0"/>
          <a:stretch/>
        </p:blipFill>
        <p:spPr>
          <a:xfrm>
            <a:off x="1692360" y="4005360"/>
            <a:ext cx="425520" cy="442800"/>
          </a:xfrm>
          <a:prstGeom prst="rect">
            <a:avLst/>
          </a:prstGeom>
          <a:ln w="0">
            <a:noFill/>
          </a:ln>
        </p:spPr>
      </p:pic>
    </p:spTree>
  </p:cSld>
  <p:transition advTm="40000">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path" presetID="0" repeatCount="indefinite">
                                  <p:stCondLst>
                                    <p:cond delay="0"/>
                                  </p:stCondLst>
                                  <p:childTnLst>
                                    <p:animMotion origin="layout" path="M 6.66667E-006 3.7037E-006 C -0.00051 0.01019 -0.01319 0.01921 -0.01978 0.03472 C -0.02638 0.05023 -0.0361 0.07523 -0.03958 0.09306 C -0.04305 0.11088 -0.04444 0.12315 -0.04062 0.14167 C -0.0368 0.16019 -0.02326 0.18843 -0.01666 0.20417 C -0.01006 0.21991 -0.00798 0.22708 -0.00103 0.23611 C 0.00591 0.24514 0.01511 0.25023 0.02501 0.25833 C 0.0349 0.26644 0.04688 0.28056 0.05834 0.28472 C 0.0698 0.28889 0.08074 0.28218 0.09376 0.28333 C 0.10678 0.28449 0.11633 0.29051 0.13647 0.29167 C 0.1566 0.29282 0.19324 0.29074 0.21459 0.29028 C 0.23594 0.28981 0.25209 0.29259 0.26459 0.28889 C 0.27709 0.28519 0.28178 0.27361 0.28959 0.26806 C 0.2974 0.2625 0.30278 0.25486 0.31147 0.25556 C 0.32015 0.25625 0.33195 0.27037 0.34167 0.27222 C 0.3514 0.27407 0.36094 0.27083 0.3698 0.26667 C 0.37865 0.2625 0.39063 0.25486 0.3948 0.24722 C 0.39897 0.23958 0.39671 0.22778 0.3948 0.22083 C 0.39289 0.21389 0.39081 0.2081 0.38334 0.20556 C 0.37587 0.20301 0.3566 0.20162 0.35001 0.20556 C 0.34341 0.20949 0.34133 0.22477 0.34376 0.22917 C 0.34619 0.23356 0.35678 0.23495 0.36459 0.23194 C 0.3724 0.22894 0.38351 0.21713 0.39063 0.21111 C 0.39775 0.20509 0.40539 0.20231 0.4073 0.19583 C 0.40921 0.18935 0.40608 0.18171 0.40209 0.17222 C 0.3981 0.16273 0.38577 0.14931 0.38334 0.13889 C 0.38091 0.12847 0.38265 0.12153 0.38751 0.10972 C 0.39237 0.09792 0.40678 0.08056 0.41251 0.06806 C 0.41824 0.05556 0.41945 0.04537 0.42188 0.03472 C 0.42431 0.02407 0.42952 0.01296 0.42709 0.00417 C 0.42466 -0.00463 0.41337 -0.01759 0.4073 -0.01806 C 0.40122 -0.01852 0.39931 -0.00394 0.39063 0.00139 C 0.38195 0.00671 0.36233 0.01597 0.35522 0.01389 C 0.3481 0.01181 0.34758 -0.00162 0.34792 -0.01111 C 0.34827 -0.0206 0.35678 -0.03241 0.3573 -0.04306 C 0.35782 -0.0537 0.35087 -0.06968 0.35105 -0.075 C 0.35122 -0.08032 0.35956 -0.08079 0.35834 -0.075 C 0.35712 -0.06921 0.34931 -0.05231 0.34376 -0.04028 C 0.3382 -0.02824 0.33334 -0.01019 0.32501 -0.00278 C 0.31667 0.00463 0.30417 -0.00718 0.29376 0.00417 C 0.28334 0.01551 0.27518 0.04838 0.26251 0.06528 C 0.24983 0.08218 0.22796 0.09259 0.21772 0.10556 C 0.20747 0.11852 0.20504 0.13218 0.20105 0.14306 C 0.19706 0.15394 0.20244 0.16296 0.19376 0.17083 C 0.18508 0.1787 0.16667 0.18032 0.14897 0.19028 C 0.13126 0.20023 0.10712 0.22176 0.08751 0.23056 C 0.06789 0.23935 0.04653 0.24815 0.03126 0.24306 C 0.01598 0.23796 0.00365 0.2125 -0.00416 0.2 C -0.01197 0.1875 -0.01058 0.1794 -0.01562 0.16806 C -0.02065 0.15671 -0.0302 0.14514 -0.03437 0.13194 C -0.03853 0.11875 -0.03715 0.10162 -0.04062 0.08889 C -0.04409 0.07616 -0.05312 0.06736 -0.0552 0.05556 C -0.05728 0.04375 -0.05676 0.02755 -0.05312 0.01806 C -0.04947 0.00856 -0.0394 0.00602 -0.03333 -0.00139 C -0.02725 -0.0088 -0.02256 -0.02685 -0.01666 -0.02639 C -0.01076 -0.02593 0.00053 -0.01019 6.66667E-006 3.7037E-006 Z">
                                      <p:cBhvr>
                                        <p:cTn id="225" dur="5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9280" y="259920"/>
            <a:ext cx="8785440" cy="2592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Due to Cook’s impeccable timing arriving on the island, the Hawaiians are thought to have believed him to be some sort of god who, according to legend, was to arrive on a floating island around about the time that Cook arrived. He then left Hawaii after a month but had to return when more repairs were required on the Resolution. At this time the relationship with the Hawaiians turned sour and they began stealing things off the boats. Cook and a few of the crew members set out to kidnap a chief to exchange for their supplies but to the Hawaiians they had taken it too far. A large fight broke out and Cook was killed, some say he was also eaten but we can’t be sure. Captain Clerke took command of the voyage and the ship returned home by 1780</a:t>
            </a:r>
            <a:endParaRPr b="0" lang="en-US" sz="1800" spc="-1" strike="noStrike">
              <a:solidFill>
                <a:srgbClr val="000000"/>
              </a:solidFill>
              <a:latin typeface="Arial"/>
            </a:endParaRPr>
          </a:p>
        </p:txBody>
      </p:sp>
      <p:grpSp>
        <p:nvGrpSpPr>
          <p:cNvPr id="129" name=""/>
          <p:cNvGrpSpPr/>
          <p:nvPr/>
        </p:nvGrpSpPr>
        <p:grpSpPr>
          <a:xfrm>
            <a:off x="1044720" y="4149720"/>
            <a:ext cx="7092720" cy="2305080"/>
            <a:chOff x="1044720" y="4149720"/>
            <a:chExt cx="7092720" cy="2305080"/>
          </a:xfrm>
        </p:grpSpPr>
        <p:pic>
          <p:nvPicPr>
            <p:cNvPr id="130" name="" descr="Caveman escapes"/>
            <p:cNvPicPr/>
            <p:nvPr/>
          </p:nvPicPr>
          <p:blipFill>
            <a:blip r:embed="rId1"/>
            <a:stretch/>
          </p:blipFill>
          <p:spPr>
            <a:xfrm>
              <a:off x="3492360" y="4149720"/>
              <a:ext cx="1920960" cy="2305080"/>
            </a:xfrm>
            <a:prstGeom prst="rect">
              <a:avLst/>
            </a:prstGeom>
            <a:ln w="0">
              <a:noFill/>
            </a:ln>
          </p:spPr>
        </p:pic>
        <p:pic>
          <p:nvPicPr>
            <p:cNvPr id="131" name="" descr="Caveman escapes"/>
            <p:cNvPicPr/>
            <p:nvPr/>
          </p:nvPicPr>
          <p:blipFill>
            <a:blip r:embed="rId2"/>
            <a:stretch/>
          </p:blipFill>
          <p:spPr>
            <a:xfrm>
              <a:off x="4572000" y="4149720"/>
              <a:ext cx="1917720" cy="2303640"/>
            </a:xfrm>
            <a:prstGeom prst="rect">
              <a:avLst/>
            </a:prstGeom>
            <a:ln w="0">
              <a:noFill/>
            </a:ln>
          </p:spPr>
        </p:pic>
        <p:pic>
          <p:nvPicPr>
            <p:cNvPr id="132" name="" descr=""/>
            <p:cNvPicPr/>
            <p:nvPr/>
          </p:nvPicPr>
          <p:blipFill>
            <a:blip r:embed="rId3"/>
            <a:stretch/>
          </p:blipFill>
          <p:spPr>
            <a:xfrm>
              <a:off x="1044720" y="4221000"/>
              <a:ext cx="7092720" cy="959040"/>
            </a:xfrm>
            <a:prstGeom prst="rect">
              <a:avLst/>
            </a:prstGeom>
            <a:ln w="0">
              <a:noFill/>
            </a:ln>
          </p:spPr>
        </p:pic>
      </p:grpSp>
      <p:sp>
        <p:nvSpPr>
          <p:cNvPr id="133" name=""/>
          <p:cNvSpPr/>
          <p:nvPr/>
        </p:nvSpPr>
        <p:spPr>
          <a:xfrm>
            <a:off x="5508720" y="3645000"/>
            <a:ext cx="2519280" cy="647640"/>
          </a:xfrm>
          <a:prstGeom prst="wedgeRoundRectCallout">
            <a:avLst>
              <a:gd name="adj1" fmla="val -75013"/>
              <a:gd name="adj2" fmla="val 13774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odoni MT Black"/>
              </a:rPr>
              <a:t>Hehehe!</a:t>
            </a:r>
            <a:endParaRPr b="0" lang="en-US" sz="4000" spc="-1" strike="noStrike">
              <a:solidFill>
                <a:srgbClr val="000000"/>
              </a:solidFill>
              <a:latin typeface="Arial"/>
            </a:endParaRPr>
          </a:p>
        </p:txBody>
      </p:sp>
      <p:pic>
        <p:nvPicPr>
          <p:cNvPr id="134" name="" descr=""/>
          <p:cNvPicPr/>
          <p:nvPr/>
        </p:nvPicPr>
        <p:blipFill>
          <a:blip r:embed="rId4"/>
          <a:stretch/>
        </p:blipFill>
        <p:spPr>
          <a:xfrm>
            <a:off x="539640" y="4365720"/>
            <a:ext cx="1555920" cy="1555560"/>
          </a:xfrm>
          <a:prstGeom prst="rect">
            <a:avLst/>
          </a:prstGeom>
          <a:ln w="0">
            <a:noFill/>
          </a:ln>
        </p:spPr>
      </p:pic>
      <p:pic>
        <p:nvPicPr>
          <p:cNvPr id="135" name="" descr="Leaning out"/>
          <p:cNvPicPr/>
          <p:nvPr/>
        </p:nvPicPr>
        <p:blipFill>
          <a:blip r:embed="rId5"/>
          <a:stretch/>
        </p:blipFill>
        <p:spPr>
          <a:xfrm>
            <a:off x="0" y="3213000"/>
            <a:ext cx="1709640" cy="2521080"/>
          </a:xfrm>
          <a:prstGeom prst="rect">
            <a:avLst/>
          </a:prstGeom>
          <a:ln w="0">
            <a:noFill/>
          </a:ln>
        </p:spPr>
      </p:pic>
      <p:sp>
        <p:nvSpPr>
          <p:cNvPr id="136" name=""/>
          <p:cNvSpPr/>
          <p:nvPr/>
        </p:nvSpPr>
        <p:spPr>
          <a:xfrm>
            <a:off x="1619280" y="3105000"/>
            <a:ext cx="2952720" cy="648000"/>
          </a:xfrm>
          <a:prstGeom prst="wedgeRoundRectCallout">
            <a:avLst>
              <a:gd name="adj1" fmla="val -71342"/>
              <a:gd name="adj2" fmla="val 13774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odoni MT Black"/>
              </a:rPr>
              <a:t>GOTCHA!</a:t>
            </a:r>
            <a:endParaRPr b="0" lang="en-US" sz="4000" spc="-1" strike="noStrike">
              <a:solidFill>
                <a:srgbClr val="000000"/>
              </a:solidFill>
              <a:latin typeface="Arial"/>
            </a:endParaRPr>
          </a:p>
        </p:txBody>
      </p:sp>
    </p:spTree>
  </p:cSld>
  <p:transition advTm="40000">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2">
                                  <p:stCondLst>
                                    <p:cond delay="0"/>
                                  </p:stCondLst>
                                  <p:childTnLst>
                                    <p:set>
                                      <p:cBhvr>
                                        <p:cTn id="231" dur="1" fill="hold">
                                          <p:stCondLst>
                                            <p:cond delay="0"/>
                                          </p:stCondLst>
                                        </p:cTn>
                                        <p:tgtEl>
                                          <p:spTgt spid="129"/>
                                        </p:tgtEl>
                                        <p:attrNameLst>
                                          <p:attrName>style.visibility</p:attrName>
                                        </p:attrNameLst>
                                      </p:cBhvr>
                                      <p:to>
                                        <p:strVal val="visible"/>
                                      </p:to>
                                    </p:set>
                                    <p:anim calcmode="lin" valueType="num">
                                      <p:cBhvr additive="base">
                                        <p:cTn id="232" dur="5000" fill="hold"/>
                                        <p:tgtEl>
                                          <p:spTgt spid="129"/>
                                        </p:tgtEl>
                                        <p:attrNameLst>
                                          <p:attrName>ppt_x</p:attrName>
                                        </p:attrNameLst>
                                      </p:cBhvr>
                                      <p:tavLst>
                                        <p:tav tm="0">
                                          <p:val>
                                            <p:strVal val="1+#ppt_w/2"/>
                                          </p:val>
                                        </p:tav>
                                        <p:tav tm="100000">
                                          <p:val>
                                            <p:strVal val="#ppt_x"/>
                                          </p:val>
                                        </p:tav>
                                      </p:tavLst>
                                    </p:anim>
                                    <p:anim calcmode="lin" valueType="num">
                                      <p:cBhvr additive="base">
                                        <p:cTn id="233" dur="5000" fill="hold"/>
                                        <p:tgtEl>
                                          <p:spTgt spid="129"/>
                                        </p:tgtEl>
                                        <p:attrNameLst>
                                          <p:attrName>ppt_y</p:attrName>
                                        </p:attrNameLst>
                                      </p:cBhvr>
                                      <p:tavLst>
                                        <p:tav tm="0">
                                          <p:val>
                                            <p:strVal val="#ppt_y"/>
                                          </p:val>
                                        </p:tav>
                                        <p:tav tm="100000">
                                          <p:val>
                                            <p:strVal val="#ppt_y"/>
                                          </p:val>
                                        </p:tav>
                                      </p:tavLst>
                                    </p:anim>
                                  </p:childTnLst>
                                </p:cTn>
                              </p:par>
                            </p:childTnLst>
                          </p:cTn>
                        </p:par>
                        <p:par>
                          <p:cTn id="234" fill="hold">
                            <p:stCondLst>
                              <p:cond delay="5000"/>
                            </p:stCondLst>
                            <p:childTnLst>
                              <p:par>
                                <p:cTn id="235" nodeType="afterEffect" fill="hold" presetClass="entr" presetID="9">
                                  <p:stCondLst>
                                    <p:cond delay="0"/>
                                  </p:stCondLst>
                                  <p:childTnLst>
                                    <p:set>
                                      <p:cBhvr>
                                        <p:cTn id="236" dur="1" fill="hold">
                                          <p:stCondLst>
                                            <p:cond delay="0"/>
                                          </p:stCondLst>
                                        </p:cTn>
                                        <p:tgtEl>
                                          <p:spTgt spid="133"/>
                                        </p:tgtEl>
                                        <p:attrNameLst>
                                          <p:attrName>style.visibility</p:attrName>
                                        </p:attrNameLst>
                                      </p:cBhvr>
                                      <p:to>
                                        <p:strVal val="visible"/>
                                      </p:to>
                                    </p:set>
                                    <p:animEffect filter="dissolve" transition="in">
                                      <p:cBhvr additive="repl">
                                        <p:cTn id="237" dur="500"/>
                                        <p:tgtEl>
                                          <p:spTgt spid="133"/>
                                        </p:tgtEl>
                                      </p:cBhvr>
                                    </p:animEffect>
                                  </p:childTnLst>
                                </p:cTn>
                              </p:par>
                            </p:childTnLst>
                          </p:cTn>
                        </p:par>
                        <p:par>
                          <p:cTn id="238" fill="hold">
                            <p:stCondLst>
                              <p:cond delay="5500"/>
                            </p:stCondLst>
                            <p:childTnLst>
                              <p:par>
                                <p:cTn id="239" nodeType="afterEffect" fill="hold" presetClass="exit" presetID="9">
                                  <p:stCondLst>
                                    <p:cond delay="2000"/>
                                  </p:stCondLst>
                                  <p:childTnLst>
                                    <p:animEffect filter="dissolve" transition="out">
                                      <p:cBhvr additive="repl">
                                        <p:cTn id="240" dur="500"/>
                                        <p:tgtEl>
                                          <p:spTgt spid="133"/>
                                        </p:tgtEl>
                                      </p:cBhvr>
                                    </p:animEffect>
                                    <p:set>
                                      <p:cBhvr>
                                        <p:cTn id="241" dur="1" fill="hold">
                                          <p:stCondLst>
                                            <p:cond delay="499"/>
                                          </p:stCondLst>
                                        </p:cTn>
                                        <p:tgtEl>
                                          <p:spTgt spid="133"/>
                                        </p:tgtEl>
                                        <p:attrNameLst>
                                          <p:attrName>style.visibility</p:attrName>
                                        </p:attrNameLst>
                                      </p:cBhvr>
                                      <p:to>
                                        <p:strVal val="hidden"/>
                                      </p:to>
                                    </p:set>
                                  </p:childTnLst>
                                </p:cTn>
                              </p:par>
                            </p:childTnLst>
                          </p:cTn>
                        </p:par>
                        <p:par>
                          <p:cTn id="242" fill="hold">
                            <p:stCondLst>
                              <p:cond delay="8000"/>
                            </p:stCondLst>
                            <p:childTnLst>
                              <p:par>
                                <p:cTn id="243" nodeType="afterEffect" fill="hold" presetClass="exit" presetID="2" presetSubtype="8">
                                  <p:stCondLst>
                                    <p:cond delay="0"/>
                                  </p:stCondLst>
                                  <p:childTnLst>
                                    <p:anim calcmode="lin" valueType="num">
                                      <p:cBhvr additive="base">
                                        <p:cTn id="244" dur="5000"/>
                                        <p:tgtEl>
                                          <p:spTgt spid="129"/>
                                        </p:tgtEl>
                                        <p:attrNameLst>
                                          <p:attrName>ppt_x</p:attrName>
                                        </p:attrNameLst>
                                      </p:cBhvr>
                                      <p:tavLst>
                                        <p:tav tm="0">
                                          <p:val>
                                            <p:strVal val="#ppt_x"/>
                                          </p:val>
                                        </p:tav>
                                        <p:tav tm="100000">
                                          <p:val>
                                            <p:strVal val="0-#ppt_w/2"/>
                                          </p:val>
                                        </p:tav>
                                      </p:tavLst>
                                    </p:anim>
                                    <p:anim calcmode="lin" valueType="num">
                                      <p:cBhvr additive="base">
                                        <p:cTn id="245" dur="5000"/>
                                        <p:tgtEl>
                                          <p:spTgt spid="129"/>
                                        </p:tgtEl>
                                        <p:attrNameLst>
                                          <p:attrName>ppt_y</p:attrName>
                                        </p:attrNameLst>
                                      </p:cBhvr>
                                      <p:tavLst>
                                        <p:tav tm="0">
                                          <p:val>
                                            <p:strVal val="#ppt_y"/>
                                          </p:val>
                                        </p:tav>
                                        <p:tav tm="100000">
                                          <p:val>
                                            <p:strVal val="#ppt_y"/>
                                          </p:val>
                                        </p:tav>
                                      </p:tavLst>
                                    </p:anim>
                                    <p:set>
                                      <p:cBhvr>
                                        <p:cTn id="246" dur="1" fill="hold">
                                          <p:stCondLst>
                                            <p:cond delay="4999"/>
                                          </p:stCondLst>
                                        </p:cTn>
                                        <p:tgtEl>
                                          <p:spTgt spid="129"/>
                                        </p:tgtEl>
                                        <p:attrNameLst>
                                          <p:attrName>style.visibility</p:attrName>
                                        </p:attrNameLst>
                                      </p:cBhvr>
                                      <p:to>
                                        <p:strVal val="hidden"/>
                                      </p:to>
                                    </p:set>
                                  </p:childTnLst>
                                </p:cTn>
                              </p:par>
                            </p:childTnLst>
                          </p:cTn>
                        </p:par>
                        <p:par>
                          <p:cTn id="247" fill="hold">
                            <p:stCondLst>
                              <p:cond delay="13000"/>
                            </p:stCondLst>
                            <p:childTnLst>
                              <p:par>
                                <p:cTn id="248" nodeType="afterEffect" fill="hold" presetClass="entr" presetID="2" presetSubtype="8">
                                  <p:stCondLst>
                                    <p:cond delay="0"/>
                                  </p:stCondLst>
                                  <p:childTnLst>
                                    <p:set>
                                      <p:cBhvr>
                                        <p:cTn id="249" dur="1" fill="hold">
                                          <p:stCondLst>
                                            <p:cond delay="0"/>
                                          </p:stCondLst>
                                        </p:cTn>
                                        <p:tgtEl>
                                          <p:spTgt spid="135"/>
                                        </p:tgtEl>
                                        <p:attrNameLst>
                                          <p:attrName>style.visibility</p:attrName>
                                        </p:attrNameLst>
                                      </p:cBhvr>
                                      <p:to>
                                        <p:strVal val="visible"/>
                                      </p:to>
                                    </p:set>
                                    <p:anim calcmode="lin" valueType="num">
                                      <p:cBhvr additive="base">
                                        <p:cTn id="250" dur="5000" fill="hold"/>
                                        <p:tgtEl>
                                          <p:spTgt spid="135"/>
                                        </p:tgtEl>
                                        <p:attrNameLst>
                                          <p:attrName>ppt_x</p:attrName>
                                        </p:attrNameLst>
                                      </p:cBhvr>
                                      <p:tavLst>
                                        <p:tav tm="0">
                                          <p:val>
                                            <p:strVal val="0-#ppt_w/2"/>
                                          </p:val>
                                        </p:tav>
                                        <p:tav tm="100000">
                                          <p:val>
                                            <p:strVal val="#ppt_x"/>
                                          </p:val>
                                        </p:tav>
                                      </p:tavLst>
                                    </p:anim>
                                    <p:anim calcmode="lin" valueType="num">
                                      <p:cBhvr additive="base">
                                        <p:cTn id="251" dur="5000" fill="hold"/>
                                        <p:tgtEl>
                                          <p:spTgt spid="135"/>
                                        </p:tgtEl>
                                        <p:attrNameLst>
                                          <p:attrName>ppt_y</p:attrName>
                                        </p:attrNameLst>
                                      </p:cBhvr>
                                      <p:tavLst>
                                        <p:tav tm="0">
                                          <p:val>
                                            <p:strVal val="#ppt_y"/>
                                          </p:val>
                                        </p:tav>
                                        <p:tav tm="100000">
                                          <p:val>
                                            <p:strVal val="#ppt_y"/>
                                          </p:val>
                                        </p:tav>
                                      </p:tavLst>
                                    </p:anim>
                                  </p:childTnLst>
                                </p:cTn>
                              </p:par>
                            </p:childTnLst>
                          </p:cTn>
                        </p:par>
                        <p:par>
                          <p:cTn id="252" fill="hold">
                            <p:stCondLst>
                              <p:cond delay="18000"/>
                            </p:stCondLst>
                            <p:childTnLst>
                              <p:par>
                                <p:cTn id="253" nodeType="afterEffect" fill="hold" presetClass="entr" presetID="9">
                                  <p:stCondLst>
                                    <p:cond delay="0"/>
                                  </p:stCondLst>
                                  <p:childTnLst>
                                    <p:set>
                                      <p:cBhvr>
                                        <p:cTn id="254" dur="1" fill="hold">
                                          <p:stCondLst>
                                            <p:cond delay="0"/>
                                          </p:stCondLst>
                                        </p:cTn>
                                        <p:tgtEl>
                                          <p:spTgt spid="134"/>
                                        </p:tgtEl>
                                        <p:attrNameLst>
                                          <p:attrName>style.visibility</p:attrName>
                                        </p:attrNameLst>
                                      </p:cBhvr>
                                      <p:to>
                                        <p:strVal val="visible"/>
                                      </p:to>
                                    </p:set>
                                    <p:animEffect filter="dissolve" transition="in">
                                      <p:cBhvr additive="repl">
                                        <p:cTn id="255" dur="500"/>
                                        <p:tgtEl>
                                          <p:spTgt spid="134"/>
                                        </p:tgtEl>
                                      </p:cBhvr>
                                    </p:animEffect>
                                  </p:childTnLst>
                                </p:cTn>
                              </p:par>
                            </p:childTnLst>
                          </p:cTn>
                        </p:par>
                        <p:par>
                          <p:cTn id="256" fill="hold">
                            <p:stCondLst>
                              <p:cond delay="18500"/>
                            </p:stCondLst>
                            <p:childTnLst>
                              <p:par>
                                <p:cTn id="257" nodeType="afterEffect" fill="hold" presetClass="entr" presetID="9">
                                  <p:stCondLst>
                                    <p:cond delay="0"/>
                                  </p:stCondLst>
                                  <p:childTnLst>
                                    <p:set>
                                      <p:cBhvr>
                                        <p:cTn id="258" dur="1" fill="hold">
                                          <p:stCondLst>
                                            <p:cond delay="0"/>
                                          </p:stCondLst>
                                        </p:cTn>
                                        <p:tgtEl>
                                          <p:spTgt spid="136"/>
                                        </p:tgtEl>
                                        <p:attrNameLst>
                                          <p:attrName>style.visibility</p:attrName>
                                        </p:attrNameLst>
                                      </p:cBhvr>
                                      <p:to>
                                        <p:strVal val="visible"/>
                                      </p:to>
                                    </p:set>
                                    <p:animEffect filter="dissolve" transition="in">
                                      <p:cBhvr additive="repl">
                                        <p:cTn id="259" dur="500"/>
                                        <p:tgtEl>
                                          <p:spTgt spid="136"/>
                                        </p:tgtEl>
                                      </p:cBhvr>
                                    </p:animEffect>
                                  </p:childTnLst>
                                </p:cTn>
                              </p:par>
                            </p:childTnLst>
                          </p:cTn>
                        </p:par>
                        <p:par>
                          <p:cTn id="260" fill="hold">
                            <p:stCondLst>
                              <p:cond delay="19000"/>
                            </p:stCondLst>
                            <p:childTnLst>
                              <p:par>
                                <p:cTn id="261" nodeType="afterEffect" fill="hold" presetClass="exit" presetID="9">
                                  <p:stCondLst>
                                    <p:cond delay="2000"/>
                                  </p:stCondLst>
                                  <p:childTnLst>
                                    <p:animEffect filter="dissolve" transition="out">
                                      <p:cBhvr additive="repl">
                                        <p:cTn id="262" dur="500"/>
                                        <p:tgtEl>
                                          <p:spTgt spid="136"/>
                                        </p:tgtEl>
                                      </p:cBhvr>
                                    </p:animEffect>
                                    <p:set>
                                      <p:cBhvr>
                                        <p:cTn id="263" dur="1" fill="hold">
                                          <p:stCondLst>
                                            <p:cond delay="499"/>
                                          </p:stCondLst>
                                        </p:cTn>
                                        <p:tgtEl>
                                          <p:spTgt spid="136"/>
                                        </p:tgtEl>
                                        <p:attrNameLst>
                                          <p:attrName>style.visibility</p:attrName>
                                        </p:attrNameLst>
                                      </p:cBhvr>
                                      <p:to>
                                        <p:strVal val="hidden"/>
                                      </p:to>
                                    </p:set>
                                  </p:childTnLst>
                                </p:cTn>
                              </p:par>
                              <p:par>
                                <p:cTn id="264" nodeType="withEffect" fill="hold" presetClass="exit" presetID="1">
                                  <p:stCondLst>
                                    <p:cond delay="2000"/>
                                  </p:stCondLst>
                                  <p:childTnLst>
                                    <p:set>
                                      <p:cBhvr>
                                        <p:cTn id="265" dur="1" fill="hold">
                                          <p:stCondLst>
                                            <p:cond delay="0"/>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rcRect l="49012" t="48522" r="9766" b="14844"/>
          <a:stretch/>
        </p:blipFill>
        <p:spPr>
          <a:xfrm>
            <a:off x="0" y="0"/>
            <a:ext cx="9144000" cy="6858000"/>
          </a:xfrm>
          <a:prstGeom prst="rect">
            <a:avLst/>
          </a:prstGeom>
          <a:ln w="0">
            <a:noFill/>
          </a:ln>
        </p:spPr>
      </p:pic>
      <p:sp>
        <p:nvSpPr>
          <p:cNvPr id="50" name=""/>
          <p:cNvSpPr/>
          <p:nvPr/>
        </p:nvSpPr>
        <p:spPr>
          <a:xfrm>
            <a:off x="-900000" y="-2116080"/>
            <a:ext cx="1800000" cy="1439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03280" y="5661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In Marton, Yorkshire, United Kingdom… </a:t>
            </a:r>
            <a:endParaRPr b="0" lang="en-US" sz="2800" spc="-1" strike="noStrike">
              <a:solidFill>
                <a:srgbClr val="000000"/>
              </a:solidFill>
              <a:latin typeface="Arial"/>
            </a:endParaRPr>
          </a:p>
        </p:txBody>
      </p:sp>
    </p:spTree>
  </p:cSld>
  <p:transition spd="med" advTm="5000">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51"/>
                                        </p:tgtEl>
                                        <p:attrNameLst>
                                          <p:attrName>style.visibility</p:attrName>
                                        </p:attrNameLst>
                                      </p:cBhvr>
                                      <p:to>
                                        <p:strVal val="visible"/>
                                      </p:to>
                                    </p:set>
                                    <p:animEffect filter="fade" transition="in">
                                      <p:cBhvr additive="repl">
                                        <p:cTn id="45" dur="2000"/>
                                        <p:tgtEl>
                                          <p:spTgt spid="51"/>
                                        </p:tgtEl>
                                      </p:cBhvr>
                                    </p:animEffect>
                                  </p:childTnLst>
                                </p:cTn>
                              </p:par>
                            </p:childTnLst>
                          </p:cTn>
                        </p:par>
                        <p:par>
                          <p:cTn id="46" fill="hold">
                            <p:stCondLst>
                              <p:cond delay="2000"/>
                            </p:stCondLst>
                            <p:childTnLst>
                              <p:par>
                                <p:cTn id="47" nodeType="afterEffect" fill="hold" presetClass="path" presetID="0">
                                  <p:stCondLst>
                                    <p:cond delay="0"/>
                                  </p:stCondLst>
                                  <p:childTnLst>
                                    <p:animMotion origin="layout" path="M 3.61111E-006 1.11959E-006 C 0.03576 0.37913 0.0717 0.7585 0.19878 0.90539 C 0.32586 1.05228 0.66562 0.96669 0.76267 0.88133 C 0.85972 0.79597 0.82083 0.37798 0.78073 0.39347 C 0.74062 0.40897 0.61232 0.98242 0.5217 0.97455 C 0.43107 0.96669 0.30955 0.39625 0.23732 0.34675 C 0.1651 0.29725 0.01371 0.57714 0.08802 0.67754 C 0.16232 0.77793 0.58142 0.97779 0.68316 0.94888 C 0.78489 0.91996 0.73611 0.55077 0.69878 0.50405 C 0.66145 0.45732 0.49895 0.64053 0.45902 0.66782 E">
                                      <p:cBhvr>
                                        <p:cTn id="48" dur="5000" fill="hold"/>
                                        <p:tgtEl>
                                          <p:spTgt spid="50"/>
                                        </p:tgtEl>
                                      </p:cBhvr>
                                    </p:animMotion>
                                  </p:childTnLst>
                                </p:cTn>
                              </p:par>
                            </p:childTnLst>
                          </p:cTn>
                        </p:par>
                        <p:par>
                          <p:cTn id="49" fill="hold">
                            <p:stCondLst>
                              <p:cond delay="7000"/>
                            </p:stCondLst>
                            <p:childTnLst>
                              <p:par>
                                <p:cTn id="50" nodeType="afterEffect" fill="hold" presetClass="emph" presetID="26">
                                  <p:stCondLst>
                                    <p:cond delay="0"/>
                                  </p:stCondLst>
                                  <p:childTnLst>
                                    <p:animEffect filter="fade" transition="out">
                                      <p:cBhvr additive="repl">
                                        <p:cTn id="51" dur="500"/>
                                        <p:tgtEl>
                                          <p:spTgt spid="50"/>
                                        </p:tgtEl>
                                      </p:cBhvr>
                                    </p:animEffect>
                                    <p:animScale>
                                      <p:cBhvr>
                                        <p:cTn id="52" dur="250" autoRev="1" fill="hold"/>
                                        <p:tgtEl>
                                          <p:spTgt spid="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rcRect l="45275" t="41146" r="977" b="8055"/>
          <a:stretch/>
        </p:blipFill>
        <p:spPr>
          <a:xfrm>
            <a:off x="0" y="0"/>
            <a:ext cx="9144000" cy="6858000"/>
          </a:xfrm>
          <a:prstGeom prst="rect">
            <a:avLst/>
          </a:prstGeom>
          <a:ln w="0">
            <a:noFill/>
          </a:ln>
        </p:spPr>
      </p:pic>
      <p:sp>
        <p:nvSpPr>
          <p:cNvPr id="53" name=""/>
          <p:cNvSpPr/>
          <p:nvPr/>
        </p:nvSpPr>
        <p:spPr>
          <a:xfrm>
            <a:off x="-1116000" y="-2043000"/>
            <a:ext cx="1800360" cy="1439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03280" y="5661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In Marton, Yorkshire, United Kingdom… </a:t>
            </a:r>
            <a:endParaRPr b="0" lang="en-US" sz="2800" spc="-1" strike="noStrike">
              <a:solidFill>
                <a:srgbClr val="000000"/>
              </a:solidFill>
              <a:latin typeface="Arial"/>
            </a:endParaRPr>
          </a:p>
        </p:txBody>
      </p:sp>
    </p:spTree>
  </p:cSld>
  <p:transition spd="slow" advTm="0">
    <p:zoom dir="ou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path" presetID="0">
                                  <p:stCondLst>
                                    <p:cond delay="0"/>
                                  </p:stCondLst>
                                  <p:childTnLst>
                                    <p:animMotion origin="layout" path="M -1.94444E-006 3.77053E-006 C 0.02899 0.25445 0.05799 0.5089 0.11806 0.65972 C 0.17813 0.81054 0.25747 0.88804 0.36024 0.90539 C 0.46302 0.92273 0.65382 0.84409 0.7349 0.76405 C 0.81597 0.68401 0.91597 0.48577 0.84705 0.42539 C 0.77813 0.36502 0.43837 0.31182 0.3217 0.40134 C 0.20504 0.49086 0.12292 0.89775 0.14705 0.96322 C 0.17118 1.02868 0.37517 0.86676 0.46632 0.79458 C 0.55747 0.72241 0.71476 0.57529 0.69392 0.52972 C 0.67309 0.48415 0.37674 0.49572 0.34097 0.52162 C 0.30521 0.54753 0.45642 0.6581 0.47951 0.6854 E">
                                      <p:cBhvr>
                                        <p:cTn id="58" dur="5000" fill="hold"/>
                                        <p:tgtEl>
                                          <p:spTgt spid="53"/>
                                        </p:tgtEl>
                                      </p:cBhvr>
                                    </p:animMotion>
                                  </p:childTnLst>
                                </p:cTn>
                              </p:par>
                            </p:childTnLst>
                          </p:cTn>
                        </p:par>
                        <p:par>
                          <p:cTn id="59" fill="hold">
                            <p:stCondLst>
                              <p:cond delay="5000"/>
                            </p:stCondLst>
                            <p:childTnLst>
                              <p:par>
                                <p:cTn id="60" nodeType="afterEffect" fill="hold" presetClass="emph" presetID="26">
                                  <p:stCondLst>
                                    <p:cond delay="0"/>
                                  </p:stCondLst>
                                  <p:childTnLst>
                                    <p:animEffect filter="fade" transition="out">
                                      <p:cBhvr additive="repl">
                                        <p:cTn id="61" dur="500"/>
                                        <p:tgtEl>
                                          <p:spTgt spid="53"/>
                                        </p:tgtEl>
                                      </p:cBhvr>
                                    </p:animEffect>
                                    <p:animScale>
                                      <p:cBhvr>
                                        <p:cTn id="62" dur="250" autoRev="1" fill="hold"/>
                                        <p:tgtEl>
                                          <p:spTgt spid="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55" name=""/>
          <p:cNvGrpSpPr/>
          <p:nvPr/>
        </p:nvGrpSpPr>
        <p:grpSpPr>
          <a:xfrm>
            <a:off x="0" y="0"/>
            <a:ext cx="9144000" cy="6864480"/>
            <a:chOff x="0" y="0"/>
            <a:chExt cx="9144000" cy="6864480"/>
          </a:xfrm>
        </p:grpSpPr>
        <p:pic>
          <p:nvPicPr>
            <p:cNvPr id="56" name="" descr=""/>
            <p:cNvPicPr/>
            <p:nvPr/>
          </p:nvPicPr>
          <p:blipFill>
            <a:blip r:embed="rId1"/>
            <a:srcRect l="46459" t="38185" r="977" b="9391"/>
            <a:stretch/>
          </p:blipFill>
          <p:spPr>
            <a:xfrm>
              <a:off x="0" y="0"/>
              <a:ext cx="9144000" cy="6864480"/>
            </a:xfrm>
            <a:prstGeom prst="rect">
              <a:avLst/>
            </a:prstGeom>
            <a:ln w="0">
              <a:noFill/>
            </a:ln>
          </p:spPr>
        </p:pic>
        <p:sp>
          <p:nvSpPr>
            <p:cNvPr id="57" name=""/>
            <p:cNvSpPr/>
            <p:nvPr/>
          </p:nvSpPr>
          <p:spPr>
            <a:xfrm>
              <a:off x="2556000" y="1628640"/>
              <a:ext cx="41036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 name=""/>
          <p:cNvSpPr/>
          <p:nvPr/>
        </p:nvSpPr>
        <p:spPr>
          <a:xfrm>
            <a:off x="-1405080" y="-2116080"/>
            <a:ext cx="1800360" cy="1439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03280" y="5661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In Marton, Yorkshire, United Kingdom… </a:t>
            </a:r>
            <a:endParaRPr b="0" lang="en-US" sz="2800" spc="-1" strike="noStrike">
              <a:solidFill>
                <a:srgbClr val="000000"/>
              </a:solidFill>
              <a:latin typeface="Arial"/>
            </a:endParaRPr>
          </a:p>
        </p:txBody>
      </p:sp>
    </p:spTree>
  </p:cSld>
  <p:transition spd="slow" advTm="0">
    <p:zoom dir="ou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path" presetID="0">
                                  <p:stCondLst>
                                    <p:cond delay="0"/>
                                  </p:stCondLst>
                                  <p:childTnLst>
                                    <p:animMotion origin="layout" path="M 4.72222E-006 -4.62642E-009 C 0.12691 0.21952 0.25399 0.43905 0.39774 0.57298 C 0.54132 0.70738 0.77309 0.82605 0.86146 0.8043 C 0.94982 0.78256 0.99843 0.51631 0.92777 0.44321 C 0.85694 0.36988 0.56319 0.30858 0.4375 0.36433 C 0.31163 0.41961 0.17465 0.66921 0.17361 0.77701 C 0.17239 0.8848 0.32639 1.01827 0.43021 1.01133 C 0.53385 1.00439 0.76406 0.83414 0.79652 0.73537 C 0.82899 0.63636 0.70746 0.42817 0.62534 0.41892 C 0.54305 0.40967 0.33316 0.59935 0.30364 0.67916 C 0.27396 0.7585 0.40937 0.89405 0.44705 0.8959 C 0.48472 0.89776 0.51632 0.7245 0.53003 0.69003 E">
                                      <p:cBhvr>
                                        <p:cTn id="68" dur="5000" fill="hold"/>
                                        <p:tgtEl>
                                          <p:spTgt spid="58"/>
                                        </p:tgtEl>
                                      </p:cBhvr>
                                    </p:animMotion>
                                  </p:childTnLst>
                                </p:cTn>
                              </p:par>
                            </p:childTnLst>
                          </p:cTn>
                        </p:par>
                        <p:par>
                          <p:cTn id="69" fill="hold">
                            <p:stCondLst>
                              <p:cond delay="5000"/>
                            </p:stCondLst>
                            <p:childTnLst>
                              <p:par>
                                <p:cTn id="70" nodeType="afterEffect" fill="hold" presetClass="emph" presetID="26">
                                  <p:stCondLst>
                                    <p:cond delay="0"/>
                                  </p:stCondLst>
                                  <p:childTnLst>
                                    <p:animEffect filter="fade" transition="out">
                                      <p:cBhvr additive="repl">
                                        <p:cTn id="71" dur="500"/>
                                        <p:tgtEl>
                                          <p:spTgt spid="58"/>
                                        </p:tgtEl>
                                      </p:cBhvr>
                                    </p:animEffect>
                                    <p:animScale>
                                      <p:cBhvr>
                                        <p:cTn id="72" dur="250" autoRev="1" fill="hold"/>
                                        <p:tgtEl>
                                          <p:spTgt spid="5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60" name=""/>
          <p:cNvGrpSpPr/>
          <p:nvPr/>
        </p:nvGrpSpPr>
        <p:grpSpPr>
          <a:xfrm>
            <a:off x="2662200" y="981000"/>
            <a:ext cx="3819600" cy="5732640"/>
            <a:chOff x="2662200" y="981000"/>
            <a:chExt cx="3819600" cy="5732640"/>
          </a:xfrm>
        </p:grpSpPr>
        <p:pic>
          <p:nvPicPr>
            <p:cNvPr id="61" name="" descr=""/>
            <p:cNvPicPr/>
            <p:nvPr/>
          </p:nvPicPr>
          <p:blipFill>
            <a:blip r:embed="rId1"/>
            <a:stretch/>
          </p:blipFill>
          <p:spPr>
            <a:xfrm>
              <a:off x="2662200" y="981000"/>
              <a:ext cx="3819600" cy="5732640"/>
            </a:xfrm>
            <a:prstGeom prst="rect">
              <a:avLst/>
            </a:prstGeom>
            <a:ln w="0">
              <a:noFill/>
            </a:ln>
          </p:spPr>
        </p:pic>
        <p:pic>
          <p:nvPicPr>
            <p:cNvPr id="62" name="" descr=""/>
            <p:cNvPicPr/>
            <p:nvPr/>
          </p:nvPicPr>
          <p:blipFill>
            <a:blip r:embed="rId2"/>
            <a:srcRect l="0" t="13970" r="0" b="0"/>
            <a:stretch/>
          </p:blipFill>
          <p:spPr>
            <a:xfrm>
              <a:off x="2771640" y="981000"/>
              <a:ext cx="3260880" cy="3395880"/>
            </a:xfrm>
            <a:prstGeom prst="rect">
              <a:avLst/>
            </a:prstGeom>
            <a:ln w="0">
              <a:noFill/>
            </a:ln>
          </p:spPr>
        </p:pic>
      </p:grpSp>
      <p:sp>
        <p:nvSpPr>
          <p:cNvPr id="63" name=""/>
          <p:cNvSpPr/>
          <p:nvPr/>
        </p:nvSpPr>
        <p:spPr>
          <a:xfrm>
            <a:off x="250920" y="40464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A hero is born! </a:t>
            </a:r>
            <a:endParaRPr b="0" lang="en-US" sz="2800" spc="-1" strike="noStrike">
              <a:solidFill>
                <a:srgbClr val="000000"/>
              </a:solidFill>
              <a:latin typeface="Arial"/>
            </a:endParaRPr>
          </a:p>
        </p:txBody>
      </p:sp>
      <p:sp>
        <p:nvSpPr>
          <p:cNvPr id="64" name=""/>
          <p:cNvSpPr/>
          <p:nvPr/>
        </p:nvSpPr>
        <p:spPr>
          <a:xfrm>
            <a:off x="5651640" y="2133720"/>
            <a:ext cx="3168360" cy="1006200"/>
          </a:xfrm>
          <a:prstGeom prst="wedgeRoundRectCallout">
            <a:avLst>
              <a:gd name="adj1" fmla="val -43736"/>
              <a:gd name="adj2" fmla="val 82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Bodoni MT Black"/>
              </a:rPr>
              <a:t>WAA!</a:t>
            </a:r>
            <a:endParaRPr b="0" lang="en-US" sz="6600" spc="-1" strike="noStrike">
              <a:solidFill>
                <a:srgbClr val="000000"/>
              </a:solidFill>
              <a:latin typeface="Arial"/>
            </a:endParaRPr>
          </a:p>
        </p:txBody>
      </p:sp>
    </p:spTree>
  </p:cSld>
  <p:transition advTm="1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63"/>
                                        </p:tgtEl>
                                        <p:attrNameLst>
                                          <p:attrName>style.visibility</p:attrName>
                                        </p:attrNameLst>
                                      </p:cBhvr>
                                      <p:to>
                                        <p:strVal val="visible"/>
                                      </p:to>
                                    </p:set>
                                    <p:animEffect filter="wheel(4)" transition="in">
                                      <p:cBhvr additive="repl">
                                        <p:cTn id="79" dur="2000"/>
                                        <p:tgtEl>
                                          <p:spTgt spid="6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500" fill="hold"/>
                                        <p:tgtEl>
                                          <p:spTgt spid="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65" name=""/>
          <p:cNvGrpSpPr/>
          <p:nvPr/>
        </p:nvGrpSpPr>
        <p:grpSpPr>
          <a:xfrm>
            <a:off x="2916360" y="1773360"/>
            <a:ext cx="2857320" cy="3600360"/>
            <a:chOff x="2916360" y="1773360"/>
            <a:chExt cx="2857320" cy="3600360"/>
          </a:xfrm>
        </p:grpSpPr>
        <p:pic>
          <p:nvPicPr>
            <p:cNvPr id="66" name="" descr=""/>
            <p:cNvPicPr/>
            <p:nvPr/>
          </p:nvPicPr>
          <p:blipFill>
            <a:blip r:embed="rId1"/>
            <a:stretch/>
          </p:blipFill>
          <p:spPr>
            <a:xfrm>
              <a:off x="2916360" y="1773360"/>
              <a:ext cx="2857320" cy="3600360"/>
            </a:xfrm>
            <a:prstGeom prst="rect">
              <a:avLst/>
            </a:prstGeom>
            <a:ln w="0">
              <a:noFill/>
            </a:ln>
          </p:spPr>
        </p:pic>
        <p:grpSp>
          <p:nvGrpSpPr>
            <p:cNvPr id="67" name=""/>
            <p:cNvGrpSpPr/>
            <p:nvPr/>
          </p:nvGrpSpPr>
          <p:grpSpPr>
            <a:xfrm>
              <a:off x="4068720" y="2349360"/>
              <a:ext cx="949320" cy="1250280"/>
              <a:chOff x="4068720" y="2349360"/>
              <a:chExt cx="949320" cy="1250280"/>
            </a:xfrm>
          </p:grpSpPr>
          <p:sp>
            <p:nvSpPr>
              <p:cNvPr id="68" name=""/>
              <p:cNvSpPr/>
              <p:nvPr/>
            </p:nvSpPr>
            <p:spPr>
              <a:xfrm>
                <a:off x="4068720" y="2349360"/>
                <a:ext cx="743040" cy="507600"/>
              </a:xfrm>
              <a:custGeom>
                <a:avLst/>
                <a:gdLst/>
                <a:ahLst/>
                <a:rect l="l" t="t" r="r" b="b"/>
                <a:pathLst>
                  <a:path w="2065" h="1410">
                    <a:moveTo>
                      <a:pt x="13514" y="7342"/>
                    </a:moveTo>
                    <a:cubicBezTo>
                      <a:pt x="13475" y="7355"/>
                      <a:pt x="13436" y="7368"/>
                      <a:pt x="13395" y="7382"/>
                    </a:cubicBezTo>
                    <a:cubicBezTo>
                      <a:pt x="13363" y="7393"/>
                      <a:pt x="13322" y="7406"/>
                      <a:pt x="13295" y="7422"/>
                    </a:cubicBezTo>
                    <a:cubicBezTo>
                      <a:pt x="13251" y="7447"/>
                      <a:pt x="13221" y="7460"/>
                      <a:pt x="13176" y="7481"/>
                    </a:cubicBezTo>
                    <a:cubicBezTo>
                      <a:pt x="13165" y="7486"/>
                      <a:pt x="13108" y="7508"/>
                      <a:pt x="13077" y="7521"/>
                    </a:cubicBezTo>
                    <a:cubicBezTo>
                      <a:pt x="13045" y="7535"/>
                      <a:pt x="13011" y="7565"/>
                      <a:pt x="12978" y="7580"/>
                    </a:cubicBezTo>
                    <a:cubicBezTo>
                      <a:pt x="12932" y="7601"/>
                      <a:pt x="12921" y="7613"/>
                      <a:pt x="12879" y="7640"/>
                    </a:cubicBezTo>
                    <a:cubicBezTo>
                      <a:pt x="12843" y="7663"/>
                      <a:pt x="12800" y="7681"/>
                      <a:pt x="12760" y="7699"/>
                    </a:cubicBezTo>
                    <a:cubicBezTo>
                      <a:pt x="12728" y="7714"/>
                      <a:pt x="12672" y="7718"/>
                      <a:pt x="12640" y="7739"/>
                    </a:cubicBezTo>
                    <a:cubicBezTo>
                      <a:pt x="12597" y="7767"/>
                      <a:pt x="12592" y="7775"/>
                      <a:pt x="12541" y="7799"/>
                    </a:cubicBezTo>
                    <a:cubicBezTo>
                      <a:pt x="12516" y="7811"/>
                      <a:pt x="12466" y="7834"/>
                      <a:pt x="12442" y="7838"/>
                    </a:cubicBezTo>
                    <a:cubicBezTo>
                      <a:pt x="12387" y="7846"/>
                      <a:pt x="12386" y="7842"/>
                      <a:pt x="12343" y="7878"/>
                    </a:cubicBezTo>
                    <a:cubicBezTo>
                      <a:pt x="12307" y="7908"/>
                      <a:pt x="12284" y="7932"/>
                      <a:pt x="12244" y="7957"/>
                    </a:cubicBezTo>
                    <a:cubicBezTo>
                      <a:pt x="12220" y="7972"/>
                      <a:pt x="12167" y="7981"/>
                      <a:pt x="12144" y="7997"/>
                    </a:cubicBezTo>
                    <a:cubicBezTo>
                      <a:pt x="12116" y="8016"/>
                      <a:pt x="12080" y="8061"/>
                      <a:pt x="12065" y="8076"/>
                    </a:cubicBezTo>
                    <a:cubicBezTo>
                      <a:pt x="12031" y="8109"/>
                      <a:pt x="12011" y="8115"/>
                      <a:pt x="11966" y="8136"/>
                    </a:cubicBezTo>
                    <a:cubicBezTo>
                      <a:pt x="11952" y="8143"/>
                      <a:pt x="11920" y="8149"/>
                      <a:pt x="11886" y="8156"/>
                    </a:cubicBezTo>
                    <a:cubicBezTo>
                      <a:pt x="11845" y="8165"/>
                      <a:pt x="11823" y="8178"/>
                      <a:pt x="11787" y="8195"/>
                    </a:cubicBezTo>
                    <a:cubicBezTo>
                      <a:pt x="11746" y="8214"/>
                      <a:pt x="11734" y="8202"/>
                      <a:pt x="11688" y="8215"/>
                    </a:cubicBezTo>
                    <a:cubicBezTo>
                      <a:pt x="11654" y="8225"/>
                      <a:pt x="11628" y="8249"/>
                      <a:pt x="11589" y="8255"/>
                    </a:cubicBezTo>
                    <a:cubicBezTo>
                      <a:pt x="11530" y="8264"/>
                      <a:pt x="11541" y="8270"/>
                      <a:pt x="11509" y="8295"/>
                    </a:cubicBezTo>
                    <a:cubicBezTo>
                      <a:pt x="11475" y="8313"/>
                      <a:pt x="11466" y="8315"/>
                      <a:pt x="11450" y="8334"/>
                    </a:cubicBezTo>
                    <a:cubicBezTo>
                      <a:pt x="11498" y="8361"/>
                      <a:pt x="11487" y="8380"/>
                      <a:pt x="11549" y="8354"/>
                    </a:cubicBezTo>
                    <a:cubicBezTo>
                      <a:pt x="11573" y="8344"/>
                      <a:pt x="11630" y="8309"/>
                      <a:pt x="11648" y="8295"/>
                    </a:cubicBezTo>
                    <a:cubicBezTo>
                      <a:pt x="11726" y="8233"/>
                      <a:pt x="11665" y="8274"/>
                      <a:pt x="11728" y="8235"/>
                    </a:cubicBezTo>
                    <a:cubicBezTo>
                      <a:pt x="11748" y="8199"/>
                      <a:pt x="11751" y="8180"/>
                      <a:pt x="11787" y="8136"/>
                    </a:cubicBezTo>
                    <a:cubicBezTo>
                      <a:pt x="11820" y="8095"/>
                      <a:pt x="11825" y="8091"/>
                      <a:pt x="11847" y="8057"/>
                    </a:cubicBezTo>
                    <a:cubicBezTo>
                      <a:pt x="11880" y="8046"/>
                      <a:pt x="11910" y="8027"/>
                      <a:pt x="11946" y="8017"/>
                    </a:cubicBezTo>
                    <a:cubicBezTo>
                      <a:pt x="11966" y="8017"/>
                      <a:pt x="11973" y="8017"/>
                      <a:pt x="11986" y="8017"/>
                    </a:cubicBezTo>
                    <a:cubicBezTo>
                      <a:pt x="12034" y="7968"/>
                      <a:pt x="11982" y="8008"/>
                      <a:pt x="12045" y="7977"/>
                    </a:cubicBezTo>
                    <a:cubicBezTo>
                      <a:pt x="12082" y="7959"/>
                      <a:pt x="12110" y="7932"/>
                      <a:pt x="12144" y="7918"/>
                    </a:cubicBezTo>
                    <a:cubicBezTo>
                      <a:pt x="12167" y="7895"/>
                      <a:pt x="12177" y="7889"/>
                      <a:pt x="12204" y="7898"/>
                    </a:cubicBezTo>
                    <a:cubicBezTo>
                      <a:pt x="12229" y="7876"/>
                      <a:pt x="12240" y="7866"/>
                      <a:pt x="12283" y="7838"/>
                    </a:cubicBezTo>
                    <a:cubicBezTo>
                      <a:pt x="12213" y="7838"/>
                      <a:pt x="12149" y="7852"/>
                      <a:pt x="12085" y="7858"/>
                    </a:cubicBezTo>
                    <a:cubicBezTo>
                      <a:pt x="12037" y="7863"/>
                      <a:pt x="12006" y="7851"/>
                      <a:pt x="11966" y="7878"/>
                    </a:cubicBezTo>
                    <a:cubicBezTo>
                      <a:pt x="11921" y="7909"/>
                      <a:pt x="11912" y="7936"/>
                      <a:pt x="11867" y="7977"/>
                    </a:cubicBezTo>
                    <a:cubicBezTo>
                      <a:pt x="11821" y="8018"/>
                      <a:pt x="11851" y="8014"/>
                      <a:pt x="11827" y="8057"/>
                    </a:cubicBezTo>
                    <a:cubicBezTo>
                      <a:pt x="11800" y="8081"/>
                      <a:pt x="11767" y="8092"/>
                      <a:pt x="11728" y="8136"/>
                    </a:cubicBezTo>
                    <a:cubicBezTo>
                      <a:pt x="11699" y="8168"/>
                      <a:pt x="11684" y="8184"/>
                      <a:pt x="11648" y="8215"/>
                    </a:cubicBezTo>
                    <a:cubicBezTo>
                      <a:pt x="11641" y="8222"/>
                      <a:pt x="11635" y="8228"/>
                      <a:pt x="11628" y="8235"/>
                    </a:cubicBezTo>
                    <a:cubicBezTo>
                      <a:pt x="11667" y="8222"/>
                      <a:pt x="11682" y="8219"/>
                      <a:pt x="11728" y="8215"/>
                    </a:cubicBezTo>
                  </a:path>
                  <a:path w="2065" h="1410">
                    <a:moveTo>
                      <a:pt x="12005" y="8017"/>
                    </a:moveTo>
                    <a:cubicBezTo>
                      <a:pt x="12025" y="8017"/>
                      <a:pt x="12032" y="8017"/>
                      <a:pt x="12045" y="8017"/>
                    </a:cubicBezTo>
                    <a:cubicBezTo>
                      <a:pt x="12054" y="7963"/>
                      <a:pt x="12069" y="7969"/>
                      <a:pt x="12125" y="7938"/>
                    </a:cubicBezTo>
                  </a:path>
                  <a:path w="2065" h="1410">
                    <a:moveTo>
                      <a:pt x="12025" y="7759"/>
                    </a:moveTo>
                    <a:cubicBezTo>
                      <a:pt x="12029" y="7725"/>
                      <a:pt x="12034" y="7674"/>
                      <a:pt x="12045" y="7640"/>
                    </a:cubicBezTo>
                    <a:cubicBezTo>
                      <a:pt x="12055" y="7610"/>
                      <a:pt x="12078" y="7593"/>
                      <a:pt x="12085" y="7560"/>
                    </a:cubicBezTo>
                    <a:cubicBezTo>
                      <a:pt x="12095" y="7515"/>
                      <a:pt x="12103" y="7516"/>
                      <a:pt x="12105" y="7461"/>
                    </a:cubicBezTo>
                    <a:cubicBezTo>
                      <a:pt x="12107" y="7420"/>
                      <a:pt x="12108" y="7391"/>
                      <a:pt x="12125" y="7362"/>
                    </a:cubicBezTo>
                    <a:cubicBezTo>
                      <a:pt x="12132" y="7351"/>
                      <a:pt x="12168" y="7284"/>
                      <a:pt x="12184" y="7263"/>
                    </a:cubicBezTo>
                    <a:cubicBezTo>
                      <a:pt x="12210" y="7228"/>
                      <a:pt x="12246" y="7203"/>
                      <a:pt x="12283" y="7183"/>
                    </a:cubicBezTo>
                    <a:cubicBezTo>
                      <a:pt x="12310" y="7168"/>
                      <a:pt x="12352" y="7157"/>
                      <a:pt x="12382" y="7144"/>
                    </a:cubicBezTo>
                    <a:cubicBezTo>
                      <a:pt x="12407" y="7133"/>
                      <a:pt x="12485" y="7115"/>
                      <a:pt x="12502" y="7104"/>
                    </a:cubicBezTo>
                    <a:cubicBezTo>
                      <a:pt x="12541" y="7080"/>
                      <a:pt x="12590" y="7019"/>
                      <a:pt x="12621" y="7005"/>
                    </a:cubicBezTo>
                    <a:cubicBezTo>
                      <a:pt x="12668" y="6984"/>
                      <a:pt x="12669" y="6976"/>
                      <a:pt x="12700" y="6965"/>
                    </a:cubicBezTo>
                    <a:cubicBezTo>
                      <a:pt x="12806" y="6925"/>
                      <a:pt x="13013" y="6967"/>
                      <a:pt x="13117" y="6985"/>
                    </a:cubicBezTo>
                    <a:cubicBezTo>
                      <a:pt x="13152" y="6991"/>
                      <a:pt x="13141" y="6998"/>
                      <a:pt x="13176" y="7005"/>
                    </a:cubicBezTo>
                    <a:cubicBezTo>
                      <a:pt x="13206" y="7011"/>
                      <a:pt x="13232" y="7010"/>
                      <a:pt x="13256" y="7025"/>
                    </a:cubicBezTo>
                    <a:cubicBezTo>
                      <a:pt x="13284" y="7042"/>
                      <a:pt x="13223" y="7045"/>
                      <a:pt x="13256" y="7045"/>
                    </a:cubicBezTo>
                    <a:cubicBezTo>
                      <a:pt x="13312" y="7045"/>
                      <a:pt x="13288" y="7047"/>
                      <a:pt x="13275" y="7084"/>
                    </a:cubicBezTo>
                    <a:cubicBezTo>
                      <a:pt x="13252" y="7146"/>
                      <a:pt x="13264" y="7126"/>
                      <a:pt x="13315" y="7144"/>
                    </a:cubicBezTo>
                    <a:cubicBezTo>
                      <a:pt x="13321" y="7146"/>
                      <a:pt x="13360" y="7175"/>
                      <a:pt x="13375" y="7183"/>
                    </a:cubicBezTo>
                    <a:cubicBezTo>
                      <a:pt x="13445" y="7220"/>
                      <a:pt x="13365" y="7183"/>
                      <a:pt x="13395" y="7203"/>
                    </a:cubicBezTo>
                    <a:cubicBezTo>
                      <a:pt x="13447" y="7238"/>
                      <a:pt x="13398" y="7214"/>
                      <a:pt x="13414" y="7223"/>
                    </a:cubicBezTo>
                    <a:cubicBezTo>
                      <a:pt x="13438" y="7236"/>
                      <a:pt x="13468" y="7250"/>
                      <a:pt x="13494" y="7263"/>
                    </a:cubicBezTo>
                    <a:cubicBezTo>
                      <a:pt x="13463" y="7282"/>
                      <a:pt x="13470" y="7283"/>
                      <a:pt x="13434" y="7283"/>
                    </a:cubicBezTo>
                    <a:cubicBezTo>
                      <a:pt x="13384" y="7283"/>
                      <a:pt x="13335" y="7298"/>
                      <a:pt x="13295" y="7302"/>
                    </a:cubicBezTo>
                    <a:cubicBezTo>
                      <a:pt x="13255" y="7306"/>
                      <a:pt x="13231" y="7316"/>
                      <a:pt x="13196" y="7322"/>
                    </a:cubicBezTo>
                    <a:cubicBezTo>
                      <a:pt x="13152" y="7329"/>
                      <a:pt x="13147" y="7330"/>
                      <a:pt x="13097" y="7342"/>
                    </a:cubicBezTo>
                    <a:cubicBezTo>
                      <a:pt x="13050" y="7353"/>
                      <a:pt x="13032" y="7370"/>
                      <a:pt x="12998" y="7402"/>
                    </a:cubicBezTo>
                    <a:cubicBezTo>
                      <a:pt x="12976" y="7423"/>
                      <a:pt x="12957" y="7411"/>
                      <a:pt x="12918" y="7422"/>
                    </a:cubicBezTo>
                    <a:cubicBezTo>
                      <a:pt x="12893" y="7429"/>
                      <a:pt x="12819" y="7465"/>
                      <a:pt x="12799" y="7481"/>
                    </a:cubicBezTo>
                    <a:cubicBezTo>
                      <a:pt x="12787" y="7490"/>
                      <a:pt x="12753" y="7550"/>
                      <a:pt x="12740" y="7560"/>
                    </a:cubicBezTo>
                    <a:cubicBezTo>
                      <a:pt x="12643" y="7637"/>
                      <a:pt x="12712" y="7523"/>
                      <a:pt x="12640" y="7560"/>
                    </a:cubicBezTo>
                    <a:cubicBezTo>
                      <a:pt x="12631" y="7565"/>
                      <a:pt x="12572" y="7630"/>
                      <a:pt x="12561" y="7640"/>
                    </a:cubicBezTo>
                    <a:cubicBezTo>
                      <a:pt x="12537" y="7663"/>
                      <a:pt x="12522" y="7675"/>
                      <a:pt x="12482" y="7680"/>
                    </a:cubicBezTo>
                    <a:cubicBezTo>
                      <a:pt x="12445" y="7684"/>
                      <a:pt x="12393" y="7681"/>
                      <a:pt x="12363" y="7699"/>
                    </a:cubicBezTo>
                    <a:cubicBezTo>
                      <a:pt x="12336" y="7716"/>
                      <a:pt x="12340" y="7734"/>
                      <a:pt x="12323" y="7759"/>
                    </a:cubicBezTo>
                    <a:cubicBezTo>
                      <a:pt x="12371" y="7759"/>
                      <a:pt x="12402" y="7751"/>
                      <a:pt x="12442" y="7739"/>
                    </a:cubicBezTo>
                    <a:cubicBezTo>
                      <a:pt x="12477" y="7728"/>
                      <a:pt x="12507" y="7691"/>
                      <a:pt x="12541" y="7680"/>
                    </a:cubicBezTo>
                    <a:cubicBezTo>
                      <a:pt x="12591" y="7664"/>
                      <a:pt x="12610" y="7648"/>
                      <a:pt x="12660" y="7620"/>
                    </a:cubicBezTo>
                    <a:cubicBezTo>
                      <a:pt x="12688" y="7605"/>
                      <a:pt x="12729" y="7574"/>
                      <a:pt x="12760" y="7560"/>
                    </a:cubicBezTo>
                    <a:cubicBezTo>
                      <a:pt x="12792" y="7546"/>
                      <a:pt x="12829" y="7536"/>
                      <a:pt x="12859" y="7521"/>
                    </a:cubicBezTo>
                    <a:cubicBezTo>
                      <a:pt x="12897" y="7502"/>
                      <a:pt x="12917" y="7473"/>
                      <a:pt x="12958" y="7461"/>
                    </a:cubicBezTo>
                    <a:cubicBezTo>
                      <a:pt x="13007" y="7446"/>
                      <a:pt x="13013" y="7449"/>
                      <a:pt x="13057" y="7422"/>
                    </a:cubicBezTo>
                    <a:cubicBezTo>
                      <a:pt x="13133" y="7376"/>
                      <a:pt x="13076" y="7403"/>
                      <a:pt x="13117" y="7362"/>
                    </a:cubicBezTo>
                    <a:cubicBezTo>
                      <a:pt x="13148" y="7331"/>
                      <a:pt x="13124" y="7361"/>
                      <a:pt x="13176" y="7302"/>
                    </a:cubicBezTo>
                    <a:cubicBezTo>
                      <a:pt x="13189" y="7287"/>
                      <a:pt x="13245" y="7248"/>
                      <a:pt x="13216" y="7203"/>
                    </a:cubicBezTo>
                    <a:cubicBezTo>
                      <a:pt x="13189" y="7162"/>
                      <a:pt x="13183" y="7196"/>
                      <a:pt x="13156" y="7144"/>
                    </a:cubicBezTo>
                    <a:cubicBezTo>
                      <a:pt x="13126" y="7135"/>
                      <a:pt x="13065" y="7098"/>
                      <a:pt x="13057" y="7104"/>
                    </a:cubicBezTo>
                    <a:cubicBezTo>
                      <a:pt x="13000" y="7146"/>
                      <a:pt x="13041" y="7156"/>
                      <a:pt x="12978" y="7183"/>
                    </a:cubicBezTo>
                    <a:cubicBezTo>
                      <a:pt x="12971" y="7186"/>
                      <a:pt x="12916" y="7223"/>
                      <a:pt x="12898" y="7243"/>
                    </a:cubicBezTo>
                    <a:cubicBezTo>
                      <a:pt x="12887" y="7255"/>
                      <a:pt x="12857" y="7292"/>
                      <a:pt x="12839" y="7322"/>
                    </a:cubicBezTo>
                    <a:cubicBezTo>
                      <a:pt x="12828" y="7340"/>
                      <a:pt x="12808" y="7414"/>
                      <a:pt x="12799" y="7422"/>
                    </a:cubicBezTo>
                    <a:cubicBezTo>
                      <a:pt x="12771" y="7445"/>
                      <a:pt x="12735" y="7423"/>
                      <a:pt x="12700" y="7441"/>
                    </a:cubicBezTo>
                    <a:cubicBezTo>
                      <a:pt x="12670" y="7457"/>
                      <a:pt x="12650" y="7485"/>
                      <a:pt x="12621" y="7501"/>
                    </a:cubicBezTo>
                    <a:cubicBezTo>
                      <a:pt x="12588" y="7519"/>
                      <a:pt x="12534" y="7525"/>
                      <a:pt x="12502" y="7541"/>
                    </a:cubicBezTo>
                    <a:cubicBezTo>
                      <a:pt x="12441" y="7571"/>
                      <a:pt x="12400" y="7578"/>
                      <a:pt x="12343" y="7600"/>
                    </a:cubicBezTo>
                    <a:cubicBezTo>
                      <a:pt x="12304" y="7615"/>
                      <a:pt x="12258" y="7624"/>
                      <a:pt x="12224" y="7640"/>
                    </a:cubicBezTo>
                    <a:cubicBezTo>
                      <a:pt x="12202" y="7650"/>
                      <a:pt x="12177" y="7669"/>
                      <a:pt x="12164" y="7699"/>
                    </a:cubicBezTo>
                    <a:cubicBezTo>
                      <a:pt x="12164" y="7712"/>
                      <a:pt x="12164" y="7726"/>
                      <a:pt x="12164" y="7739"/>
                    </a:cubicBezTo>
                    <a:cubicBezTo>
                      <a:pt x="12173" y="7783"/>
                      <a:pt x="12159" y="7770"/>
                      <a:pt x="12164" y="7759"/>
                    </a:cubicBezTo>
                    <a:cubicBezTo>
                      <a:pt x="12187" y="7705"/>
                      <a:pt x="12217" y="7705"/>
                      <a:pt x="12263" y="7680"/>
                    </a:cubicBezTo>
                    <a:cubicBezTo>
                      <a:pt x="12280" y="7671"/>
                      <a:pt x="12313" y="7637"/>
                      <a:pt x="12323" y="7620"/>
                    </a:cubicBezTo>
                    <a:cubicBezTo>
                      <a:pt x="12347" y="7582"/>
                      <a:pt x="12366" y="7550"/>
                      <a:pt x="12402" y="7521"/>
                    </a:cubicBezTo>
                    <a:cubicBezTo>
                      <a:pt x="12438" y="7491"/>
                      <a:pt x="12460" y="7479"/>
                      <a:pt x="12482" y="7441"/>
                    </a:cubicBezTo>
                    <a:cubicBezTo>
                      <a:pt x="12515" y="7386"/>
                      <a:pt x="12549" y="7369"/>
                      <a:pt x="12601" y="7342"/>
                    </a:cubicBezTo>
                    <a:cubicBezTo>
                      <a:pt x="12634" y="7325"/>
                      <a:pt x="12667" y="7309"/>
                      <a:pt x="12700" y="7302"/>
                    </a:cubicBezTo>
                    <a:cubicBezTo>
                      <a:pt x="12740" y="7293"/>
                      <a:pt x="12780" y="7285"/>
                      <a:pt x="12819" y="7283"/>
                    </a:cubicBezTo>
                    <a:cubicBezTo>
                      <a:pt x="12935" y="7277"/>
                      <a:pt x="13035" y="7296"/>
                      <a:pt x="13097" y="7243"/>
                    </a:cubicBezTo>
                    <a:cubicBezTo>
                      <a:pt x="13104" y="7243"/>
                      <a:pt x="13110" y="7243"/>
                      <a:pt x="13117" y="7243"/>
                    </a:cubicBezTo>
                    <a:cubicBezTo>
                      <a:pt x="13123" y="7204"/>
                      <a:pt x="13154" y="7190"/>
                      <a:pt x="13077" y="7203"/>
                    </a:cubicBezTo>
                    <a:cubicBezTo>
                      <a:pt x="13068" y="7205"/>
                      <a:pt x="12989" y="7219"/>
                      <a:pt x="12978" y="7223"/>
                    </a:cubicBezTo>
                    <a:cubicBezTo>
                      <a:pt x="12914" y="7246"/>
                      <a:pt x="12835" y="7288"/>
                      <a:pt x="12779" y="7302"/>
                    </a:cubicBezTo>
                    <a:cubicBezTo>
                      <a:pt x="12725" y="7315"/>
                      <a:pt x="12705" y="7313"/>
                      <a:pt x="12660" y="7342"/>
                    </a:cubicBezTo>
                    <a:cubicBezTo>
                      <a:pt x="12620" y="7368"/>
                      <a:pt x="12632" y="7386"/>
                      <a:pt x="12621" y="7422"/>
                    </a:cubicBezTo>
                    <a:cubicBezTo>
                      <a:pt x="12613" y="7450"/>
                      <a:pt x="12605" y="7497"/>
                      <a:pt x="12581" y="7521"/>
                    </a:cubicBezTo>
                    <a:cubicBezTo>
                      <a:pt x="12525" y="7577"/>
                      <a:pt x="12565" y="7530"/>
                      <a:pt x="12521" y="7600"/>
                    </a:cubicBezTo>
                    <a:cubicBezTo>
                      <a:pt x="12460" y="7652"/>
                      <a:pt x="12505" y="7683"/>
                      <a:pt x="12521" y="7640"/>
                    </a:cubicBezTo>
                    <a:cubicBezTo>
                      <a:pt x="12533" y="7608"/>
                      <a:pt x="12525" y="7564"/>
                      <a:pt x="12502" y="7541"/>
                    </a:cubicBezTo>
                    <a:cubicBezTo>
                      <a:pt x="12477" y="7516"/>
                      <a:pt x="12439" y="7484"/>
                      <a:pt x="12422" y="7461"/>
                    </a:cubicBezTo>
                    <a:cubicBezTo>
                      <a:pt x="12395" y="7424"/>
                      <a:pt x="12380" y="7405"/>
                      <a:pt x="12323" y="7422"/>
                    </a:cubicBezTo>
                    <a:cubicBezTo>
                      <a:pt x="12280" y="7435"/>
                      <a:pt x="12275" y="7494"/>
                      <a:pt x="12263" y="7501"/>
                    </a:cubicBezTo>
                    <a:cubicBezTo>
                      <a:pt x="12221" y="7526"/>
                      <a:pt x="12235" y="7477"/>
                      <a:pt x="12263" y="7541"/>
                    </a:cubicBezTo>
                    <a:cubicBezTo>
                      <a:pt x="12288" y="7597"/>
                      <a:pt x="12283" y="7570"/>
                      <a:pt x="12303" y="7580"/>
                    </a:cubicBezTo>
                    <a:cubicBezTo>
                      <a:pt x="12290" y="7546"/>
                      <a:pt x="12291" y="7507"/>
                      <a:pt x="12263" y="7481"/>
                    </a:cubicBezTo>
                    <a:cubicBezTo>
                      <a:pt x="12226" y="7446"/>
                      <a:pt x="12231" y="7472"/>
                      <a:pt x="12244" y="7402"/>
                    </a:cubicBezTo>
                    <a:cubicBezTo>
                      <a:pt x="12246" y="7389"/>
                      <a:pt x="12279" y="7307"/>
                      <a:pt x="12283" y="7302"/>
                    </a:cubicBezTo>
                    <a:cubicBezTo>
                      <a:pt x="12308" y="7273"/>
                      <a:pt x="12327" y="7297"/>
                      <a:pt x="12363" y="7283"/>
                    </a:cubicBezTo>
                    <a:cubicBezTo>
                      <a:pt x="12401" y="7268"/>
                      <a:pt x="12417" y="7269"/>
                      <a:pt x="12462" y="7263"/>
                    </a:cubicBezTo>
                    <a:cubicBezTo>
                      <a:pt x="12445" y="7296"/>
                      <a:pt x="12434" y="7283"/>
                      <a:pt x="12402" y="7302"/>
                    </a:cubicBezTo>
                    <a:cubicBezTo>
                      <a:pt x="12379" y="7316"/>
                      <a:pt x="12313" y="7362"/>
                      <a:pt x="12303" y="7382"/>
                    </a:cubicBezTo>
                    <a:cubicBezTo>
                      <a:pt x="12283" y="7419"/>
                      <a:pt x="12284" y="7412"/>
                      <a:pt x="12263" y="7441"/>
                    </a:cubicBezTo>
                    <a:cubicBezTo>
                      <a:pt x="12241" y="7471"/>
                      <a:pt x="12201" y="7500"/>
                      <a:pt x="12184" y="7521"/>
                    </a:cubicBezTo>
                    <a:cubicBezTo>
                      <a:pt x="12175" y="7532"/>
                      <a:pt x="12143" y="7569"/>
                      <a:pt x="12144" y="7580"/>
                    </a:cubicBezTo>
                    <a:cubicBezTo>
                      <a:pt x="12147" y="7612"/>
                      <a:pt x="12176" y="7603"/>
                      <a:pt x="12184" y="7620"/>
                    </a:cubicBezTo>
                    <a:cubicBezTo>
                      <a:pt x="12184" y="7627"/>
                      <a:pt x="12184" y="7633"/>
                      <a:pt x="12184" y="7640"/>
                    </a:cubicBezTo>
                    <a:cubicBezTo>
                      <a:pt x="12206" y="7643"/>
                      <a:pt x="12289" y="7667"/>
                      <a:pt x="12303" y="7660"/>
                    </a:cubicBezTo>
                    <a:cubicBezTo>
                      <a:pt x="12333" y="7645"/>
                      <a:pt x="12314" y="7657"/>
                      <a:pt x="12343" y="7640"/>
                    </a:cubicBezTo>
                    <a:cubicBezTo>
                      <a:pt x="12376" y="7621"/>
                      <a:pt x="12417" y="7592"/>
                      <a:pt x="12442" y="7560"/>
                    </a:cubicBezTo>
                    <a:cubicBezTo>
                      <a:pt x="12458" y="7540"/>
                      <a:pt x="12460" y="7509"/>
                      <a:pt x="12462" y="7481"/>
                    </a:cubicBezTo>
                    <a:cubicBezTo>
                      <a:pt x="12463" y="7460"/>
                      <a:pt x="12490" y="7373"/>
                      <a:pt x="12482" y="7362"/>
                    </a:cubicBezTo>
                    <a:cubicBezTo>
                      <a:pt x="12472" y="7347"/>
                      <a:pt x="12409" y="7342"/>
                      <a:pt x="12422" y="7302"/>
                    </a:cubicBezTo>
                    <a:cubicBezTo>
                      <a:pt x="12432" y="7271"/>
                      <a:pt x="12482" y="7254"/>
                      <a:pt x="12502" y="7243"/>
                    </a:cubicBezTo>
                    <a:cubicBezTo>
                      <a:pt x="12550" y="7216"/>
                      <a:pt x="12574" y="7201"/>
                      <a:pt x="12621" y="7183"/>
                    </a:cubicBezTo>
                    <a:cubicBezTo>
                      <a:pt x="12655" y="7170"/>
                      <a:pt x="12679" y="7166"/>
                      <a:pt x="12720" y="7164"/>
                    </a:cubicBezTo>
                    <a:cubicBezTo>
                      <a:pt x="12766" y="7162"/>
                      <a:pt x="12803" y="7177"/>
                      <a:pt x="12839" y="7183"/>
                    </a:cubicBezTo>
                    <a:cubicBezTo>
                      <a:pt x="12932" y="7198"/>
                      <a:pt x="12832" y="7186"/>
                      <a:pt x="12898" y="7164"/>
                    </a:cubicBezTo>
                    <a:cubicBezTo>
                      <a:pt x="12987" y="7135"/>
                      <a:pt x="12940" y="7161"/>
                      <a:pt x="12938" y="7164"/>
                    </a:cubicBezTo>
                    <a:cubicBezTo>
                      <a:pt x="12938" y="7170"/>
                      <a:pt x="12938" y="7177"/>
                      <a:pt x="12938" y="7183"/>
                    </a:cubicBezTo>
                    <a:cubicBezTo>
                      <a:pt x="12888" y="7183"/>
                      <a:pt x="12821" y="7212"/>
                      <a:pt x="12779" y="7203"/>
                    </a:cubicBezTo>
                    <a:cubicBezTo>
                      <a:pt x="12731" y="7193"/>
                      <a:pt x="12741" y="7199"/>
                      <a:pt x="12700" y="7203"/>
                    </a:cubicBezTo>
                    <a:cubicBezTo>
                      <a:pt x="12653" y="7207"/>
                      <a:pt x="12639" y="7206"/>
                      <a:pt x="12601" y="7223"/>
                    </a:cubicBezTo>
                    <a:cubicBezTo>
                      <a:pt x="12569" y="7237"/>
                      <a:pt x="12534" y="7252"/>
                      <a:pt x="12502" y="7263"/>
                    </a:cubicBezTo>
                    <a:cubicBezTo>
                      <a:pt x="12468" y="7275"/>
                      <a:pt x="12366" y="7283"/>
                      <a:pt x="12402" y="7283"/>
                    </a:cubicBezTo>
                    <a:cubicBezTo>
                      <a:pt x="12422" y="7283"/>
                      <a:pt x="12429" y="7283"/>
                      <a:pt x="12442" y="7283"/>
                    </a:cubicBezTo>
                    <a:cubicBezTo>
                      <a:pt x="12508" y="7283"/>
                      <a:pt x="12566" y="7288"/>
                      <a:pt x="12621" y="7263"/>
                    </a:cubicBezTo>
                    <a:cubicBezTo>
                      <a:pt x="12657" y="7247"/>
                      <a:pt x="12703" y="7211"/>
                      <a:pt x="12740" y="7203"/>
                    </a:cubicBezTo>
                    <a:cubicBezTo>
                      <a:pt x="12777" y="7195"/>
                      <a:pt x="12800" y="7185"/>
                      <a:pt x="12839" y="7183"/>
                    </a:cubicBezTo>
                    <a:cubicBezTo>
                      <a:pt x="12875" y="7181"/>
                      <a:pt x="12905" y="7174"/>
                      <a:pt x="12938" y="7164"/>
                    </a:cubicBezTo>
                    <a:cubicBezTo>
                      <a:pt x="12943" y="7163"/>
                      <a:pt x="13049" y="7146"/>
                      <a:pt x="13018" y="7183"/>
                    </a:cubicBezTo>
                    <a:cubicBezTo>
                      <a:pt x="12990" y="7216"/>
                      <a:pt x="12986" y="7197"/>
                      <a:pt x="13018" y="7263"/>
                    </a:cubicBezTo>
                    <a:cubicBezTo>
                      <a:pt x="13025" y="7277"/>
                      <a:pt x="13070" y="7325"/>
                      <a:pt x="13057" y="7342"/>
                    </a:cubicBezTo>
                    <a:cubicBezTo>
                      <a:pt x="13044" y="7342"/>
                      <a:pt x="13031" y="7342"/>
                      <a:pt x="13018" y="7342"/>
                    </a:cubicBezTo>
                    <a:cubicBezTo>
                      <a:pt x="12984" y="7321"/>
                      <a:pt x="12957" y="7290"/>
                      <a:pt x="12918" y="7283"/>
                    </a:cubicBezTo>
                    <a:cubicBezTo>
                      <a:pt x="12885" y="7277"/>
                      <a:pt x="12845" y="7267"/>
                      <a:pt x="12819" y="7263"/>
                    </a:cubicBezTo>
                    <a:cubicBezTo>
                      <a:pt x="12798" y="7260"/>
                      <a:pt x="12744" y="7273"/>
                      <a:pt x="12720" y="7283"/>
                    </a:cubicBezTo>
                    <a:cubicBezTo>
                      <a:pt x="12670" y="7304"/>
                      <a:pt x="12617" y="7338"/>
                      <a:pt x="12561" y="7362"/>
                    </a:cubicBezTo>
                    <a:cubicBezTo>
                      <a:pt x="12515" y="7382"/>
                      <a:pt x="12472" y="7394"/>
                      <a:pt x="12422" y="7402"/>
                    </a:cubicBezTo>
                    <a:cubicBezTo>
                      <a:pt x="12378" y="7409"/>
                      <a:pt x="12349" y="7436"/>
                      <a:pt x="12343" y="7481"/>
                    </a:cubicBezTo>
                    <a:cubicBezTo>
                      <a:pt x="12343" y="7501"/>
                      <a:pt x="12343" y="7508"/>
                      <a:pt x="12343" y="7521"/>
                    </a:cubicBezTo>
                    <a:cubicBezTo>
                      <a:pt x="12376" y="7559"/>
                      <a:pt x="12357" y="7573"/>
                      <a:pt x="12422" y="7580"/>
                    </a:cubicBezTo>
                    <a:cubicBezTo>
                      <a:pt x="12468" y="7585"/>
                      <a:pt x="12479" y="7557"/>
                      <a:pt x="12521" y="7541"/>
                    </a:cubicBezTo>
                    <a:cubicBezTo>
                      <a:pt x="12554" y="7528"/>
                      <a:pt x="12588" y="7492"/>
                      <a:pt x="12621" y="7481"/>
                    </a:cubicBezTo>
                    <a:cubicBezTo>
                      <a:pt x="12688" y="7458"/>
                      <a:pt x="12680" y="7493"/>
                      <a:pt x="12640" y="7441"/>
                    </a:cubicBezTo>
                    <a:cubicBezTo>
                      <a:pt x="12626" y="7424"/>
                      <a:pt x="12613" y="7381"/>
                      <a:pt x="12561" y="7402"/>
                    </a:cubicBezTo>
                    <a:cubicBezTo>
                      <a:pt x="12520" y="7419"/>
                      <a:pt x="12511" y="7446"/>
                      <a:pt x="12482" y="7481"/>
                    </a:cubicBezTo>
                    <a:cubicBezTo>
                      <a:pt x="12455" y="7513"/>
                      <a:pt x="12421" y="7543"/>
                      <a:pt x="12402" y="7580"/>
                    </a:cubicBezTo>
                    <a:cubicBezTo>
                      <a:pt x="12357" y="7670"/>
                      <a:pt x="12393" y="7610"/>
                      <a:pt x="12343" y="7640"/>
                    </a:cubicBezTo>
                    <a:cubicBezTo>
                      <a:pt x="12295" y="7669"/>
                      <a:pt x="12305" y="7692"/>
                      <a:pt x="12244" y="7699"/>
                    </a:cubicBezTo>
                    <a:cubicBezTo>
                      <a:pt x="12225" y="7701"/>
                      <a:pt x="12203" y="7699"/>
                      <a:pt x="12184" y="7699"/>
                    </a:cubicBezTo>
                    <a:cubicBezTo>
                      <a:pt x="12213" y="7600"/>
                      <a:pt x="12169" y="7679"/>
                      <a:pt x="12184" y="7600"/>
                    </a:cubicBezTo>
                    <a:cubicBezTo>
                      <a:pt x="12186" y="7589"/>
                      <a:pt x="12218" y="7557"/>
                      <a:pt x="12244" y="7541"/>
                    </a:cubicBezTo>
                    <a:cubicBezTo>
                      <a:pt x="12303" y="7504"/>
                      <a:pt x="12340" y="7481"/>
                      <a:pt x="12402" y="7441"/>
                    </a:cubicBezTo>
                    <a:cubicBezTo>
                      <a:pt x="12547" y="7349"/>
                      <a:pt x="12686" y="7243"/>
                      <a:pt x="12839" y="7164"/>
                    </a:cubicBezTo>
                    <a:cubicBezTo>
                      <a:pt x="12880" y="7143"/>
                      <a:pt x="12919" y="7127"/>
                      <a:pt x="12958" y="7104"/>
                    </a:cubicBezTo>
                    <a:cubicBezTo>
                      <a:pt x="12970" y="7140"/>
                      <a:pt x="12989" y="7154"/>
                      <a:pt x="12978" y="7203"/>
                    </a:cubicBezTo>
                    <a:cubicBezTo>
                      <a:pt x="12977" y="7208"/>
                      <a:pt x="12935" y="7290"/>
                      <a:pt x="12958" y="7302"/>
                    </a:cubicBezTo>
                    <a:cubicBezTo>
                      <a:pt x="12973" y="7310"/>
                      <a:pt x="13057" y="7338"/>
                      <a:pt x="13077" y="7342"/>
                    </a:cubicBezTo>
                    <a:cubicBezTo>
                      <a:pt x="13112" y="7349"/>
                      <a:pt x="13188" y="7360"/>
                      <a:pt x="13196" y="7362"/>
                    </a:cubicBezTo>
                    <a:cubicBezTo>
                      <a:pt x="13215" y="7366"/>
                      <a:pt x="13237" y="7359"/>
                      <a:pt x="13256" y="7362"/>
                    </a:cubicBezTo>
                    <a:cubicBezTo>
                      <a:pt x="13301" y="7316"/>
                      <a:pt x="13259" y="7309"/>
                      <a:pt x="13196" y="7302"/>
                    </a:cubicBezTo>
                    <a:cubicBezTo>
                      <a:pt x="13128" y="7295"/>
                      <a:pt x="13063" y="7293"/>
                      <a:pt x="12998" y="7283"/>
                    </a:cubicBezTo>
                    <a:cubicBezTo>
                      <a:pt x="12951" y="7276"/>
                      <a:pt x="12914" y="7296"/>
                      <a:pt x="12879" y="7302"/>
                    </a:cubicBezTo>
                    <a:cubicBezTo>
                      <a:pt x="12798" y="7315"/>
                      <a:pt x="12889" y="7330"/>
                      <a:pt x="12839" y="7362"/>
                    </a:cubicBezTo>
                    <a:cubicBezTo>
                      <a:pt x="12826" y="7362"/>
                      <a:pt x="12812" y="7362"/>
                      <a:pt x="12799" y="7362"/>
                    </a:cubicBezTo>
                    <a:cubicBezTo>
                      <a:pt x="12828" y="7376"/>
                      <a:pt x="12863" y="7395"/>
                      <a:pt x="12898" y="7402"/>
                    </a:cubicBezTo>
                    <a:cubicBezTo>
                      <a:pt x="12946" y="7411"/>
                      <a:pt x="12983" y="7388"/>
                      <a:pt x="13018" y="7382"/>
                    </a:cubicBezTo>
                    <a:cubicBezTo>
                      <a:pt x="13074" y="7373"/>
                      <a:pt x="13083" y="7346"/>
                      <a:pt x="13137" y="7322"/>
                    </a:cubicBezTo>
                    <a:cubicBezTo>
                      <a:pt x="13184" y="7301"/>
                      <a:pt x="13185" y="7298"/>
                      <a:pt x="13216" y="7263"/>
                    </a:cubicBezTo>
                    <a:cubicBezTo>
                      <a:pt x="13236" y="7241"/>
                      <a:pt x="13243" y="7223"/>
                      <a:pt x="13256" y="7203"/>
                    </a:cubicBezTo>
                    <a:cubicBezTo>
                      <a:pt x="13247" y="7135"/>
                      <a:pt x="13261" y="7142"/>
                      <a:pt x="13196" y="7104"/>
                    </a:cubicBezTo>
                    <a:cubicBezTo>
                      <a:pt x="13160" y="7083"/>
                      <a:pt x="13134" y="7099"/>
                      <a:pt x="13097" y="7084"/>
                    </a:cubicBezTo>
                    <a:cubicBezTo>
                      <a:pt x="13067" y="7072"/>
                      <a:pt x="13029" y="7032"/>
                      <a:pt x="12998" y="7025"/>
                    </a:cubicBezTo>
                    <a:cubicBezTo>
                      <a:pt x="12972" y="7019"/>
                      <a:pt x="12918" y="7008"/>
                      <a:pt x="12898" y="7005"/>
                    </a:cubicBezTo>
                    <a:cubicBezTo>
                      <a:pt x="12850" y="6997"/>
                      <a:pt x="12796" y="7003"/>
                      <a:pt x="12760" y="7025"/>
                    </a:cubicBezTo>
                    <a:cubicBezTo>
                      <a:pt x="12729" y="7044"/>
                      <a:pt x="12695" y="7084"/>
                      <a:pt x="12680" y="7104"/>
                    </a:cubicBezTo>
                    <a:cubicBezTo>
                      <a:pt x="12648" y="7144"/>
                      <a:pt x="12641" y="7174"/>
                      <a:pt x="12621" y="7203"/>
                    </a:cubicBezTo>
                    <a:cubicBezTo>
                      <a:pt x="12581" y="7262"/>
                      <a:pt x="12565" y="7259"/>
                      <a:pt x="12581" y="7322"/>
                    </a:cubicBezTo>
                    <a:cubicBezTo>
                      <a:pt x="12649" y="7322"/>
                      <a:pt x="12702" y="7320"/>
                      <a:pt x="12760" y="7302"/>
                    </a:cubicBezTo>
                    <a:cubicBezTo>
                      <a:pt x="12811" y="7287"/>
                      <a:pt x="12829" y="7266"/>
                      <a:pt x="12859" y="7243"/>
                    </a:cubicBezTo>
                    <a:cubicBezTo>
                      <a:pt x="12901" y="7211"/>
                      <a:pt x="12894" y="7192"/>
                      <a:pt x="12898" y="7144"/>
                    </a:cubicBezTo>
                    <a:cubicBezTo>
                      <a:pt x="12898" y="7124"/>
                      <a:pt x="12898" y="7117"/>
                      <a:pt x="12898" y="7104"/>
                    </a:cubicBezTo>
                    <a:cubicBezTo>
                      <a:pt x="12854" y="7089"/>
                      <a:pt x="12880" y="7085"/>
                      <a:pt x="12839" y="7064"/>
                    </a:cubicBezTo>
                    <a:cubicBezTo>
                      <a:pt x="12795" y="7041"/>
                      <a:pt x="12769" y="7045"/>
                      <a:pt x="12720" y="7045"/>
                    </a:cubicBezTo>
                    <a:cubicBezTo>
                      <a:pt x="12672" y="7045"/>
                      <a:pt x="12615" y="7083"/>
                      <a:pt x="12601" y="7084"/>
                    </a:cubicBezTo>
                    <a:cubicBezTo>
                      <a:pt x="12568" y="7086"/>
                      <a:pt x="12533" y="7082"/>
                      <a:pt x="12502" y="7084"/>
                    </a:cubicBezTo>
                    <a:cubicBezTo>
                      <a:pt x="12432" y="7089"/>
                      <a:pt x="12421" y="7109"/>
                      <a:pt x="12363" y="7124"/>
                    </a:cubicBezTo>
                    <a:cubicBezTo>
                      <a:pt x="12337" y="7131"/>
                      <a:pt x="12234" y="7157"/>
                      <a:pt x="12224" y="7183"/>
                    </a:cubicBezTo>
                    <a:cubicBezTo>
                      <a:pt x="12216" y="7204"/>
                      <a:pt x="12244" y="7220"/>
                      <a:pt x="12244" y="7243"/>
                    </a:cubicBezTo>
                    <a:cubicBezTo>
                      <a:pt x="12277" y="7243"/>
                      <a:pt x="12257" y="7211"/>
                      <a:pt x="12263" y="7243"/>
                    </a:cubicBezTo>
                    <a:cubicBezTo>
                      <a:pt x="12265" y="7255"/>
                      <a:pt x="12302" y="7262"/>
                      <a:pt x="12323" y="7263"/>
                    </a:cubicBezTo>
                    <a:cubicBezTo>
                      <a:pt x="12378" y="7266"/>
                      <a:pt x="12413" y="7265"/>
                      <a:pt x="12462" y="7243"/>
                    </a:cubicBezTo>
                    <a:cubicBezTo>
                      <a:pt x="12498" y="7227"/>
                      <a:pt x="12510" y="7199"/>
                      <a:pt x="12541" y="7183"/>
                    </a:cubicBezTo>
                    <a:cubicBezTo>
                      <a:pt x="12569" y="7169"/>
                      <a:pt x="12613" y="7158"/>
                      <a:pt x="12640" y="7144"/>
                    </a:cubicBezTo>
                    <a:cubicBezTo>
                      <a:pt x="12713" y="7107"/>
                      <a:pt x="12625" y="7093"/>
                      <a:pt x="12581" y="7084"/>
                    </a:cubicBezTo>
                    <a:cubicBezTo>
                      <a:pt x="12547" y="7077"/>
                      <a:pt x="12521" y="7070"/>
                      <a:pt x="12521" y="7104"/>
                    </a:cubicBezTo>
                    <a:cubicBezTo>
                      <a:pt x="12528" y="7104"/>
                      <a:pt x="12534" y="7104"/>
                      <a:pt x="12541" y="7104"/>
                    </a:cubicBezTo>
                    <a:cubicBezTo>
                      <a:pt x="12574" y="7092"/>
                      <a:pt x="12605" y="7070"/>
                      <a:pt x="12640" y="7064"/>
                    </a:cubicBezTo>
                    <a:cubicBezTo>
                      <a:pt x="12688" y="7056"/>
                      <a:pt x="12709" y="7048"/>
                      <a:pt x="12760" y="7045"/>
                    </a:cubicBezTo>
                    <a:cubicBezTo>
                      <a:pt x="12895" y="7038"/>
                      <a:pt x="13071" y="7045"/>
                      <a:pt x="13176" y="7064"/>
                    </a:cubicBezTo>
                    <a:cubicBezTo>
                      <a:pt x="13217" y="7071"/>
                      <a:pt x="13206" y="7072"/>
                      <a:pt x="13236" y="7084"/>
                    </a:cubicBezTo>
                    <a:cubicBezTo>
                      <a:pt x="13264" y="7095"/>
                      <a:pt x="13288" y="7109"/>
                      <a:pt x="13315" y="7124"/>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397400" y="3042720"/>
                <a:ext cx="263520" cy="436320"/>
              </a:xfrm>
              <a:custGeom>
                <a:avLst/>
                <a:gdLst/>
                <a:ahLst/>
                <a:rect l="l" t="t" r="r" b="b"/>
                <a:pathLst>
                  <a:path w="735" h="1211">
                    <a:moveTo>
                      <a:pt x="12382" y="8890"/>
                    </a:moveTo>
                    <a:cubicBezTo>
                      <a:pt x="12397" y="8929"/>
                      <a:pt x="12361" y="8921"/>
                      <a:pt x="12402" y="8930"/>
                    </a:cubicBezTo>
                    <a:cubicBezTo>
                      <a:pt x="12434" y="8937"/>
                      <a:pt x="12368" y="8939"/>
                      <a:pt x="12382" y="8969"/>
                    </a:cubicBezTo>
                    <a:cubicBezTo>
                      <a:pt x="12410" y="8969"/>
                      <a:pt x="12421" y="8976"/>
                      <a:pt x="12422" y="9009"/>
                    </a:cubicBezTo>
                    <a:cubicBezTo>
                      <a:pt x="12415" y="8996"/>
                      <a:pt x="12409" y="8982"/>
                      <a:pt x="12402" y="8969"/>
                    </a:cubicBezTo>
                    <a:cubicBezTo>
                      <a:pt x="12408" y="9001"/>
                      <a:pt x="12363" y="9003"/>
                      <a:pt x="12382" y="9029"/>
                    </a:cubicBezTo>
                    <a:cubicBezTo>
                      <a:pt x="12402" y="9029"/>
                      <a:pt x="12409" y="9029"/>
                      <a:pt x="12422" y="9029"/>
                    </a:cubicBezTo>
                    <a:cubicBezTo>
                      <a:pt x="12389" y="8996"/>
                      <a:pt x="12365" y="9036"/>
                      <a:pt x="12363" y="8989"/>
                    </a:cubicBezTo>
                    <a:cubicBezTo>
                      <a:pt x="12369" y="8989"/>
                      <a:pt x="12376" y="8989"/>
                      <a:pt x="12382" y="8989"/>
                    </a:cubicBezTo>
                    <a:cubicBezTo>
                      <a:pt x="12406" y="9031"/>
                      <a:pt x="12407" y="9042"/>
                      <a:pt x="12422" y="9069"/>
                    </a:cubicBezTo>
                    <a:cubicBezTo>
                      <a:pt x="12431" y="9084"/>
                      <a:pt x="12474" y="9112"/>
                      <a:pt x="12482" y="9148"/>
                    </a:cubicBezTo>
                    <a:cubicBezTo>
                      <a:pt x="12492" y="9191"/>
                      <a:pt x="12498" y="9189"/>
                      <a:pt x="12521" y="9227"/>
                    </a:cubicBezTo>
                    <a:cubicBezTo>
                      <a:pt x="12540" y="9258"/>
                      <a:pt x="12553" y="9272"/>
                      <a:pt x="12561" y="9307"/>
                    </a:cubicBezTo>
                    <a:cubicBezTo>
                      <a:pt x="12567" y="9335"/>
                      <a:pt x="12561" y="9337"/>
                      <a:pt x="12561" y="9366"/>
                    </a:cubicBezTo>
                    <a:cubicBezTo>
                      <a:pt x="12561" y="9399"/>
                      <a:pt x="12569" y="9419"/>
                      <a:pt x="12581" y="9446"/>
                    </a:cubicBezTo>
                    <a:cubicBezTo>
                      <a:pt x="12595" y="9476"/>
                      <a:pt x="12624" y="9494"/>
                      <a:pt x="12640" y="9525"/>
                    </a:cubicBezTo>
                    <a:cubicBezTo>
                      <a:pt x="12654" y="9552"/>
                      <a:pt x="12665" y="9608"/>
                      <a:pt x="12680" y="9624"/>
                    </a:cubicBezTo>
                    <a:cubicBezTo>
                      <a:pt x="12696" y="9641"/>
                      <a:pt x="12732" y="9649"/>
                      <a:pt x="12740" y="9684"/>
                    </a:cubicBezTo>
                    <a:cubicBezTo>
                      <a:pt x="12752" y="9736"/>
                      <a:pt x="12742" y="9741"/>
                      <a:pt x="12779" y="9783"/>
                    </a:cubicBezTo>
                    <a:cubicBezTo>
                      <a:pt x="12800" y="9807"/>
                      <a:pt x="12827" y="9830"/>
                      <a:pt x="12839" y="9842"/>
                    </a:cubicBezTo>
                    <a:cubicBezTo>
                      <a:pt x="12860" y="9863"/>
                      <a:pt x="12887" y="9845"/>
                      <a:pt x="12918" y="9862"/>
                    </a:cubicBezTo>
                    <a:cubicBezTo>
                      <a:pt x="12946" y="9877"/>
                      <a:pt x="12984" y="9928"/>
                      <a:pt x="12998" y="9942"/>
                    </a:cubicBezTo>
                    <a:cubicBezTo>
                      <a:pt x="13011" y="9955"/>
                      <a:pt x="13040" y="9992"/>
                      <a:pt x="13057" y="10021"/>
                    </a:cubicBezTo>
                    <a:cubicBezTo>
                      <a:pt x="13075" y="10051"/>
                      <a:pt x="13079" y="10064"/>
                      <a:pt x="13097" y="10100"/>
                    </a:cubicBezTo>
                    <a:cubicBezTo>
                      <a:pt x="13090" y="10045"/>
                      <a:pt x="13094" y="10028"/>
                      <a:pt x="13057" y="9981"/>
                    </a:cubicBezTo>
                    <a:cubicBezTo>
                      <a:pt x="13041" y="9960"/>
                      <a:pt x="12962" y="9844"/>
                      <a:pt x="12958" y="9842"/>
                    </a:cubicBezTo>
                    <a:cubicBezTo>
                      <a:pt x="12918" y="9815"/>
                      <a:pt x="12904" y="9814"/>
                      <a:pt x="12879" y="9763"/>
                    </a:cubicBezTo>
                    <a:cubicBezTo>
                      <a:pt x="12874" y="9752"/>
                      <a:pt x="12839" y="9691"/>
                      <a:pt x="12819" y="9664"/>
                    </a:cubicBezTo>
                    <a:cubicBezTo>
                      <a:pt x="12792" y="9628"/>
                      <a:pt x="12776" y="9606"/>
                      <a:pt x="12740" y="9585"/>
                    </a:cubicBezTo>
                    <a:cubicBezTo>
                      <a:pt x="12725" y="9576"/>
                      <a:pt x="12673" y="9539"/>
                      <a:pt x="12660" y="9525"/>
                    </a:cubicBezTo>
                    <a:cubicBezTo>
                      <a:pt x="12632" y="9495"/>
                      <a:pt x="12619" y="9483"/>
                      <a:pt x="12601" y="9446"/>
                    </a:cubicBezTo>
                    <a:cubicBezTo>
                      <a:pt x="12584" y="9412"/>
                      <a:pt x="12583" y="9367"/>
                      <a:pt x="12581" y="9327"/>
                    </a:cubicBezTo>
                    <a:cubicBezTo>
                      <a:pt x="12578" y="9265"/>
                      <a:pt x="12553" y="9271"/>
                      <a:pt x="12541" y="9247"/>
                    </a:cubicBezTo>
                    <a:cubicBezTo>
                      <a:pt x="12509" y="9185"/>
                      <a:pt x="12536" y="9207"/>
                      <a:pt x="12482" y="9148"/>
                    </a:cubicBezTo>
                    <a:cubicBezTo>
                      <a:pt x="12457" y="9120"/>
                      <a:pt x="12472" y="9111"/>
                      <a:pt x="12442" y="9088"/>
                    </a:cubicBezTo>
                    <a:cubicBezTo>
                      <a:pt x="12409" y="9062"/>
                      <a:pt x="12374" y="9041"/>
                      <a:pt x="12363" y="8989"/>
                    </a:cubicBezTo>
                    <a:cubicBezTo>
                      <a:pt x="12358" y="8968"/>
                      <a:pt x="12363" y="8930"/>
                      <a:pt x="12363" y="8910"/>
                    </a:cubicBezTo>
                  </a:path>
                </a:pathLst>
              </a:custGeom>
              <a:noFill/>
              <a:ln cap="rnd" w="3492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10000" y="2985480"/>
                <a:ext cx="73080" cy="50400"/>
              </a:xfrm>
              <a:custGeom>
                <a:avLst/>
                <a:gdLst/>
                <a:ahLst/>
                <a:rect l="l" t="t" r="r" b="b"/>
                <a:pathLst>
                  <a:path w="200" h="140">
                    <a:moveTo>
                      <a:pt x="12402" y="8870"/>
                    </a:moveTo>
                    <a:cubicBezTo>
                      <a:pt x="12448" y="8836"/>
                      <a:pt x="12465" y="8850"/>
                      <a:pt x="12482" y="8791"/>
                    </a:cubicBezTo>
                    <a:cubicBezTo>
                      <a:pt x="12541" y="8779"/>
                      <a:pt x="12549" y="8746"/>
                      <a:pt x="12601" y="8731"/>
                    </a:cubicBezTo>
                  </a:path>
                </a:pathLst>
              </a:custGeom>
              <a:noFill/>
              <a:ln cap="rnd" w="3492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1" name=""/>
              <p:cNvSpPr/>
              <p:nvPr/>
            </p:nvSpPr>
            <p:spPr>
              <a:xfrm>
                <a:off x="4897440" y="2914200"/>
                <a:ext cx="120600" cy="56880"/>
              </a:xfrm>
              <a:custGeom>
                <a:avLst/>
                <a:gdLst/>
                <a:ahLst/>
                <a:rect l="l" t="t" r="r" b="b"/>
                <a:pathLst>
                  <a:path w="338" h="160">
                    <a:moveTo>
                      <a:pt x="13772" y="8533"/>
                    </a:moveTo>
                    <a:cubicBezTo>
                      <a:pt x="13779" y="8555"/>
                      <a:pt x="13820" y="8568"/>
                      <a:pt x="13831" y="8572"/>
                    </a:cubicBezTo>
                    <a:cubicBezTo>
                      <a:pt x="13857" y="8582"/>
                      <a:pt x="13872" y="8590"/>
                      <a:pt x="13891" y="8592"/>
                    </a:cubicBezTo>
                    <a:cubicBezTo>
                      <a:pt x="13941" y="8598"/>
                      <a:pt x="13848" y="8603"/>
                      <a:pt x="13871" y="8672"/>
                    </a:cubicBezTo>
                    <a:cubicBezTo>
                      <a:pt x="13871" y="8673"/>
                      <a:pt x="13979" y="8672"/>
                      <a:pt x="13871" y="8672"/>
                    </a:cubicBezTo>
                    <a:cubicBezTo>
                      <a:pt x="13909" y="8672"/>
                      <a:pt x="13934" y="8688"/>
                      <a:pt x="13970" y="8692"/>
                    </a:cubicBezTo>
                    <a:cubicBezTo>
                      <a:pt x="14009" y="8696"/>
                      <a:pt x="14050" y="8692"/>
                      <a:pt x="14089" y="8692"/>
                    </a:cubicBezTo>
                    <a:cubicBezTo>
                      <a:pt x="14051" y="8670"/>
                      <a:pt x="14054" y="8652"/>
                      <a:pt x="14010" y="8652"/>
                    </a:cubicBezTo>
                    <a:cubicBezTo>
                      <a:pt x="13977" y="8652"/>
                      <a:pt x="13983" y="8652"/>
                      <a:pt x="13950" y="8652"/>
                    </a:cubicBezTo>
                    <a:cubicBezTo>
                      <a:pt x="13893" y="8652"/>
                      <a:pt x="13880" y="8612"/>
                      <a:pt x="13831" y="8592"/>
                    </a:cubicBezTo>
                    <a:cubicBezTo>
                      <a:pt x="13801" y="8580"/>
                      <a:pt x="13782" y="8590"/>
                      <a:pt x="13752" y="8572"/>
                    </a:cubicBezTo>
                  </a:path>
                </a:pathLst>
              </a:custGeom>
              <a:noFill/>
              <a:ln cap="rnd" w="3492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 name=""/>
              <p:cNvSpPr/>
              <p:nvPr/>
            </p:nvSpPr>
            <p:spPr>
              <a:xfrm>
                <a:off x="4632480" y="2977560"/>
                <a:ext cx="379080" cy="622080"/>
              </a:xfrm>
              <a:custGeom>
                <a:avLst/>
                <a:gdLst/>
                <a:ahLst/>
                <a:rect l="l" t="t" r="r" b="b"/>
                <a:pathLst>
                  <a:path w="1052" h="1728">
                    <a:moveTo>
                      <a:pt x="14069" y="8711"/>
                    </a:moveTo>
                    <a:cubicBezTo>
                      <a:pt x="14069" y="8819"/>
                      <a:pt x="14081" y="8913"/>
                      <a:pt x="14030" y="8989"/>
                    </a:cubicBezTo>
                    <a:cubicBezTo>
                      <a:pt x="13997" y="9038"/>
                      <a:pt x="13988" y="9061"/>
                      <a:pt x="13950" y="9108"/>
                    </a:cubicBezTo>
                    <a:cubicBezTo>
                      <a:pt x="13930" y="9132"/>
                      <a:pt x="13926" y="9157"/>
                      <a:pt x="13891" y="9188"/>
                    </a:cubicBezTo>
                    <a:cubicBezTo>
                      <a:pt x="13874" y="9203"/>
                      <a:pt x="13869" y="9252"/>
                      <a:pt x="13851" y="9267"/>
                    </a:cubicBezTo>
                    <a:cubicBezTo>
                      <a:pt x="13813" y="9300"/>
                      <a:pt x="13804" y="9338"/>
                      <a:pt x="13772" y="9366"/>
                    </a:cubicBezTo>
                    <a:cubicBezTo>
                      <a:pt x="13718" y="9413"/>
                      <a:pt x="13764" y="9407"/>
                      <a:pt x="13732" y="9446"/>
                    </a:cubicBezTo>
                    <a:cubicBezTo>
                      <a:pt x="13719" y="9462"/>
                      <a:pt x="13634" y="9523"/>
                      <a:pt x="13633" y="9525"/>
                    </a:cubicBezTo>
                    <a:cubicBezTo>
                      <a:pt x="13621" y="9550"/>
                      <a:pt x="13638" y="9596"/>
                      <a:pt x="13633" y="9624"/>
                    </a:cubicBezTo>
                    <a:cubicBezTo>
                      <a:pt x="13605" y="9596"/>
                      <a:pt x="13605" y="9661"/>
                      <a:pt x="13593" y="9624"/>
                    </a:cubicBezTo>
                    <a:cubicBezTo>
                      <a:pt x="13580" y="9585"/>
                      <a:pt x="13592" y="9587"/>
                      <a:pt x="13573" y="9624"/>
                    </a:cubicBezTo>
                    <a:cubicBezTo>
                      <a:pt x="13561" y="9648"/>
                      <a:pt x="13572" y="9701"/>
                      <a:pt x="13553" y="9723"/>
                    </a:cubicBezTo>
                    <a:cubicBezTo>
                      <a:pt x="13533" y="9746"/>
                      <a:pt x="13471" y="9776"/>
                      <a:pt x="13454" y="9803"/>
                    </a:cubicBezTo>
                    <a:cubicBezTo>
                      <a:pt x="13435" y="9834"/>
                      <a:pt x="13414" y="9886"/>
                      <a:pt x="13395" y="9922"/>
                    </a:cubicBezTo>
                    <a:cubicBezTo>
                      <a:pt x="13378" y="9955"/>
                      <a:pt x="13360" y="10009"/>
                      <a:pt x="13335" y="10041"/>
                    </a:cubicBezTo>
                    <a:cubicBezTo>
                      <a:pt x="13311" y="10072"/>
                      <a:pt x="13275" y="10059"/>
                      <a:pt x="13236" y="10081"/>
                    </a:cubicBezTo>
                    <a:cubicBezTo>
                      <a:pt x="13192" y="10106"/>
                      <a:pt x="13187" y="10107"/>
                      <a:pt x="13137" y="10120"/>
                    </a:cubicBezTo>
                    <a:cubicBezTo>
                      <a:pt x="13071" y="10138"/>
                      <a:pt x="13088" y="10144"/>
                      <a:pt x="13057" y="10200"/>
                    </a:cubicBezTo>
                    <a:cubicBezTo>
                      <a:pt x="13043" y="10225"/>
                      <a:pt x="13017" y="10266"/>
                      <a:pt x="13018" y="10299"/>
                    </a:cubicBezTo>
                    <a:cubicBezTo>
                      <a:pt x="13019" y="10324"/>
                      <a:pt x="13022" y="10362"/>
                      <a:pt x="13037" y="10378"/>
                    </a:cubicBezTo>
                    <a:cubicBezTo>
                      <a:pt x="13060" y="10403"/>
                      <a:pt x="13090" y="10404"/>
                      <a:pt x="13117" y="10418"/>
                    </a:cubicBezTo>
                    <a:cubicBezTo>
                      <a:pt x="13165" y="10442"/>
                      <a:pt x="13188" y="10447"/>
                      <a:pt x="13236" y="10418"/>
                    </a:cubicBezTo>
                    <a:cubicBezTo>
                      <a:pt x="13282" y="10390"/>
                      <a:pt x="13304" y="10379"/>
                      <a:pt x="13315" y="10339"/>
                    </a:cubicBezTo>
                    <a:cubicBezTo>
                      <a:pt x="13333" y="10275"/>
                      <a:pt x="13292" y="10281"/>
                      <a:pt x="13275" y="10259"/>
                    </a:cubicBezTo>
                    <a:cubicBezTo>
                      <a:pt x="13240" y="10215"/>
                      <a:pt x="13243" y="10214"/>
                      <a:pt x="13196" y="10180"/>
                    </a:cubicBezTo>
                    <a:cubicBezTo>
                      <a:pt x="13178" y="10162"/>
                      <a:pt x="13174" y="10155"/>
                      <a:pt x="13156" y="10160"/>
                    </a:cubicBezTo>
                    <a:cubicBezTo>
                      <a:pt x="13145" y="10191"/>
                      <a:pt x="13118" y="10195"/>
                      <a:pt x="13117" y="10220"/>
                    </a:cubicBezTo>
                    <a:cubicBezTo>
                      <a:pt x="13117" y="10227"/>
                      <a:pt x="13132" y="10298"/>
                      <a:pt x="13137" y="10319"/>
                    </a:cubicBezTo>
                    <a:cubicBezTo>
                      <a:pt x="13147" y="10360"/>
                      <a:pt x="13156" y="10342"/>
                      <a:pt x="13196" y="10358"/>
                    </a:cubicBezTo>
                    <a:cubicBezTo>
                      <a:pt x="13203" y="10358"/>
                      <a:pt x="13209" y="10358"/>
                      <a:pt x="13216" y="10358"/>
                    </a:cubicBezTo>
                    <a:cubicBezTo>
                      <a:pt x="13083" y="10358"/>
                      <a:pt x="13309" y="10358"/>
                      <a:pt x="13176" y="10358"/>
                    </a:cubicBezTo>
                    <a:cubicBezTo>
                      <a:pt x="13192" y="10346"/>
                      <a:pt x="13261" y="10345"/>
                      <a:pt x="13256" y="10299"/>
                    </a:cubicBezTo>
                    <a:cubicBezTo>
                      <a:pt x="13252" y="10263"/>
                      <a:pt x="13236" y="10238"/>
                      <a:pt x="13216" y="10220"/>
                    </a:cubicBezTo>
                    <a:cubicBezTo>
                      <a:pt x="13183" y="10189"/>
                      <a:pt x="13126" y="10191"/>
                      <a:pt x="13097" y="10220"/>
                    </a:cubicBezTo>
                    <a:cubicBezTo>
                      <a:pt x="13068" y="10249"/>
                      <a:pt x="13054" y="10262"/>
                      <a:pt x="13037" y="10299"/>
                    </a:cubicBezTo>
                    <a:cubicBezTo>
                      <a:pt x="13037" y="10312"/>
                      <a:pt x="13037" y="10326"/>
                      <a:pt x="13037" y="10339"/>
                    </a:cubicBezTo>
                    <a:cubicBezTo>
                      <a:pt x="13062" y="10368"/>
                      <a:pt x="13063" y="10395"/>
                      <a:pt x="13077" y="10398"/>
                    </a:cubicBezTo>
                    <a:cubicBezTo>
                      <a:pt x="13133" y="10408"/>
                      <a:pt x="13212" y="10403"/>
                      <a:pt x="13256" y="10378"/>
                    </a:cubicBezTo>
                    <a:cubicBezTo>
                      <a:pt x="13292" y="10358"/>
                      <a:pt x="13309" y="10315"/>
                      <a:pt x="13315" y="10279"/>
                    </a:cubicBezTo>
                    <a:cubicBezTo>
                      <a:pt x="13319" y="10254"/>
                      <a:pt x="13313" y="10225"/>
                      <a:pt x="13315" y="10200"/>
                    </a:cubicBezTo>
                    <a:cubicBezTo>
                      <a:pt x="13293" y="10195"/>
                      <a:pt x="13279" y="10197"/>
                      <a:pt x="13236" y="10180"/>
                    </a:cubicBezTo>
                    <a:cubicBezTo>
                      <a:pt x="13167" y="10152"/>
                      <a:pt x="13222" y="10187"/>
                      <a:pt x="13156" y="10220"/>
                    </a:cubicBezTo>
                    <a:cubicBezTo>
                      <a:pt x="13170" y="10252"/>
                      <a:pt x="13174" y="10273"/>
                      <a:pt x="13176" y="10279"/>
                    </a:cubicBezTo>
                    <a:cubicBezTo>
                      <a:pt x="13179" y="10286"/>
                      <a:pt x="13189" y="10332"/>
                      <a:pt x="13196" y="10339"/>
                    </a:cubicBezTo>
                    <a:cubicBezTo>
                      <a:pt x="13204" y="10347"/>
                      <a:pt x="13246" y="10351"/>
                      <a:pt x="13256" y="10358"/>
                    </a:cubicBezTo>
                    <a:cubicBezTo>
                      <a:pt x="13263" y="10335"/>
                      <a:pt x="13296" y="10267"/>
                      <a:pt x="13275" y="10239"/>
                    </a:cubicBezTo>
                    <a:cubicBezTo>
                      <a:pt x="13262" y="10239"/>
                      <a:pt x="13249" y="10239"/>
                      <a:pt x="13236" y="10239"/>
                    </a:cubicBezTo>
                  </a:path>
                </a:pathLst>
              </a:custGeom>
              <a:noFill/>
              <a:ln cap="rnd" w="3492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 name=""/>
          <p:cNvGrpSpPr/>
          <p:nvPr/>
        </p:nvGrpSpPr>
        <p:grpSpPr>
          <a:xfrm>
            <a:off x="1924200" y="115920"/>
            <a:ext cx="5293800" cy="5956200"/>
            <a:chOff x="1924200" y="115920"/>
            <a:chExt cx="5293800" cy="5956200"/>
          </a:xfrm>
        </p:grpSpPr>
        <p:grpSp>
          <p:nvGrpSpPr>
            <p:cNvPr id="74" name=""/>
            <p:cNvGrpSpPr/>
            <p:nvPr/>
          </p:nvGrpSpPr>
          <p:grpSpPr>
            <a:xfrm>
              <a:off x="2665440" y="115920"/>
              <a:ext cx="3744360" cy="5689440"/>
              <a:chOff x="2665440" y="115920"/>
              <a:chExt cx="3744360" cy="5689440"/>
            </a:xfrm>
          </p:grpSpPr>
          <p:sp>
            <p:nvSpPr>
              <p:cNvPr id="75" name=""/>
              <p:cNvSpPr/>
              <p:nvPr/>
            </p:nvSpPr>
            <p:spPr>
              <a:xfrm>
                <a:off x="2666520" y="1341360"/>
                <a:ext cx="791640" cy="44640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617800" y="1341360"/>
                <a:ext cx="791640" cy="44640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457080" y="4653000"/>
                <a:ext cx="2160360" cy="115236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457080" y="4437000"/>
                <a:ext cx="2160360" cy="2160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457080" y="1341360"/>
                <a:ext cx="2160360" cy="647640"/>
              </a:xfrm>
              <a:prstGeom prst="rect">
                <a:avLst/>
              </a:prstGeom>
              <a:solidFill>
                <a:srgbClr val="990000"/>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665440" y="115920"/>
                <a:ext cx="3744360" cy="12254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p:nvPr/>
          </p:nvSpPr>
          <p:spPr>
            <a:xfrm>
              <a:off x="1924200" y="5686560"/>
              <a:ext cx="5222520" cy="365040"/>
            </a:xfrm>
            <a:custGeom>
              <a:avLst/>
              <a:gdLst/>
              <a:ahLst/>
              <a:rect l="l" t="t" r="r" b="b"/>
              <a:pathLst>
                <a:path w="14507" h="1013">
                  <a:moveTo>
                    <a:pt x="5437" y="16153"/>
                  </a:moveTo>
                  <a:cubicBezTo>
                    <a:pt x="5484" y="16153"/>
                    <a:pt x="5489" y="16167"/>
                    <a:pt x="5536" y="16173"/>
                  </a:cubicBezTo>
                  <a:cubicBezTo>
                    <a:pt x="5594" y="16180"/>
                    <a:pt x="5563" y="16157"/>
                    <a:pt x="5616" y="16133"/>
                  </a:cubicBezTo>
                  <a:cubicBezTo>
                    <a:pt x="5648" y="16119"/>
                    <a:pt x="5568" y="16212"/>
                    <a:pt x="5596" y="16192"/>
                  </a:cubicBezTo>
                  <a:cubicBezTo>
                    <a:pt x="5616" y="16178"/>
                    <a:pt x="5658" y="16103"/>
                    <a:pt x="5675" y="16093"/>
                  </a:cubicBezTo>
                  <a:cubicBezTo>
                    <a:pt x="5686" y="16117"/>
                    <a:pt x="5633" y="16190"/>
                    <a:pt x="5636" y="16192"/>
                  </a:cubicBezTo>
                  <a:cubicBezTo>
                    <a:pt x="5643" y="16197"/>
                    <a:pt x="5582" y="16247"/>
                    <a:pt x="5655" y="16252"/>
                  </a:cubicBezTo>
                  <a:cubicBezTo>
                    <a:pt x="5748" y="16258"/>
                    <a:pt x="5785" y="16202"/>
                    <a:pt x="5874" y="16232"/>
                  </a:cubicBezTo>
                  <a:cubicBezTo>
                    <a:pt x="5906" y="16243"/>
                    <a:pt x="5783" y="16283"/>
                    <a:pt x="5814" y="16272"/>
                  </a:cubicBezTo>
                  <a:cubicBezTo>
                    <a:pt x="5814" y="16259"/>
                    <a:pt x="5814" y="16245"/>
                    <a:pt x="5814" y="16232"/>
                  </a:cubicBezTo>
                  <a:cubicBezTo>
                    <a:pt x="5843" y="16255"/>
                    <a:pt x="5912" y="16297"/>
                    <a:pt x="5933" y="16312"/>
                  </a:cubicBezTo>
                  <a:cubicBezTo>
                    <a:pt x="5953" y="16326"/>
                    <a:pt x="5889" y="16410"/>
                    <a:pt x="5913" y="16411"/>
                  </a:cubicBezTo>
                  <a:cubicBezTo>
                    <a:pt x="5998" y="16414"/>
                    <a:pt x="6019" y="16342"/>
                    <a:pt x="6092" y="16331"/>
                  </a:cubicBezTo>
                  <a:cubicBezTo>
                    <a:pt x="6147" y="16323"/>
                    <a:pt x="6182" y="16263"/>
                    <a:pt x="6231" y="16252"/>
                  </a:cubicBezTo>
                  <a:cubicBezTo>
                    <a:pt x="6270" y="16243"/>
                    <a:pt x="6134" y="16328"/>
                    <a:pt x="6171" y="16312"/>
                  </a:cubicBezTo>
                  <a:cubicBezTo>
                    <a:pt x="6220" y="16290"/>
                    <a:pt x="6223" y="16296"/>
                    <a:pt x="6271" y="16272"/>
                  </a:cubicBezTo>
                  <a:cubicBezTo>
                    <a:pt x="6280" y="16268"/>
                    <a:pt x="6402" y="16171"/>
                    <a:pt x="6429" y="16173"/>
                  </a:cubicBezTo>
                  <a:cubicBezTo>
                    <a:pt x="6465" y="16176"/>
                    <a:pt x="6493" y="16118"/>
                    <a:pt x="6509" y="16153"/>
                  </a:cubicBezTo>
                  <a:cubicBezTo>
                    <a:pt x="6523" y="16184"/>
                    <a:pt x="6444" y="16230"/>
                    <a:pt x="6449" y="16252"/>
                  </a:cubicBezTo>
                  <a:cubicBezTo>
                    <a:pt x="6462" y="16316"/>
                    <a:pt x="6415" y="16288"/>
                    <a:pt x="6410" y="16331"/>
                  </a:cubicBezTo>
                  <a:cubicBezTo>
                    <a:pt x="6441" y="16313"/>
                    <a:pt x="6454" y="16281"/>
                    <a:pt x="6509" y="16252"/>
                  </a:cubicBezTo>
                  <a:cubicBezTo>
                    <a:pt x="6547" y="16232"/>
                    <a:pt x="6587" y="16198"/>
                    <a:pt x="6628" y="16192"/>
                  </a:cubicBezTo>
                  <a:cubicBezTo>
                    <a:pt x="6675" y="16185"/>
                    <a:pt x="6728" y="16129"/>
                    <a:pt x="6747" y="16153"/>
                  </a:cubicBezTo>
                  <a:cubicBezTo>
                    <a:pt x="6749" y="16155"/>
                    <a:pt x="6682" y="16231"/>
                    <a:pt x="6687" y="16252"/>
                  </a:cubicBezTo>
                  <a:cubicBezTo>
                    <a:pt x="6655" y="16268"/>
                    <a:pt x="6642" y="16267"/>
                    <a:pt x="6648" y="16292"/>
                  </a:cubicBezTo>
                  <a:cubicBezTo>
                    <a:pt x="6702" y="16261"/>
                    <a:pt x="6767" y="16196"/>
                    <a:pt x="6826" y="16173"/>
                  </a:cubicBezTo>
                  <a:cubicBezTo>
                    <a:pt x="6872" y="16155"/>
                    <a:pt x="6897" y="16098"/>
                    <a:pt x="6945" y="16113"/>
                  </a:cubicBezTo>
                  <a:cubicBezTo>
                    <a:pt x="6999" y="16130"/>
                    <a:pt x="7014" y="16104"/>
                    <a:pt x="7045" y="16133"/>
                  </a:cubicBezTo>
                  <a:cubicBezTo>
                    <a:pt x="7061" y="16147"/>
                    <a:pt x="6978" y="16242"/>
                    <a:pt x="6985" y="16252"/>
                  </a:cubicBezTo>
                  <a:cubicBezTo>
                    <a:pt x="7010" y="16286"/>
                    <a:pt x="6968" y="16211"/>
                    <a:pt x="6965" y="16252"/>
                  </a:cubicBezTo>
                  <a:cubicBezTo>
                    <a:pt x="7022" y="16218"/>
                    <a:pt x="7053" y="16184"/>
                    <a:pt x="7104" y="16153"/>
                  </a:cubicBezTo>
                  <a:cubicBezTo>
                    <a:pt x="7137" y="16137"/>
                    <a:pt x="7142" y="16130"/>
                    <a:pt x="7164" y="16133"/>
                  </a:cubicBezTo>
                  <a:cubicBezTo>
                    <a:pt x="7185" y="16162"/>
                    <a:pt x="7216" y="16078"/>
                    <a:pt x="7223" y="16113"/>
                  </a:cubicBezTo>
                  <a:cubicBezTo>
                    <a:pt x="7232" y="16159"/>
                    <a:pt x="7133" y="16268"/>
                    <a:pt x="7183" y="16272"/>
                  </a:cubicBezTo>
                  <a:cubicBezTo>
                    <a:pt x="7214" y="16275"/>
                    <a:pt x="7258" y="16231"/>
                    <a:pt x="7283" y="16232"/>
                  </a:cubicBezTo>
                  <a:cubicBezTo>
                    <a:pt x="7319" y="16234"/>
                    <a:pt x="7384" y="16168"/>
                    <a:pt x="7422" y="16192"/>
                  </a:cubicBezTo>
                  <a:cubicBezTo>
                    <a:pt x="7485" y="16232"/>
                    <a:pt x="7447" y="16318"/>
                    <a:pt x="7521" y="16312"/>
                  </a:cubicBezTo>
                  <a:cubicBezTo>
                    <a:pt x="7576" y="16307"/>
                    <a:pt x="7565" y="16267"/>
                    <a:pt x="7620" y="16272"/>
                  </a:cubicBezTo>
                  <a:cubicBezTo>
                    <a:pt x="7652" y="16275"/>
                    <a:pt x="7688" y="16201"/>
                    <a:pt x="7719" y="16192"/>
                  </a:cubicBezTo>
                  <a:cubicBezTo>
                    <a:pt x="7761" y="16180"/>
                    <a:pt x="7603" y="16295"/>
                    <a:pt x="7640" y="16272"/>
                  </a:cubicBezTo>
                  <a:cubicBezTo>
                    <a:pt x="7675" y="16250"/>
                    <a:pt x="7688" y="16230"/>
                    <a:pt x="7719" y="16212"/>
                  </a:cubicBezTo>
                  <a:cubicBezTo>
                    <a:pt x="7774" y="16180"/>
                    <a:pt x="7812" y="16106"/>
                    <a:pt x="7878" y="16093"/>
                  </a:cubicBezTo>
                  <a:cubicBezTo>
                    <a:pt x="7941" y="16080"/>
                    <a:pt x="8020" y="16053"/>
                    <a:pt x="8057" y="16093"/>
                  </a:cubicBezTo>
                  <a:cubicBezTo>
                    <a:pt x="8066" y="16102"/>
                    <a:pt x="8016" y="16112"/>
                    <a:pt x="8017" y="16153"/>
                  </a:cubicBezTo>
                  <a:cubicBezTo>
                    <a:pt x="8018" y="16230"/>
                    <a:pt x="7985" y="16219"/>
                    <a:pt x="7957" y="16292"/>
                  </a:cubicBezTo>
                  <a:cubicBezTo>
                    <a:pt x="7942" y="16331"/>
                    <a:pt x="7913" y="16358"/>
                    <a:pt x="7898" y="16391"/>
                  </a:cubicBezTo>
                  <a:cubicBezTo>
                    <a:pt x="7885" y="16398"/>
                    <a:pt x="7871" y="16404"/>
                    <a:pt x="7858" y="16411"/>
                  </a:cubicBezTo>
                  <a:cubicBezTo>
                    <a:pt x="7887" y="16385"/>
                    <a:pt x="7871" y="16379"/>
                    <a:pt x="7898" y="16351"/>
                  </a:cubicBezTo>
                  <a:cubicBezTo>
                    <a:pt x="7927" y="16321"/>
                    <a:pt x="7923" y="16336"/>
                    <a:pt x="7957" y="16312"/>
                  </a:cubicBezTo>
                  <a:cubicBezTo>
                    <a:pt x="7997" y="16283"/>
                    <a:pt x="8025" y="16234"/>
                    <a:pt x="8057" y="16212"/>
                  </a:cubicBezTo>
                  <a:cubicBezTo>
                    <a:pt x="8083" y="16194"/>
                    <a:pt x="8012" y="16292"/>
                    <a:pt x="8037" y="16272"/>
                  </a:cubicBezTo>
                  <a:cubicBezTo>
                    <a:pt x="8062" y="16252"/>
                    <a:pt x="8060" y="16239"/>
                    <a:pt x="8096" y="16212"/>
                  </a:cubicBezTo>
                  <a:cubicBezTo>
                    <a:pt x="8131" y="16186"/>
                    <a:pt x="8154" y="16156"/>
                    <a:pt x="8195" y="16133"/>
                  </a:cubicBezTo>
                  <a:cubicBezTo>
                    <a:pt x="8229" y="16114"/>
                    <a:pt x="8263" y="16088"/>
                    <a:pt x="8295" y="16073"/>
                  </a:cubicBezTo>
                  <a:cubicBezTo>
                    <a:pt x="8328" y="16073"/>
                    <a:pt x="8334" y="16073"/>
                    <a:pt x="8354" y="16073"/>
                  </a:cubicBezTo>
                  <a:cubicBezTo>
                    <a:pt x="8343" y="16138"/>
                    <a:pt x="8249" y="16236"/>
                    <a:pt x="8315" y="16232"/>
                  </a:cubicBezTo>
                  <a:cubicBezTo>
                    <a:pt x="8351" y="16230"/>
                    <a:pt x="8266" y="16230"/>
                    <a:pt x="8295" y="16252"/>
                  </a:cubicBezTo>
                  <a:cubicBezTo>
                    <a:pt x="8320" y="16271"/>
                    <a:pt x="8328" y="16173"/>
                    <a:pt x="8354" y="16192"/>
                  </a:cubicBezTo>
                  <a:cubicBezTo>
                    <a:pt x="8382" y="16212"/>
                    <a:pt x="8400" y="16197"/>
                    <a:pt x="8434" y="16192"/>
                  </a:cubicBezTo>
                  <a:cubicBezTo>
                    <a:pt x="8470" y="16187"/>
                    <a:pt x="8403" y="16290"/>
                    <a:pt x="8434" y="16272"/>
                  </a:cubicBezTo>
                  <a:cubicBezTo>
                    <a:pt x="8482" y="16243"/>
                    <a:pt x="8509" y="16159"/>
                    <a:pt x="8553" y="16133"/>
                  </a:cubicBezTo>
                  <a:cubicBezTo>
                    <a:pt x="8570" y="16123"/>
                    <a:pt x="8669" y="16054"/>
                    <a:pt x="8692" y="16054"/>
                  </a:cubicBezTo>
                  <a:cubicBezTo>
                    <a:pt x="8732" y="16054"/>
                    <a:pt x="8745" y="15984"/>
                    <a:pt x="8771" y="16014"/>
                  </a:cubicBezTo>
                  <a:cubicBezTo>
                    <a:pt x="8794" y="16040"/>
                    <a:pt x="8740" y="16040"/>
                    <a:pt x="8751" y="16073"/>
                  </a:cubicBezTo>
                  <a:cubicBezTo>
                    <a:pt x="8780" y="16158"/>
                    <a:pt x="8715" y="16216"/>
                    <a:pt x="8711" y="16292"/>
                  </a:cubicBezTo>
                  <a:cubicBezTo>
                    <a:pt x="8709" y="16321"/>
                    <a:pt x="8698" y="16338"/>
                    <a:pt x="8692" y="16371"/>
                  </a:cubicBezTo>
                  <a:cubicBezTo>
                    <a:pt x="8719" y="16347"/>
                    <a:pt x="8720" y="16293"/>
                    <a:pt x="8751" y="16272"/>
                  </a:cubicBezTo>
                  <a:cubicBezTo>
                    <a:pt x="8804" y="16237"/>
                    <a:pt x="8807" y="16217"/>
                    <a:pt x="8870" y="16212"/>
                  </a:cubicBezTo>
                  <a:cubicBezTo>
                    <a:pt x="8909" y="16209"/>
                    <a:pt x="8941" y="16155"/>
                    <a:pt x="8950" y="16153"/>
                  </a:cubicBezTo>
                  <a:cubicBezTo>
                    <a:pt x="8962" y="16150"/>
                    <a:pt x="8910" y="16313"/>
                    <a:pt x="8950" y="16292"/>
                  </a:cubicBezTo>
                  <a:cubicBezTo>
                    <a:pt x="8978" y="16277"/>
                    <a:pt x="8954" y="16220"/>
                    <a:pt x="9009" y="16192"/>
                  </a:cubicBezTo>
                  <a:cubicBezTo>
                    <a:pt x="9037" y="16178"/>
                    <a:pt x="9075" y="16157"/>
                    <a:pt x="9108" y="16133"/>
                  </a:cubicBezTo>
                  <a:cubicBezTo>
                    <a:pt x="9128" y="16120"/>
                    <a:pt x="9148" y="16106"/>
                    <a:pt x="9168" y="16093"/>
                  </a:cubicBezTo>
                  <a:cubicBezTo>
                    <a:pt x="9168" y="16099"/>
                    <a:pt x="9271" y="16033"/>
                    <a:pt x="9247" y="16093"/>
                  </a:cubicBezTo>
                  <a:cubicBezTo>
                    <a:pt x="9226" y="16144"/>
                    <a:pt x="9094" y="16162"/>
                    <a:pt x="9148" y="16173"/>
                  </a:cubicBezTo>
                  <a:cubicBezTo>
                    <a:pt x="9182" y="16180"/>
                    <a:pt x="9218" y="16100"/>
                    <a:pt x="9208" y="16133"/>
                  </a:cubicBezTo>
                  <a:cubicBezTo>
                    <a:pt x="9232" y="16127"/>
                    <a:pt x="9281" y="16073"/>
                    <a:pt x="9307" y="16073"/>
                  </a:cubicBezTo>
                  <a:cubicBezTo>
                    <a:pt x="9356" y="16073"/>
                    <a:pt x="9327" y="16025"/>
                    <a:pt x="9366" y="16054"/>
                  </a:cubicBezTo>
                  <a:cubicBezTo>
                    <a:pt x="9401" y="16080"/>
                    <a:pt x="9393" y="16076"/>
                    <a:pt x="9406" y="16093"/>
                  </a:cubicBezTo>
                  <a:cubicBezTo>
                    <a:pt x="9431" y="16127"/>
                    <a:pt x="9367" y="16135"/>
                    <a:pt x="9386" y="16173"/>
                  </a:cubicBezTo>
                  <a:cubicBezTo>
                    <a:pt x="9408" y="16154"/>
                    <a:pt x="9422" y="16119"/>
                    <a:pt x="9465" y="16093"/>
                  </a:cubicBezTo>
                  <a:cubicBezTo>
                    <a:pt x="9492" y="16077"/>
                    <a:pt x="9516" y="16073"/>
                    <a:pt x="9545" y="16054"/>
                  </a:cubicBezTo>
                  <a:cubicBezTo>
                    <a:pt x="9549" y="16059"/>
                    <a:pt x="9563" y="16027"/>
                    <a:pt x="9585" y="16073"/>
                  </a:cubicBezTo>
                  <a:cubicBezTo>
                    <a:pt x="9602" y="16108"/>
                    <a:pt x="9557" y="16229"/>
                    <a:pt x="9604" y="16232"/>
                  </a:cubicBezTo>
                  <a:cubicBezTo>
                    <a:pt x="9635" y="16234"/>
                    <a:pt x="9664" y="16178"/>
                    <a:pt x="9704" y="16173"/>
                  </a:cubicBezTo>
                  <a:cubicBezTo>
                    <a:pt x="9743" y="16168"/>
                    <a:pt x="9831" y="16108"/>
                    <a:pt x="9862" y="16113"/>
                  </a:cubicBezTo>
                  <a:cubicBezTo>
                    <a:pt x="9934" y="16124"/>
                    <a:pt x="9937" y="16063"/>
                    <a:pt x="9981" y="16093"/>
                  </a:cubicBezTo>
                  <a:cubicBezTo>
                    <a:pt x="9995" y="16103"/>
                    <a:pt x="9914" y="16202"/>
                    <a:pt x="9922" y="16212"/>
                  </a:cubicBezTo>
                  <a:cubicBezTo>
                    <a:pt x="9922" y="16252"/>
                    <a:pt x="9922" y="16265"/>
                    <a:pt x="9922" y="16212"/>
                  </a:cubicBezTo>
                  <a:cubicBezTo>
                    <a:pt x="9947" y="16183"/>
                    <a:pt x="9958" y="16160"/>
                    <a:pt x="9981" y="16133"/>
                  </a:cubicBezTo>
                  <a:cubicBezTo>
                    <a:pt x="9997" y="16114"/>
                    <a:pt x="9989" y="16133"/>
                    <a:pt x="10041" y="16073"/>
                  </a:cubicBezTo>
                  <a:cubicBezTo>
                    <a:pt x="10056" y="16087"/>
                    <a:pt x="10046" y="16071"/>
                    <a:pt x="10081" y="16113"/>
                  </a:cubicBezTo>
                  <a:cubicBezTo>
                    <a:pt x="10129" y="16170"/>
                    <a:pt x="10045" y="16234"/>
                    <a:pt x="10160" y="16232"/>
                  </a:cubicBezTo>
                  <a:cubicBezTo>
                    <a:pt x="10226" y="16231"/>
                    <a:pt x="10284" y="16168"/>
                    <a:pt x="10358" y="16153"/>
                  </a:cubicBezTo>
                  <a:cubicBezTo>
                    <a:pt x="10405" y="16144"/>
                    <a:pt x="10438" y="16095"/>
                    <a:pt x="10497" y="16093"/>
                  </a:cubicBezTo>
                  <a:cubicBezTo>
                    <a:pt x="10544" y="16091"/>
                    <a:pt x="10551" y="16138"/>
                    <a:pt x="10597" y="16133"/>
                  </a:cubicBezTo>
                  <a:cubicBezTo>
                    <a:pt x="10557" y="16128"/>
                    <a:pt x="10594" y="16117"/>
                    <a:pt x="10557" y="16133"/>
                  </a:cubicBezTo>
                  <a:cubicBezTo>
                    <a:pt x="10523" y="16148"/>
                    <a:pt x="10548" y="16133"/>
                    <a:pt x="10517" y="16153"/>
                  </a:cubicBezTo>
                  <a:cubicBezTo>
                    <a:pt x="10546" y="16133"/>
                    <a:pt x="10573" y="16085"/>
                    <a:pt x="10597" y="16073"/>
                  </a:cubicBezTo>
                  <a:cubicBezTo>
                    <a:pt x="10633" y="16055"/>
                    <a:pt x="10660" y="15957"/>
                    <a:pt x="10676" y="15994"/>
                  </a:cubicBezTo>
                  <a:cubicBezTo>
                    <a:pt x="10697" y="16043"/>
                    <a:pt x="10563" y="16092"/>
                    <a:pt x="10616" y="16093"/>
                  </a:cubicBezTo>
                  <a:cubicBezTo>
                    <a:pt x="10644" y="16094"/>
                    <a:pt x="10580" y="16155"/>
                    <a:pt x="10696" y="16133"/>
                  </a:cubicBezTo>
                  <a:cubicBezTo>
                    <a:pt x="10728" y="16127"/>
                    <a:pt x="10768" y="16075"/>
                    <a:pt x="10795" y="16073"/>
                  </a:cubicBezTo>
                  <a:cubicBezTo>
                    <a:pt x="10856" y="16069"/>
                    <a:pt x="10955" y="16055"/>
                    <a:pt x="10974" y="16054"/>
                  </a:cubicBezTo>
                  <a:cubicBezTo>
                    <a:pt x="10967" y="16060"/>
                    <a:pt x="10961" y="16067"/>
                    <a:pt x="10954" y="16073"/>
                  </a:cubicBezTo>
                  <a:cubicBezTo>
                    <a:pt x="10921" y="16101"/>
                    <a:pt x="10852" y="16190"/>
                    <a:pt x="10874" y="16153"/>
                  </a:cubicBezTo>
                  <a:cubicBezTo>
                    <a:pt x="10898" y="16113"/>
                    <a:pt x="10961" y="16035"/>
                    <a:pt x="10934" y="16073"/>
                  </a:cubicBezTo>
                  <a:cubicBezTo>
                    <a:pt x="10913" y="16102"/>
                    <a:pt x="10952" y="16042"/>
                    <a:pt x="10934" y="16073"/>
                  </a:cubicBezTo>
                  <a:cubicBezTo>
                    <a:pt x="10917" y="16101"/>
                    <a:pt x="10896" y="16149"/>
                    <a:pt x="10874" y="16173"/>
                  </a:cubicBezTo>
                  <a:cubicBezTo>
                    <a:pt x="10962" y="16128"/>
                    <a:pt x="11042" y="16047"/>
                    <a:pt x="11132" y="16014"/>
                  </a:cubicBezTo>
                  <a:cubicBezTo>
                    <a:pt x="11155" y="16006"/>
                    <a:pt x="11189" y="16023"/>
                    <a:pt x="11212" y="16014"/>
                  </a:cubicBezTo>
                  <a:cubicBezTo>
                    <a:pt x="11204" y="16060"/>
                    <a:pt x="11188" y="16080"/>
                    <a:pt x="11192" y="16133"/>
                  </a:cubicBezTo>
                  <a:cubicBezTo>
                    <a:pt x="11199" y="16217"/>
                    <a:pt x="11059" y="16187"/>
                    <a:pt x="11152" y="16192"/>
                  </a:cubicBezTo>
                  <a:cubicBezTo>
                    <a:pt x="11211" y="16195"/>
                    <a:pt x="11238" y="16118"/>
                    <a:pt x="11291" y="16113"/>
                  </a:cubicBezTo>
                  <a:cubicBezTo>
                    <a:pt x="11391" y="16103"/>
                    <a:pt x="11473" y="15999"/>
                    <a:pt x="11509" y="16093"/>
                  </a:cubicBezTo>
                  <a:cubicBezTo>
                    <a:pt x="11542" y="16179"/>
                    <a:pt x="11472" y="16229"/>
                    <a:pt x="11450" y="16292"/>
                  </a:cubicBezTo>
                  <a:cubicBezTo>
                    <a:pt x="11438" y="16327"/>
                    <a:pt x="11427" y="16279"/>
                    <a:pt x="11410" y="16312"/>
                  </a:cubicBezTo>
                  <a:cubicBezTo>
                    <a:pt x="11435" y="16277"/>
                    <a:pt x="11456" y="16172"/>
                    <a:pt x="11490" y="16133"/>
                  </a:cubicBezTo>
                  <a:cubicBezTo>
                    <a:pt x="11506" y="16115"/>
                    <a:pt x="11565" y="16103"/>
                    <a:pt x="11589" y="16073"/>
                  </a:cubicBezTo>
                  <a:cubicBezTo>
                    <a:pt x="11596" y="16067"/>
                    <a:pt x="11602" y="16060"/>
                    <a:pt x="11609" y="16054"/>
                  </a:cubicBezTo>
                  <a:cubicBezTo>
                    <a:pt x="11655" y="16083"/>
                    <a:pt x="11673" y="16018"/>
                    <a:pt x="11708" y="16054"/>
                  </a:cubicBezTo>
                  <a:cubicBezTo>
                    <a:pt x="11738" y="16085"/>
                    <a:pt x="11645" y="16182"/>
                    <a:pt x="11688" y="16173"/>
                  </a:cubicBezTo>
                  <a:cubicBezTo>
                    <a:pt x="11741" y="16161"/>
                    <a:pt x="11707" y="16146"/>
                    <a:pt x="11748" y="16133"/>
                  </a:cubicBezTo>
                  <a:cubicBezTo>
                    <a:pt x="11802" y="16115"/>
                    <a:pt x="11867" y="16022"/>
                    <a:pt x="11946" y="16014"/>
                  </a:cubicBezTo>
                  <a:cubicBezTo>
                    <a:pt x="11960" y="16013"/>
                    <a:pt x="12062" y="15991"/>
                    <a:pt x="12065" y="15994"/>
                  </a:cubicBezTo>
                  <a:cubicBezTo>
                    <a:pt x="12096" y="16032"/>
                    <a:pt x="11961" y="16031"/>
                    <a:pt x="11986" y="16073"/>
                  </a:cubicBezTo>
                  <a:cubicBezTo>
                    <a:pt x="12008" y="16110"/>
                    <a:pt x="11906" y="16115"/>
                    <a:pt x="11926" y="16153"/>
                  </a:cubicBezTo>
                  <a:cubicBezTo>
                    <a:pt x="11950" y="16129"/>
                    <a:pt x="11959" y="16118"/>
                    <a:pt x="11966" y="16093"/>
                  </a:cubicBezTo>
                  <a:cubicBezTo>
                    <a:pt x="11985" y="16077"/>
                    <a:pt x="11992" y="16032"/>
                    <a:pt x="12025" y="16014"/>
                  </a:cubicBezTo>
                  <a:cubicBezTo>
                    <a:pt x="12077" y="15985"/>
                    <a:pt x="12126" y="15977"/>
                    <a:pt x="12164" y="15954"/>
                  </a:cubicBezTo>
                  <a:cubicBezTo>
                    <a:pt x="12172" y="15985"/>
                    <a:pt x="12168" y="16130"/>
                    <a:pt x="12184" y="16153"/>
                  </a:cubicBezTo>
                  <a:cubicBezTo>
                    <a:pt x="12192" y="16163"/>
                    <a:pt x="12182" y="16248"/>
                    <a:pt x="12204" y="16252"/>
                  </a:cubicBezTo>
                  <a:cubicBezTo>
                    <a:pt x="12228" y="16257"/>
                    <a:pt x="12256" y="16174"/>
                    <a:pt x="12263" y="16173"/>
                  </a:cubicBezTo>
                  <a:cubicBezTo>
                    <a:pt x="12315" y="16162"/>
                    <a:pt x="12328" y="16136"/>
                    <a:pt x="12402" y="16113"/>
                  </a:cubicBezTo>
                  <a:cubicBezTo>
                    <a:pt x="12452" y="16097"/>
                    <a:pt x="12511" y="16048"/>
                    <a:pt x="12561" y="16034"/>
                  </a:cubicBezTo>
                  <a:cubicBezTo>
                    <a:pt x="12603" y="16023"/>
                    <a:pt x="12715" y="16035"/>
                    <a:pt x="12720" y="16034"/>
                  </a:cubicBezTo>
                  <a:cubicBezTo>
                    <a:pt x="12677" y="16048"/>
                    <a:pt x="12615" y="16158"/>
                    <a:pt x="12621" y="16113"/>
                  </a:cubicBezTo>
                  <a:cubicBezTo>
                    <a:pt x="12626" y="16076"/>
                    <a:pt x="12695" y="16042"/>
                    <a:pt x="12660" y="16054"/>
                  </a:cubicBezTo>
                  <a:cubicBezTo>
                    <a:pt x="12691" y="16050"/>
                    <a:pt x="12753" y="15990"/>
                    <a:pt x="12779" y="15994"/>
                  </a:cubicBezTo>
                  <a:cubicBezTo>
                    <a:pt x="12784" y="15995"/>
                    <a:pt x="12937" y="15951"/>
                    <a:pt x="12938" y="15954"/>
                  </a:cubicBezTo>
                  <a:cubicBezTo>
                    <a:pt x="12956" y="16007"/>
                    <a:pt x="12826" y="16076"/>
                    <a:pt x="12879" y="16093"/>
                  </a:cubicBezTo>
                  <a:cubicBezTo>
                    <a:pt x="12946" y="16114"/>
                    <a:pt x="12714" y="16182"/>
                    <a:pt x="12879" y="16133"/>
                  </a:cubicBezTo>
                  <a:cubicBezTo>
                    <a:pt x="12917" y="16122"/>
                    <a:pt x="12923" y="16084"/>
                    <a:pt x="12958" y="16073"/>
                  </a:cubicBezTo>
                  <a:cubicBezTo>
                    <a:pt x="13031" y="16050"/>
                    <a:pt x="13051" y="16002"/>
                    <a:pt x="13137" y="15994"/>
                  </a:cubicBezTo>
                  <a:cubicBezTo>
                    <a:pt x="13186" y="15989"/>
                    <a:pt x="13244" y="15992"/>
                    <a:pt x="13256" y="15994"/>
                  </a:cubicBezTo>
                  <a:cubicBezTo>
                    <a:pt x="13328" y="16004"/>
                    <a:pt x="13217" y="16050"/>
                    <a:pt x="13236" y="16054"/>
                  </a:cubicBezTo>
                  <a:cubicBezTo>
                    <a:pt x="13261" y="16060"/>
                    <a:pt x="13253" y="16080"/>
                    <a:pt x="13275" y="16093"/>
                  </a:cubicBezTo>
                  <a:cubicBezTo>
                    <a:pt x="13291" y="16103"/>
                    <a:pt x="13381" y="16066"/>
                    <a:pt x="13414" y="16073"/>
                  </a:cubicBezTo>
                  <a:cubicBezTo>
                    <a:pt x="13454" y="16082"/>
                    <a:pt x="13336" y="16185"/>
                    <a:pt x="13375" y="16173"/>
                  </a:cubicBezTo>
                  <a:cubicBezTo>
                    <a:pt x="13429" y="16156"/>
                    <a:pt x="13366" y="16088"/>
                    <a:pt x="13454" y="16073"/>
                  </a:cubicBezTo>
                  <a:cubicBezTo>
                    <a:pt x="13474" y="16070"/>
                    <a:pt x="13534" y="16043"/>
                    <a:pt x="13553" y="16034"/>
                  </a:cubicBezTo>
                  <a:cubicBezTo>
                    <a:pt x="13588" y="16017"/>
                    <a:pt x="13601" y="16058"/>
                    <a:pt x="13652" y="16034"/>
                  </a:cubicBezTo>
                  <a:cubicBezTo>
                    <a:pt x="13692" y="16015"/>
                    <a:pt x="13692" y="15972"/>
                    <a:pt x="13732" y="15954"/>
                  </a:cubicBezTo>
                  <a:cubicBezTo>
                    <a:pt x="13762" y="15941"/>
                    <a:pt x="13724" y="15971"/>
                    <a:pt x="13752" y="15954"/>
                  </a:cubicBezTo>
                  <a:cubicBezTo>
                    <a:pt x="13737" y="16002"/>
                    <a:pt x="13716" y="16009"/>
                    <a:pt x="13712" y="16034"/>
                  </a:cubicBezTo>
                  <a:cubicBezTo>
                    <a:pt x="13710" y="16049"/>
                    <a:pt x="13650" y="16134"/>
                    <a:pt x="13652" y="16133"/>
                  </a:cubicBezTo>
                  <a:cubicBezTo>
                    <a:pt x="13697" y="16113"/>
                    <a:pt x="13685" y="16049"/>
                    <a:pt x="13732" y="16034"/>
                  </a:cubicBezTo>
                  <a:cubicBezTo>
                    <a:pt x="13786" y="16017"/>
                    <a:pt x="13827" y="15966"/>
                    <a:pt x="13891" y="15954"/>
                  </a:cubicBezTo>
                  <a:cubicBezTo>
                    <a:pt x="13903" y="15952"/>
                    <a:pt x="14023" y="15932"/>
                    <a:pt x="14030" y="15935"/>
                  </a:cubicBezTo>
                  <a:cubicBezTo>
                    <a:pt x="14063" y="15947"/>
                    <a:pt x="14001" y="15955"/>
                    <a:pt x="14030" y="15974"/>
                  </a:cubicBezTo>
                  <a:cubicBezTo>
                    <a:pt x="14044" y="15983"/>
                    <a:pt x="14062" y="16086"/>
                    <a:pt x="14089" y="16113"/>
                  </a:cubicBezTo>
                  <a:cubicBezTo>
                    <a:pt x="14117" y="16088"/>
                    <a:pt x="14118" y="16036"/>
                    <a:pt x="14149" y="16014"/>
                  </a:cubicBezTo>
                  <a:cubicBezTo>
                    <a:pt x="14178" y="15994"/>
                    <a:pt x="14234" y="15984"/>
                    <a:pt x="14268" y="15954"/>
                  </a:cubicBezTo>
                  <a:cubicBezTo>
                    <a:pt x="14244" y="15986"/>
                    <a:pt x="14284" y="15879"/>
                    <a:pt x="14268" y="15915"/>
                  </a:cubicBezTo>
                  <a:cubicBezTo>
                    <a:pt x="14253" y="15949"/>
                    <a:pt x="14247" y="15943"/>
                    <a:pt x="14228" y="15994"/>
                  </a:cubicBezTo>
                  <a:cubicBezTo>
                    <a:pt x="14217" y="16024"/>
                    <a:pt x="14236" y="16003"/>
                    <a:pt x="14228" y="16034"/>
                  </a:cubicBezTo>
                  <a:cubicBezTo>
                    <a:pt x="14254" y="16028"/>
                    <a:pt x="14312" y="15940"/>
                    <a:pt x="14347" y="15954"/>
                  </a:cubicBezTo>
                  <a:cubicBezTo>
                    <a:pt x="14396" y="15974"/>
                    <a:pt x="14433" y="15979"/>
                    <a:pt x="14486" y="15974"/>
                  </a:cubicBezTo>
                  <a:cubicBezTo>
                    <a:pt x="14508" y="15972"/>
                    <a:pt x="14449" y="16020"/>
                    <a:pt x="14486" y="16014"/>
                  </a:cubicBezTo>
                  <a:cubicBezTo>
                    <a:pt x="14526" y="16008"/>
                    <a:pt x="14468" y="16007"/>
                    <a:pt x="14506" y="15994"/>
                  </a:cubicBezTo>
                  <a:cubicBezTo>
                    <a:pt x="14574" y="15970"/>
                    <a:pt x="14632" y="15945"/>
                    <a:pt x="14704" y="15915"/>
                  </a:cubicBezTo>
                  <a:cubicBezTo>
                    <a:pt x="14753" y="15894"/>
                    <a:pt x="14869" y="15810"/>
                    <a:pt x="14922" y="15815"/>
                  </a:cubicBezTo>
                  <a:cubicBezTo>
                    <a:pt x="14987" y="15821"/>
                    <a:pt x="14993" y="15761"/>
                    <a:pt x="15042" y="15835"/>
                  </a:cubicBezTo>
                  <a:cubicBezTo>
                    <a:pt x="15087" y="15902"/>
                    <a:pt x="14974" y="15954"/>
                    <a:pt x="14962" y="16034"/>
                  </a:cubicBezTo>
                  <a:cubicBezTo>
                    <a:pt x="14955" y="16041"/>
                    <a:pt x="14949" y="16047"/>
                    <a:pt x="14942" y="16054"/>
                  </a:cubicBezTo>
                  <a:cubicBezTo>
                    <a:pt x="15001" y="16045"/>
                    <a:pt x="14816" y="16148"/>
                    <a:pt x="14942" y="16073"/>
                  </a:cubicBezTo>
                  <a:cubicBezTo>
                    <a:pt x="14990" y="16044"/>
                    <a:pt x="15008" y="15955"/>
                    <a:pt x="15061" y="15974"/>
                  </a:cubicBezTo>
                  <a:cubicBezTo>
                    <a:pt x="15083" y="15982"/>
                    <a:pt x="15059" y="16012"/>
                    <a:pt x="15081" y="16014"/>
                  </a:cubicBezTo>
                  <a:cubicBezTo>
                    <a:pt x="15127" y="16019"/>
                    <a:pt x="15157" y="16116"/>
                    <a:pt x="15200" y="16113"/>
                  </a:cubicBezTo>
                  <a:cubicBezTo>
                    <a:pt x="15277" y="16107"/>
                    <a:pt x="15209" y="16067"/>
                    <a:pt x="15300" y="16073"/>
                  </a:cubicBezTo>
                  <a:cubicBezTo>
                    <a:pt x="15339" y="16076"/>
                    <a:pt x="15348" y="16016"/>
                    <a:pt x="15419" y="16034"/>
                  </a:cubicBezTo>
                  <a:cubicBezTo>
                    <a:pt x="15447" y="16041"/>
                    <a:pt x="15361" y="16061"/>
                    <a:pt x="15438" y="16073"/>
                  </a:cubicBezTo>
                  <a:cubicBezTo>
                    <a:pt x="15461" y="16077"/>
                    <a:pt x="15411" y="16147"/>
                    <a:pt x="15458" y="16153"/>
                  </a:cubicBezTo>
                  <a:cubicBezTo>
                    <a:pt x="15513" y="16160"/>
                    <a:pt x="15553" y="16092"/>
                    <a:pt x="15617" y="16133"/>
                  </a:cubicBezTo>
                  <a:cubicBezTo>
                    <a:pt x="15653" y="16156"/>
                    <a:pt x="15635" y="16204"/>
                    <a:pt x="15677" y="16212"/>
                  </a:cubicBezTo>
                  <a:cubicBezTo>
                    <a:pt x="15698" y="16216"/>
                    <a:pt x="15589" y="16286"/>
                    <a:pt x="15657" y="16272"/>
                  </a:cubicBezTo>
                  <a:cubicBezTo>
                    <a:pt x="15679" y="16268"/>
                    <a:pt x="15724" y="16186"/>
                    <a:pt x="15756" y="16173"/>
                  </a:cubicBezTo>
                  <a:cubicBezTo>
                    <a:pt x="15780" y="16163"/>
                    <a:pt x="15836" y="16127"/>
                    <a:pt x="15875" y="16113"/>
                  </a:cubicBezTo>
                  <a:cubicBezTo>
                    <a:pt x="15943" y="16089"/>
                    <a:pt x="15927" y="16080"/>
                    <a:pt x="15994" y="16054"/>
                  </a:cubicBezTo>
                  <a:cubicBezTo>
                    <a:pt x="16035" y="16038"/>
                    <a:pt x="15954" y="16151"/>
                    <a:pt x="15994" y="16133"/>
                  </a:cubicBezTo>
                  <a:cubicBezTo>
                    <a:pt x="16002" y="16130"/>
                    <a:pt x="16011" y="16083"/>
                    <a:pt x="16034" y="16073"/>
                  </a:cubicBezTo>
                  <a:cubicBezTo>
                    <a:pt x="16096" y="16044"/>
                    <a:pt x="16155" y="16009"/>
                    <a:pt x="16212" y="15974"/>
                  </a:cubicBezTo>
                  <a:cubicBezTo>
                    <a:pt x="16219" y="15967"/>
                    <a:pt x="16225" y="15961"/>
                    <a:pt x="16232" y="15954"/>
                  </a:cubicBezTo>
                  <a:cubicBezTo>
                    <a:pt x="16244" y="15972"/>
                    <a:pt x="16234" y="15963"/>
                    <a:pt x="16252" y="15994"/>
                  </a:cubicBezTo>
                  <a:cubicBezTo>
                    <a:pt x="16271" y="16027"/>
                    <a:pt x="16259" y="16175"/>
                    <a:pt x="16292" y="16173"/>
                  </a:cubicBezTo>
                  <a:cubicBezTo>
                    <a:pt x="16308" y="16172"/>
                    <a:pt x="16385" y="16099"/>
                    <a:pt x="16411" y="16093"/>
                  </a:cubicBezTo>
                  <a:cubicBezTo>
                    <a:pt x="16450" y="16083"/>
                    <a:pt x="16527" y="15997"/>
                    <a:pt x="16550" y="15994"/>
                  </a:cubicBezTo>
                  <a:cubicBezTo>
                    <a:pt x="16609" y="15985"/>
                    <a:pt x="16869" y="15969"/>
                    <a:pt x="16887" y="16014"/>
                  </a:cubicBezTo>
                  <a:cubicBezTo>
                    <a:pt x="16899" y="16044"/>
                    <a:pt x="16825" y="16101"/>
                    <a:pt x="16808" y="16153"/>
                  </a:cubicBezTo>
                  <a:cubicBezTo>
                    <a:pt x="16797" y="16188"/>
                    <a:pt x="16741" y="16211"/>
                    <a:pt x="16728" y="16232"/>
                  </a:cubicBezTo>
                  <a:cubicBezTo>
                    <a:pt x="16728" y="16219"/>
                    <a:pt x="16728" y="16205"/>
                    <a:pt x="16728" y="16192"/>
                  </a:cubicBezTo>
                  <a:cubicBezTo>
                    <a:pt x="16737" y="16185"/>
                    <a:pt x="16683" y="16069"/>
                    <a:pt x="16768" y="16034"/>
                  </a:cubicBezTo>
                  <a:cubicBezTo>
                    <a:pt x="16836" y="16006"/>
                    <a:pt x="16916" y="16002"/>
                    <a:pt x="16986" y="15994"/>
                  </a:cubicBezTo>
                  <a:cubicBezTo>
                    <a:pt x="17053" y="15986"/>
                    <a:pt x="17059" y="16086"/>
                    <a:pt x="17125" y="16073"/>
                  </a:cubicBezTo>
                  <a:cubicBezTo>
                    <a:pt x="17175" y="16063"/>
                    <a:pt x="17153" y="16060"/>
                    <a:pt x="17185" y="16054"/>
                  </a:cubicBezTo>
                  <a:cubicBezTo>
                    <a:pt x="17212" y="16048"/>
                    <a:pt x="17256" y="15997"/>
                    <a:pt x="17284" y="15994"/>
                  </a:cubicBezTo>
                  <a:cubicBezTo>
                    <a:pt x="17325" y="15990"/>
                    <a:pt x="17338" y="15937"/>
                    <a:pt x="17383" y="15954"/>
                  </a:cubicBezTo>
                  <a:cubicBezTo>
                    <a:pt x="17480" y="15990"/>
                    <a:pt x="17416" y="15943"/>
                    <a:pt x="17423" y="15954"/>
                  </a:cubicBezTo>
                  <a:cubicBezTo>
                    <a:pt x="17435" y="15975"/>
                    <a:pt x="17389" y="16018"/>
                    <a:pt x="17403" y="16054"/>
                  </a:cubicBezTo>
                  <a:cubicBezTo>
                    <a:pt x="17416" y="16087"/>
                    <a:pt x="17401" y="16138"/>
                    <a:pt x="17403" y="16173"/>
                  </a:cubicBezTo>
                  <a:cubicBezTo>
                    <a:pt x="17457" y="16149"/>
                    <a:pt x="17450" y="16090"/>
                    <a:pt x="17522" y="16073"/>
                  </a:cubicBezTo>
                  <a:cubicBezTo>
                    <a:pt x="17560" y="16064"/>
                    <a:pt x="17637" y="15990"/>
                    <a:pt x="17681" y="16014"/>
                  </a:cubicBezTo>
                  <a:cubicBezTo>
                    <a:pt x="17690" y="16019"/>
                    <a:pt x="17696" y="16070"/>
                    <a:pt x="17701" y="16073"/>
                  </a:cubicBezTo>
                  <a:cubicBezTo>
                    <a:pt x="17757" y="16104"/>
                    <a:pt x="17812" y="16206"/>
                    <a:pt x="17859" y="16252"/>
                  </a:cubicBezTo>
                  <a:cubicBezTo>
                    <a:pt x="17826" y="16252"/>
                    <a:pt x="17807" y="16252"/>
                    <a:pt x="17840" y="16252"/>
                  </a:cubicBezTo>
                  <a:cubicBezTo>
                    <a:pt x="17867" y="16223"/>
                    <a:pt x="17924" y="16160"/>
                    <a:pt x="17959" y="16133"/>
                  </a:cubicBezTo>
                  <a:cubicBezTo>
                    <a:pt x="17997" y="16104"/>
                    <a:pt x="17912" y="16061"/>
                    <a:pt x="17959" y="16054"/>
                  </a:cubicBezTo>
                  <a:cubicBezTo>
                    <a:pt x="18012" y="16046"/>
                    <a:pt x="18004" y="16127"/>
                    <a:pt x="18058" y="16113"/>
                  </a:cubicBezTo>
                  <a:cubicBezTo>
                    <a:pt x="18116" y="16098"/>
                    <a:pt x="18139" y="16087"/>
                    <a:pt x="18197" y="16073"/>
                  </a:cubicBezTo>
                  <a:cubicBezTo>
                    <a:pt x="18239" y="16063"/>
                    <a:pt x="18298" y="16038"/>
                    <a:pt x="18336" y="16034"/>
                  </a:cubicBezTo>
                  <a:cubicBezTo>
                    <a:pt x="18390" y="16028"/>
                    <a:pt x="18341" y="16025"/>
                    <a:pt x="18395" y="16034"/>
                  </a:cubicBezTo>
                  <a:cubicBezTo>
                    <a:pt x="18427" y="16039"/>
                    <a:pt x="18348" y="16069"/>
                    <a:pt x="18355" y="16073"/>
                  </a:cubicBezTo>
                  <a:cubicBezTo>
                    <a:pt x="18342" y="16073"/>
                    <a:pt x="18329" y="16073"/>
                    <a:pt x="18316" y="16073"/>
                  </a:cubicBezTo>
                  <a:cubicBezTo>
                    <a:pt x="18363" y="16054"/>
                    <a:pt x="18228" y="16070"/>
                    <a:pt x="18276" y="16054"/>
                  </a:cubicBezTo>
                  <a:cubicBezTo>
                    <a:pt x="18311" y="16042"/>
                    <a:pt x="18325" y="15972"/>
                    <a:pt x="18355" y="15994"/>
                  </a:cubicBezTo>
                  <a:cubicBezTo>
                    <a:pt x="18409" y="16034"/>
                    <a:pt x="18407" y="16074"/>
                    <a:pt x="18475" y="16073"/>
                  </a:cubicBezTo>
                  <a:cubicBezTo>
                    <a:pt x="18484" y="16073"/>
                    <a:pt x="18423" y="16149"/>
                    <a:pt x="18494" y="16133"/>
                  </a:cubicBezTo>
                  <a:cubicBezTo>
                    <a:pt x="18564" y="16117"/>
                    <a:pt x="18588" y="16063"/>
                    <a:pt x="18653" y="16034"/>
                  </a:cubicBezTo>
                  <a:cubicBezTo>
                    <a:pt x="18725" y="16002"/>
                    <a:pt x="18808" y="15946"/>
                    <a:pt x="18871" y="15915"/>
                  </a:cubicBezTo>
                  <a:cubicBezTo>
                    <a:pt x="18891" y="15908"/>
                    <a:pt x="18911" y="15902"/>
                    <a:pt x="18931" y="15895"/>
                  </a:cubicBezTo>
                  <a:cubicBezTo>
                    <a:pt x="18940" y="15906"/>
                    <a:pt x="18957" y="15959"/>
                    <a:pt x="18971" y="15974"/>
                  </a:cubicBezTo>
                  <a:cubicBezTo>
                    <a:pt x="19003" y="16008"/>
                    <a:pt x="18877" y="16036"/>
                    <a:pt x="18931" y="16034"/>
                  </a:cubicBezTo>
                  <a:cubicBezTo>
                    <a:pt x="18992" y="16031"/>
                    <a:pt x="19014" y="15951"/>
                    <a:pt x="19070" y="15974"/>
                  </a:cubicBezTo>
                  <a:cubicBezTo>
                    <a:pt x="19128" y="15998"/>
                    <a:pt x="19088" y="16001"/>
                    <a:pt x="19149" y="16014"/>
                  </a:cubicBezTo>
                  <a:cubicBezTo>
                    <a:pt x="19245" y="16034"/>
                    <a:pt x="19093" y="16122"/>
                    <a:pt x="19268" y="16093"/>
                  </a:cubicBezTo>
                  <a:cubicBezTo>
                    <a:pt x="19315" y="16085"/>
                    <a:pt x="19357" y="16012"/>
                    <a:pt x="19407" y="16014"/>
                  </a:cubicBezTo>
                  <a:cubicBezTo>
                    <a:pt x="19450" y="16015"/>
                    <a:pt x="19463" y="15948"/>
                    <a:pt x="19506" y="15954"/>
                  </a:cubicBezTo>
                  <a:cubicBezTo>
                    <a:pt x="19546" y="15959"/>
                    <a:pt x="19486" y="16059"/>
                    <a:pt x="19526" y="16054"/>
                  </a:cubicBezTo>
                  <a:cubicBezTo>
                    <a:pt x="19555" y="16050"/>
                    <a:pt x="19538" y="16080"/>
                    <a:pt x="19566" y="16073"/>
                  </a:cubicBezTo>
                  <a:cubicBezTo>
                    <a:pt x="19609" y="16063"/>
                    <a:pt x="19644" y="16019"/>
                    <a:pt x="19685" y="16014"/>
                  </a:cubicBezTo>
                  <a:cubicBezTo>
                    <a:pt x="19742" y="16007"/>
                    <a:pt x="19775" y="15976"/>
                    <a:pt x="19844" y="15974"/>
                  </a:cubicBezTo>
                  <a:cubicBezTo>
                    <a:pt x="19884" y="15973"/>
                    <a:pt x="19904" y="15999"/>
                    <a:pt x="19943" y="15994"/>
                  </a:cubicBezTo>
                  <a:cubicBezTo>
                    <a:pt x="19918" y="16003"/>
                    <a:pt x="19856" y="16043"/>
                    <a:pt x="19824" y="16054"/>
                  </a:cubicBezTo>
                  <a:cubicBezTo>
                    <a:pt x="19701" y="16097"/>
                    <a:pt x="19566" y="16122"/>
                    <a:pt x="19447" y="16173"/>
                  </a:cubicBezTo>
                  <a:cubicBezTo>
                    <a:pt x="19392" y="16196"/>
                    <a:pt x="19345" y="16244"/>
                    <a:pt x="19288" y="16272"/>
                  </a:cubicBezTo>
                  <a:cubicBezTo>
                    <a:pt x="19255" y="16272"/>
                    <a:pt x="19235" y="16272"/>
                    <a:pt x="19268" y="16272"/>
                  </a:cubicBezTo>
                  <a:cubicBezTo>
                    <a:pt x="19282" y="16243"/>
                    <a:pt x="19312" y="16197"/>
                    <a:pt x="19328" y="16173"/>
                  </a:cubicBezTo>
                  <a:cubicBezTo>
                    <a:pt x="19362" y="16122"/>
                    <a:pt x="19439" y="16094"/>
                    <a:pt x="19427" y="16034"/>
                  </a:cubicBezTo>
                  <a:cubicBezTo>
                    <a:pt x="19413" y="15967"/>
                    <a:pt x="19511" y="16019"/>
                    <a:pt x="19427" y="15974"/>
                  </a:cubicBezTo>
                  <a:cubicBezTo>
                    <a:pt x="19385" y="15951"/>
                    <a:pt x="19356" y="16020"/>
                    <a:pt x="19308" y="16014"/>
                  </a:cubicBezTo>
                  <a:cubicBezTo>
                    <a:pt x="19281" y="16011"/>
                    <a:pt x="19212" y="16060"/>
                    <a:pt x="19169" y="16034"/>
                  </a:cubicBezTo>
                  <a:cubicBezTo>
                    <a:pt x="19129" y="16010"/>
                    <a:pt x="19115" y="16006"/>
                    <a:pt x="19070" y="15994"/>
                  </a:cubicBezTo>
                  <a:cubicBezTo>
                    <a:pt x="19064" y="15992"/>
                    <a:pt x="19212" y="15947"/>
                    <a:pt x="19110" y="15935"/>
                  </a:cubicBezTo>
                  <a:cubicBezTo>
                    <a:pt x="19092" y="15952"/>
                    <a:pt x="19085" y="15956"/>
                    <a:pt x="19090" y="15974"/>
                  </a:cubicBezTo>
                  <a:cubicBezTo>
                    <a:pt x="18990" y="16008"/>
                    <a:pt x="18936" y="16047"/>
                    <a:pt x="18832" y="16073"/>
                  </a:cubicBezTo>
                  <a:cubicBezTo>
                    <a:pt x="18768" y="16089"/>
                    <a:pt x="18672" y="16141"/>
                    <a:pt x="18673" y="16133"/>
                  </a:cubicBezTo>
                  <a:cubicBezTo>
                    <a:pt x="18680" y="16068"/>
                    <a:pt x="18740" y="16086"/>
                    <a:pt x="18752" y="16054"/>
                  </a:cubicBezTo>
                  <a:cubicBezTo>
                    <a:pt x="18768" y="16012"/>
                    <a:pt x="18845" y="16017"/>
                    <a:pt x="18871" y="15994"/>
                  </a:cubicBezTo>
                  <a:cubicBezTo>
                    <a:pt x="18897" y="15971"/>
                    <a:pt x="18843" y="16014"/>
                    <a:pt x="18871" y="15994"/>
                  </a:cubicBezTo>
                  <a:cubicBezTo>
                    <a:pt x="18797" y="16024"/>
                    <a:pt x="18712" y="16065"/>
                    <a:pt x="18633" y="16093"/>
                  </a:cubicBezTo>
                  <a:cubicBezTo>
                    <a:pt x="18599" y="16093"/>
                    <a:pt x="18579" y="16098"/>
                    <a:pt x="18554" y="16113"/>
                  </a:cubicBezTo>
                  <a:cubicBezTo>
                    <a:pt x="18591" y="16103"/>
                    <a:pt x="18516" y="16102"/>
                    <a:pt x="18554" y="16093"/>
                  </a:cubicBezTo>
                  <a:cubicBezTo>
                    <a:pt x="18608" y="16079"/>
                    <a:pt x="18634" y="16062"/>
                    <a:pt x="18693" y="16054"/>
                  </a:cubicBezTo>
                  <a:cubicBezTo>
                    <a:pt x="18865" y="16032"/>
                    <a:pt x="19080" y="16042"/>
                    <a:pt x="19248" y="16073"/>
                  </a:cubicBezTo>
                  <a:cubicBezTo>
                    <a:pt x="19242" y="16080"/>
                    <a:pt x="19235" y="16086"/>
                    <a:pt x="19229" y="16093"/>
                  </a:cubicBezTo>
                  <a:cubicBezTo>
                    <a:pt x="19169" y="16103"/>
                    <a:pt x="19164" y="16129"/>
                    <a:pt x="19110" y="16133"/>
                  </a:cubicBezTo>
                  <a:cubicBezTo>
                    <a:pt x="19071" y="16136"/>
                    <a:pt x="19089" y="16176"/>
                    <a:pt x="19050" y="16173"/>
                  </a:cubicBezTo>
                  <a:cubicBezTo>
                    <a:pt x="19007" y="16170"/>
                    <a:pt x="18880" y="16138"/>
                    <a:pt x="18852" y="16133"/>
                  </a:cubicBezTo>
                  <a:cubicBezTo>
                    <a:pt x="18449" y="16067"/>
                    <a:pt x="18071" y="15989"/>
                    <a:pt x="17661" y="15974"/>
                  </a:cubicBezTo>
                  <a:cubicBezTo>
                    <a:pt x="17701" y="15986"/>
                    <a:pt x="17661" y="15985"/>
                    <a:pt x="17701" y="15994"/>
                  </a:cubicBezTo>
                  <a:cubicBezTo>
                    <a:pt x="17738" y="16003"/>
                    <a:pt x="17799" y="16026"/>
                    <a:pt x="17859" y="16034"/>
                  </a:cubicBezTo>
                  <a:cubicBezTo>
                    <a:pt x="18009" y="16055"/>
                    <a:pt x="18165" y="16065"/>
                    <a:pt x="18316" y="16073"/>
                  </a:cubicBezTo>
                  <a:cubicBezTo>
                    <a:pt x="18382" y="16076"/>
                    <a:pt x="18369" y="16065"/>
                    <a:pt x="18435" y="16073"/>
                  </a:cubicBezTo>
                  <a:cubicBezTo>
                    <a:pt x="18461" y="16076"/>
                    <a:pt x="18328" y="16072"/>
                    <a:pt x="18355" y="16073"/>
                  </a:cubicBezTo>
                  <a:cubicBezTo>
                    <a:pt x="18087" y="16073"/>
                    <a:pt x="17801" y="16097"/>
                    <a:pt x="17542" y="16093"/>
                  </a:cubicBezTo>
                  <a:cubicBezTo>
                    <a:pt x="17486" y="16092"/>
                    <a:pt x="17479" y="16073"/>
                    <a:pt x="17423" y="16073"/>
                  </a:cubicBezTo>
                  <a:cubicBezTo>
                    <a:pt x="17277" y="16073"/>
                    <a:pt x="17132" y="16073"/>
                    <a:pt x="16986" y="16073"/>
                  </a:cubicBezTo>
                  <a:cubicBezTo>
                    <a:pt x="17019" y="16074"/>
                    <a:pt x="16894" y="16073"/>
                    <a:pt x="16927" y="16073"/>
                  </a:cubicBezTo>
                  <a:cubicBezTo>
                    <a:pt x="17082" y="16073"/>
                    <a:pt x="17544" y="16123"/>
                    <a:pt x="17502" y="16133"/>
                  </a:cubicBezTo>
                  <a:cubicBezTo>
                    <a:pt x="17388" y="16161"/>
                    <a:pt x="17240" y="16130"/>
                    <a:pt x="17125" y="16133"/>
                  </a:cubicBezTo>
                  <a:cubicBezTo>
                    <a:pt x="17164" y="16133"/>
                    <a:pt x="17046" y="16133"/>
                    <a:pt x="17085" y="16133"/>
                  </a:cubicBezTo>
                  <a:cubicBezTo>
                    <a:pt x="17217" y="16133"/>
                    <a:pt x="17350" y="16133"/>
                    <a:pt x="17482" y="16133"/>
                  </a:cubicBezTo>
                  <a:cubicBezTo>
                    <a:pt x="17427" y="16125"/>
                    <a:pt x="17398" y="16100"/>
                    <a:pt x="17343" y="16093"/>
                  </a:cubicBezTo>
                  <a:cubicBezTo>
                    <a:pt x="17199" y="16074"/>
                    <a:pt x="17053" y="16069"/>
                    <a:pt x="16907" y="16073"/>
                  </a:cubicBezTo>
                  <a:cubicBezTo>
                    <a:pt x="16802" y="16076"/>
                    <a:pt x="16643" y="16120"/>
                    <a:pt x="16550" y="16113"/>
                  </a:cubicBezTo>
                  <a:cubicBezTo>
                    <a:pt x="16510" y="16110"/>
                    <a:pt x="16669" y="16074"/>
                    <a:pt x="16629" y="16073"/>
                  </a:cubicBezTo>
                  <a:cubicBezTo>
                    <a:pt x="16596" y="16072"/>
                    <a:pt x="16642" y="16074"/>
                    <a:pt x="16609" y="16073"/>
                  </a:cubicBezTo>
                  <a:cubicBezTo>
                    <a:pt x="16214" y="16063"/>
                    <a:pt x="15850" y="16084"/>
                    <a:pt x="15478" y="16173"/>
                  </a:cubicBezTo>
                  <a:cubicBezTo>
                    <a:pt x="15567" y="16178"/>
                    <a:pt x="15648" y="16190"/>
                    <a:pt x="15736" y="16192"/>
                  </a:cubicBezTo>
                  <a:cubicBezTo>
                    <a:pt x="15947" y="16198"/>
                    <a:pt x="16160" y="16192"/>
                    <a:pt x="16371" y="16192"/>
                  </a:cubicBezTo>
                  <a:cubicBezTo>
                    <a:pt x="16357" y="16191"/>
                    <a:pt x="16548" y="16227"/>
                    <a:pt x="16431" y="16212"/>
                  </a:cubicBezTo>
                  <a:cubicBezTo>
                    <a:pt x="16354" y="16202"/>
                    <a:pt x="16294" y="16177"/>
                    <a:pt x="16212" y="16173"/>
                  </a:cubicBezTo>
                  <a:cubicBezTo>
                    <a:pt x="15954" y="16161"/>
                    <a:pt x="15404" y="16401"/>
                    <a:pt x="15478" y="16153"/>
                  </a:cubicBezTo>
                  <a:cubicBezTo>
                    <a:pt x="15480" y="16146"/>
                    <a:pt x="15800" y="16153"/>
                    <a:pt x="15677" y="16153"/>
                  </a:cubicBezTo>
                  <a:cubicBezTo>
                    <a:pt x="15352" y="16153"/>
                    <a:pt x="15045" y="16082"/>
                    <a:pt x="14724" y="16034"/>
                  </a:cubicBezTo>
                  <a:cubicBezTo>
                    <a:pt x="14599" y="16015"/>
                    <a:pt x="14513" y="16001"/>
                    <a:pt x="14387" y="15994"/>
                  </a:cubicBezTo>
                  <a:cubicBezTo>
                    <a:pt x="14367" y="15993"/>
                    <a:pt x="14446" y="16015"/>
                    <a:pt x="14426" y="16014"/>
                  </a:cubicBezTo>
                  <a:cubicBezTo>
                    <a:pt x="14668" y="16031"/>
                    <a:pt x="14864" y="16089"/>
                    <a:pt x="15101" y="16133"/>
                  </a:cubicBezTo>
                  <a:cubicBezTo>
                    <a:pt x="15204" y="16152"/>
                    <a:pt x="15327" y="16171"/>
                    <a:pt x="15419" y="16192"/>
                  </a:cubicBezTo>
                  <a:cubicBezTo>
                    <a:pt x="15439" y="16199"/>
                    <a:pt x="15458" y="16205"/>
                    <a:pt x="15478" y="16212"/>
                  </a:cubicBezTo>
                  <a:cubicBezTo>
                    <a:pt x="15258" y="16212"/>
                    <a:pt x="14932" y="16212"/>
                    <a:pt x="14784" y="16212"/>
                  </a:cubicBezTo>
                  <a:cubicBezTo>
                    <a:pt x="14790" y="16212"/>
                    <a:pt x="14797" y="16212"/>
                    <a:pt x="14803" y="16212"/>
                  </a:cubicBezTo>
                  <a:cubicBezTo>
                    <a:pt x="14922" y="16229"/>
                    <a:pt x="15042" y="16259"/>
                    <a:pt x="15161" y="16272"/>
                  </a:cubicBezTo>
                  <a:cubicBezTo>
                    <a:pt x="15214" y="16278"/>
                    <a:pt x="15187" y="16266"/>
                    <a:pt x="15240" y="16272"/>
                  </a:cubicBezTo>
                  <a:cubicBezTo>
                    <a:pt x="15193" y="16261"/>
                    <a:pt x="15150" y="16244"/>
                    <a:pt x="15101" y="16232"/>
                  </a:cubicBezTo>
                  <a:cubicBezTo>
                    <a:pt x="14814" y="16163"/>
                    <a:pt x="14501" y="16068"/>
                    <a:pt x="14208" y="16034"/>
                  </a:cubicBezTo>
                  <a:cubicBezTo>
                    <a:pt x="14089" y="16020"/>
                    <a:pt x="13957" y="16055"/>
                    <a:pt x="13851" y="16014"/>
                  </a:cubicBezTo>
                  <a:cubicBezTo>
                    <a:pt x="13814" y="16000"/>
                    <a:pt x="13909" y="15966"/>
                    <a:pt x="13871" y="15954"/>
                  </a:cubicBezTo>
                  <a:cubicBezTo>
                    <a:pt x="13904" y="15969"/>
                    <a:pt x="13876" y="15983"/>
                    <a:pt x="13910" y="15994"/>
                  </a:cubicBezTo>
                  <a:cubicBezTo>
                    <a:pt x="13991" y="16021"/>
                    <a:pt x="14080" y="16046"/>
                    <a:pt x="14168" y="16073"/>
                  </a:cubicBezTo>
                  <a:cubicBezTo>
                    <a:pt x="14279" y="16107"/>
                    <a:pt x="14398" y="16168"/>
                    <a:pt x="14506" y="16192"/>
                  </a:cubicBezTo>
                  <a:cubicBezTo>
                    <a:pt x="14562" y="16205"/>
                    <a:pt x="14629" y="16198"/>
                    <a:pt x="14684" y="16212"/>
                  </a:cubicBezTo>
                  <a:cubicBezTo>
                    <a:pt x="14643" y="16203"/>
                    <a:pt x="14601" y="16159"/>
                    <a:pt x="14565" y="16153"/>
                  </a:cubicBezTo>
                  <a:cubicBezTo>
                    <a:pt x="14435" y="16131"/>
                    <a:pt x="14298" y="16136"/>
                    <a:pt x="14168" y="16113"/>
                  </a:cubicBezTo>
                  <a:cubicBezTo>
                    <a:pt x="14194" y="16117"/>
                    <a:pt x="14142" y="16111"/>
                    <a:pt x="14168" y="16113"/>
                  </a:cubicBezTo>
                  <a:cubicBezTo>
                    <a:pt x="14238" y="16119"/>
                    <a:pt x="14467" y="16128"/>
                    <a:pt x="14407" y="16133"/>
                  </a:cubicBezTo>
                  <a:cubicBezTo>
                    <a:pt x="14318" y="16140"/>
                    <a:pt x="13894" y="16167"/>
                    <a:pt x="13930" y="16192"/>
                  </a:cubicBezTo>
                  <a:cubicBezTo>
                    <a:pt x="13967" y="16217"/>
                    <a:pt x="14045" y="16220"/>
                    <a:pt x="14089" y="16232"/>
                  </a:cubicBezTo>
                  <a:cubicBezTo>
                    <a:pt x="14175" y="16255"/>
                    <a:pt x="14278" y="16253"/>
                    <a:pt x="14367" y="16272"/>
                  </a:cubicBezTo>
                  <a:cubicBezTo>
                    <a:pt x="14420" y="16283"/>
                    <a:pt x="14474" y="16301"/>
                    <a:pt x="14526" y="16312"/>
                  </a:cubicBezTo>
                  <a:cubicBezTo>
                    <a:pt x="14546" y="16312"/>
                    <a:pt x="14565" y="16312"/>
                    <a:pt x="14585" y="16312"/>
                  </a:cubicBezTo>
                  <a:cubicBezTo>
                    <a:pt x="14546" y="16297"/>
                    <a:pt x="14508" y="16287"/>
                    <a:pt x="14466" y="16272"/>
                  </a:cubicBezTo>
                  <a:cubicBezTo>
                    <a:pt x="14407" y="16251"/>
                    <a:pt x="14357" y="16214"/>
                    <a:pt x="14288" y="16192"/>
                  </a:cubicBezTo>
                  <a:cubicBezTo>
                    <a:pt x="14125" y="16140"/>
                    <a:pt x="13958" y="16135"/>
                    <a:pt x="13791" y="16113"/>
                  </a:cubicBezTo>
                  <a:cubicBezTo>
                    <a:pt x="13680" y="16098"/>
                    <a:pt x="13584" y="16083"/>
                    <a:pt x="13474" y="16073"/>
                  </a:cubicBezTo>
                  <a:cubicBezTo>
                    <a:pt x="13454" y="16073"/>
                    <a:pt x="13434" y="16073"/>
                    <a:pt x="13414" y="16073"/>
                  </a:cubicBezTo>
                  <a:cubicBezTo>
                    <a:pt x="13449" y="16085"/>
                    <a:pt x="13438" y="16103"/>
                    <a:pt x="13474" y="16113"/>
                  </a:cubicBezTo>
                  <a:cubicBezTo>
                    <a:pt x="13578" y="16143"/>
                    <a:pt x="13685" y="16167"/>
                    <a:pt x="13791" y="16192"/>
                  </a:cubicBezTo>
                  <a:cubicBezTo>
                    <a:pt x="13851" y="16206"/>
                    <a:pt x="13913" y="16220"/>
                    <a:pt x="13970" y="16232"/>
                  </a:cubicBezTo>
                  <a:cubicBezTo>
                    <a:pt x="13977" y="16232"/>
                    <a:pt x="13983" y="16232"/>
                    <a:pt x="13990" y="16232"/>
                  </a:cubicBezTo>
                  <a:cubicBezTo>
                    <a:pt x="13780" y="16202"/>
                    <a:pt x="13568" y="16159"/>
                    <a:pt x="13355" y="16133"/>
                  </a:cubicBezTo>
                  <a:cubicBezTo>
                    <a:pt x="13179" y="16111"/>
                    <a:pt x="12973" y="16085"/>
                    <a:pt x="12799" y="16133"/>
                  </a:cubicBezTo>
                  <a:cubicBezTo>
                    <a:pt x="12776" y="16156"/>
                    <a:pt x="12770" y="16166"/>
                    <a:pt x="12779" y="16192"/>
                  </a:cubicBezTo>
                  <a:cubicBezTo>
                    <a:pt x="12848" y="16204"/>
                    <a:pt x="12890" y="16218"/>
                    <a:pt x="12958" y="16232"/>
                  </a:cubicBezTo>
                  <a:cubicBezTo>
                    <a:pt x="13088" y="16259"/>
                    <a:pt x="13300" y="16232"/>
                    <a:pt x="13355" y="16232"/>
                  </a:cubicBezTo>
                  <a:cubicBezTo>
                    <a:pt x="13310" y="16211"/>
                    <a:pt x="13287" y="16175"/>
                    <a:pt x="13236" y="16153"/>
                  </a:cubicBezTo>
                  <a:cubicBezTo>
                    <a:pt x="13133" y="16108"/>
                    <a:pt x="13049" y="16061"/>
                    <a:pt x="12938" y="16034"/>
                  </a:cubicBezTo>
                  <a:cubicBezTo>
                    <a:pt x="12742" y="15986"/>
                    <a:pt x="12521" y="15985"/>
                    <a:pt x="12323" y="15974"/>
                  </a:cubicBezTo>
                  <a:cubicBezTo>
                    <a:pt x="12257" y="15970"/>
                    <a:pt x="12230" y="15979"/>
                    <a:pt x="12164" y="15974"/>
                  </a:cubicBezTo>
                  <a:cubicBezTo>
                    <a:pt x="12171" y="15974"/>
                    <a:pt x="12177" y="15974"/>
                    <a:pt x="12184" y="15974"/>
                  </a:cubicBezTo>
                  <a:cubicBezTo>
                    <a:pt x="12222" y="15987"/>
                    <a:pt x="12264" y="15980"/>
                    <a:pt x="12303" y="15994"/>
                  </a:cubicBezTo>
                  <a:cubicBezTo>
                    <a:pt x="12405" y="16030"/>
                    <a:pt x="12496" y="16080"/>
                    <a:pt x="12601" y="16113"/>
                  </a:cubicBezTo>
                  <a:cubicBezTo>
                    <a:pt x="12667" y="16134"/>
                    <a:pt x="12734" y="16150"/>
                    <a:pt x="12799" y="16173"/>
                  </a:cubicBezTo>
                  <a:cubicBezTo>
                    <a:pt x="12752" y="16175"/>
                    <a:pt x="12756" y="16191"/>
                    <a:pt x="12700" y="16192"/>
                  </a:cubicBezTo>
                  <a:cubicBezTo>
                    <a:pt x="12431" y="16196"/>
                    <a:pt x="12172" y="16164"/>
                    <a:pt x="11906" y="16153"/>
                  </a:cubicBezTo>
                  <a:cubicBezTo>
                    <a:pt x="11853" y="16151"/>
                    <a:pt x="11801" y="16154"/>
                    <a:pt x="11748" y="16153"/>
                  </a:cubicBezTo>
                  <a:cubicBezTo>
                    <a:pt x="11801" y="16156"/>
                    <a:pt x="11825" y="16171"/>
                    <a:pt x="11886" y="16173"/>
                  </a:cubicBezTo>
                  <a:cubicBezTo>
                    <a:pt x="12071" y="16179"/>
                    <a:pt x="12257" y="16173"/>
                    <a:pt x="12442" y="16173"/>
                  </a:cubicBezTo>
                  <a:cubicBezTo>
                    <a:pt x="12439" y="16173"/>
                    <a:pt x="12406" y="16173"/>
                    <a:pt x="12402" y="16173"/>
                  </a:cubicBezTo>
                  <a:cubicBezTo>
                    <a:pt x="12305" y="16160"/>
                    <a:pt x="12203" y="16157"/>
                    <a:pt x="12105" y="16133"/>
                  </a:cubicBezTo>
                  <a:cubicBezTo>
                    <a:pt x="11928" y="16089"/>
                    <a:pt x="11760" y="16007"/>
                    <a:pt x="11589" y="15954"/>
                  </a:cubicBezTo>
                  <a:cubicBezTo>
                    <a:pt x="11540" y="15939"/>
                    <a:pt x="11478" y="15931"/>
                    <a:pt x="11430" y="15915"/>
                  </a:cubicBezTo>
                  <a:cubicBezTo>
                    <a:pt x="11452" y="15928"/>
                    <a:pt x="11462" y="15960"/>
                    <a:pt x="11490" y="15974"/>
                  </a:cubicBezTo>
                  <a:cubicBezTo>
                    <a:pt x="11532" y="15996"/>
                    <a:pt x="11610" y="16011"/>
                    <a:pt x="11648" y="16034"/>
                  </a:cubicBezTo>
                  <a:cubicBezTo>
                    <a:pt x="11792" y="16123"/>
                    <a:pt x="11911" y="16218"/>
                    <a:pt x="12045" y="16312"/>
                  </a:cubicBezTo>
                  <a:cubicBezTo>
                    <a:pt x="11904" y="16277"/>
                    <a:pt x="11771" y="16265"/>
                    <a:pt x="11628" y="16212"/>
                  </a:cubicBezTo>
                  <a:cubicBezTo>
                    <a:pt x="11337" y="16104"/>
                    <a:pt x="11061" y="15975"/>
                    <a:pt x="10755" y="15915"/>
                  </a:cubicBezTo>
                  <a:cubicBezTo>
                    <a:pt x="10669" y="15915"/>
                    <a:pt x="10662" y="15915"/>
                    <a:pt x="10616" y="15915"/>
                  </a:cubicBezTo>
                  <a:cubicBezTo>
                    <a:pt x="10644" y="15929"/>
                    <a:pt x="10628" y="15940"/>
                    <a:pt x="10656" y="15954"/>
                  </a:cubicBezTo>
                  <a:cubicBezTo>
                    <a:pt x="10692" y="15972"/>
                    <a:pt x="10708" y="16001"/>
                    <a:pt x="10735" y="16014"/>
                  </a:cubicBezTo>
                  <a:cubicBezTo>
                    <a:pt x="10802" y="16046"/>
                    <a:pt x="10897" y="16078"/>
                    <a:pt x="10974" y="16113"/>
                  </a:cubicBezTo>
                  <a:cubicBezTo>
                    <a:pt x="11112" y="16175"/>
                    <a:pt x="11268" y="16223"/>
                    <a:pt x="11410" y="16292"/>
                  </a:cubicBezTo>
                  <a:cubicBezTo>
                    <a:pt x="11485" y="16329"/>
                    <a:pt x="11554" y="16373"/>
                    <a:pt x="11628" y="16411"/>
                  </a:cubicBezTo>
                  <a:cubicBezTo>
                    <a:pt x="11586" y="16393"/>
                    <a:pt x="11670" y="16429"/>
                    <a:pt x="11628" y="16411"/>
                  </a:cubicBezTo>
                  <a:cubicBezTo>
                    <a:pt x="11522" y="16364"/>
                    <a:pt x="11425" y="16306"/>
                    <a:pt x="11311" y="16272"/>
                  </a:cubicBezTo>
                  <a:cubicBezTo>
                    <a:pt x="11158" y="16226"/>
                    <a:pt x="10973" y="16179"/>
                    <a:pt x="10815" y="16173"/>
                  </a:cubicBezTo>
                  <a:cubicBezTo>
                    <a:pt x="10761" y="16171"/>
                    <a:pt x="10669" y="16163"/>
                    <a:pt x="10676" y="16173"/>
                  </a:cubicBezTo>
                  <a:cubicBezTo>
                    <a:pt x="10707" y="16222"/>
                    <a:pt x="10720" y="16202"/>
                    <a:pt x="10755" y="16232"/>
                  </a:cubicBezTo>
                  <a:cubicBezTo>
                    <a:pt x="10818" y="16287"/>
                    <a:pt x="10953" y="16299"/>
                    <a:pt x="11033" y="16331"/>
                  </a:cubicBezTo>
                  <a:cubicBezTo>
                    <a:pt x="11102" y="16359"/>
                    <a:pt x="11180" y="16386"/>
                    <a:pt x="11251" y="16411"/>
                  </a:cubicBezTo>
                  <a:cubicBezTo>
                    <a:pt x="11212" y="16390"/>
                    <a:pt x="11211" y="16391"/>
                    <a:pt x="11172" y="16371"/>
                  </a:cubicBezTo>
                  <a:cubicBezTo>
                    <a:pt x="10921" y="16241"/>
                    <a:pt x="10701" y="16118"/>
                    <a:pt x="10418" y="16054"/>
                  </a:cubicBezTo>
                  <a:cubicBezTo>
                    <a:pt x="10295" y="16026"/>
                    <a:pt x="10181" y="16016"/>
                    <a:pt x="10061" y="15994"/>
                  </a:cubicBezTo>
                  <a:cubicBezTo>
                    <a:pt x="10054" y="15994"/>
                    <a:pt x="10048" y="15994"/>
                    <a:pt x="10041" y="15994"/>
                  </a:cubicBezTo>
                  <a:cubicBezTo>
                    <a:pt x="10058" y="16007"/>
                    <a:pt x="10087" y="16031"/>
                    <a:pt x="10120" y="16054"/>
                  </a:cubicBezTo>
                  <a:cubicBezTo>
                    <a:pt x="10259" y="16150"/>
                    <a:pt x="10388" y="16236"/>
                    <a:pt x="10537" y="16312"/>
                  </a:cubicBezTo>
                  <a:cubicBezTo>
                    <a:pt x="10634" y="16361"/>
                    <a:pt x="10722" y="16403"/>
                    <a:pt x="10815" y="16450"/>
                  </a:cubicBezTo>
                  <a:cubicBezTo>
                    <a:pt x="10647" y="16423"/>
                    <a:pt x="10466" y="16412"/>
                    <a:pt x="10299" y="16371"/>
                  </a:cubicBezTo>
                  <a:cubicBezTo>
                    <a:pt x="10208" y="16349"/>
                    <a:pt x="10123" y="16298"/>
                    <a:pt x="10041" y="16272"/>
                  </a:cubicBezTo>
                  <a:cubicBezTo>
                    <a:pt x="10013" y="16272"/>
                    <a:pt x="9999" y="16268"/>
                    <a:pt x="9981" y="16252"/>
                  </a:cubicBezTo>
                  <a:cubicBezTo>
                    <a:pt x="10012" y="16268"/>
                    <a:pt x="10029" y="16306"/>
                    <a:pt x="10081" y="16331"/>
                  </a:cubicBezTo>
                  <a:cubicBezTo>
                    <a:pt x="10129" y="16354"/>
                    <a:pt x="10208" y="16394"/>
                    <a:pt x="10259" y="16411"/>
                  </a:cubicBezTo>
                  <a:cubicBezTo>
                    <a:pt x="10306" y="16427"/>
                    <a:pt x="10356" y="16416"/>
                    <a:pt x="10398" y="16431"/>
                  </a:cubicBezTo>
                  <a:cubicBezTo>
                    <a:pt x="10356" y="16401"/>
                    <a:pt x="10318" y="16343"/>
                    <a:pt x="10299" y="16331"/>
                  </a:cubicBezTo>
                  <a:cubicBezTo>
                    <a:pt x="10268" y="16311"/>
                    <a:pt x="10218" y="16298"/>
                    <a:pt x="10180" y="16272"/>
                  </a:cubicBezTo>
                  <a:cubicBezTo>
                    <a:pt x="9881" y="16068"/>
                    <a:pt x="9594" y="15996"/>
                    <a:pt x="9247" y="15935"/>
                  </a:cubicBezTo>
                  <a:cubicBezTo>
                    <a:pt x="9278" y="15951"/>
                    <a:pt x="9277" y="15937"/>
                    <a:pt x="9307" y="15954"/>
                  </a:cubicBezTo>
                  <a:cubicBezTo>
                    <a:pt x="9384" y="15996"/>
                    <a:pt x="9464" y="16051"/>
                    <a:pt x="9545" y="16093"/>
                  </a:cubicBezTo>
                  <a:cubicBezTo>
                    <a:pt x="9721" y="16184"/>
                    <a:pt x="9904" y="16259"/>
                    <a:pt x="10081" y="16331"/>
                  </a:cubicBezTo>
                  <a:cubicBezTo>
                    <a:pt x="10226" y="16390"/>
                    <a:pt x="10391" y="16475"/>
                    <a:pt x="10517" y="16530"/>
                  </a:cubicBezTo>
                  <a:cubicBezTo>
                    <a:pt x="10363" y="16497"/>
                    <a:pt x="10216" y="16452"/>
                    <a:pt x="10061" y="16411"/>
                  </a:cubicBezTo>
                  <a:cubicBezTo>
                    <a:pt x="9822" y="16348"/>
                    <a:pt x="9586" y="16268"/>
                    <a:pt x="9346" y="16212"/>
                  </a:cubicBezTo>
                  <a:cubicBezTo>
                    <a:pt x="9181" y="16174"/>
                    <a:pt x="9014" y="16163"/>
                    <a:pt x="8850" y="16133"/>
                  </a:cubicBezTo>
                  <a:cubicBezTo>
                    <a:pt x="8818" y="16117"/>
                    <a:pt x="8813" y="16110"/>
                    <a:pt x="8791" y="16113"/>
                  </a:cubicBezTo>
                  <a:cubicBezTo>
                    <a:pt x="8828" y="16123"/>
                    <a:pt x="8821" y="16123"/>
                    <a:pt x="8850" y="16133"/>
                  </a:cubicBezTo>
                  <a:cubicBezTo>
                    <a:pt x="8928" y="16160"/>
                    <a:pt x="9012" y="16189"/>
                    <a:pt x="9088" y="16212"/>
                  </a:cubicBezTo>
                  <a:cubicBezTo>
                    <a:pt x="9156" y="16233"/>
                    <a:pt x="9233" y="16250"/>
                    <a:pt x="9307" y="16272"/>
                  </a:cubicBezTo>
                  <a:cubicBezTo>
                    <a:pt x="9262" y="16257"/>
                    <a:pt x="9372" y="16307"/>
                    <a:pt x="9327" y="16292"/>
                  </a:cubicBezTo>
                  <a:cubicBezTo>
                    <a:pt x="9224" y="16257"/>
                    <a:pt x="9115" y="16203"/>
                    <a:pt x="9009" y="16173"/>
                  </a:cubicBezTo>
                  <a:cubicBezTo>
                    <a:pt x="8890" y="16139"/>
                    <a:pt x="8762" y="16121"/>
                    <a:pt x="8632" y="16093"/>
                  </a:cubicBezTo>
                  <a:cubicBezTo>
                    <a:pt x="8576" y="16081"/>
                    <a:pt x="8509" y="16049"/>
                    <a:pt x="8513" y="16054"/>
                  </a:cubicBezTo>
                  <a:cubicBezTo>
                    <a:pt x="8528" y="16071"/>
                    <a:pt x="8607" y="16083"/>
                    <a:pt x="8632" y="16093"/>
                  </a:cubicBezTo>
                  <a:cubicBezTo>
                    <a:pt x="8712" y="16125"/>
                    <a:pt x="8770" y="16150"/>
                    <a:pt x="8850" y="16173"/>
                  </a:cubicBezTo>
                  <a:cubicBezTo>
                    <a:pt x="8903" y="16190"/>
                    <a:pt x="8915" y="16196"/>
                    <a:pt x="8950" y="16192"/>
                  </a:cubicBezTo>
                  <a:cubicBezTo>
                    <a:pt x="8919" y="16181"/>
                    <a:pt x="8961" y="16203"/>
                    <a:pt x="8930" y="16192"/>
                  </a:cubicBezTo>
                  <a:cubicBezTo>
                    <a:pt x="8882" y="16174"/>
                    <a:pt x="8838" y="16150"/>
                    <a:pt x="8791" y="16133"/>
                  </a:cubicBezTo>
                  <a:cubicBezTo>
                    <a:pt x="8658" y="16086"/>
                    <a:pt x="8528" y="16046"/>
                    <a:pt x="8394" y="16014"/>
                  </a:cubicBezTo>
                  <a:cubicBezTo>
                    <a:pt x="8381" y="16014"/>
                    <a:pt x="8367" y="16014"/>
                    <a:pt x="8354" y="16014"/>
                  </a:cubicBezTo>
                  <a:cubicBezTo>
                    <a:pt x="8387" y="16024"/>
                    <a:pt x="8381" y="16024"/>
                    <a:pt x="8414" y="16034"/>
                  </a:cubicBezTo>
                  <a:cubicBezTo>
                    <a:pt x="8464" y="16049"/>
                    <a:pt x="8525" y="16055"/>
                    <a:pt x="8572" y="16073"/>
                  </a:cubicBezTo>
                  <a:cubicBezTo>
                    <a:pt x="8626" y="16094"/>
                    <a:pt x="8683" y="16114"/>
                    <a:pt x="8731" y="16133"/>
                  </a:cubicBezTo>
                  <a:cubicBezTo>
                    <a:pt x="8718" y="16133"/>
                    <a:pt x="8705" y="16133"/>
                    <a:pt x="8692" y="16133"/>
                  </a:cubicBezTo>
                  <a:cubicBezTo>
                    <a:pt x="8533" y="16133"/>
                    <a:pt x="8182" y="15992"/>
                    <a:pt x="8255" y="16133"/>
                  </a:cubicBezTo>
                  <a:cubicBezTo>
                    <a:pt x="8268" y="16158"/>
                    <a:pt x="8462" y="16239"/>
                    <a:pt x="8493" y="16252"/>
                  </a:cubicBezTo>
                  <a:cubicBezTo>
                    <a:pt x="8516" y="16262"/>
                    <a:pt x="8610" y="16252"/>
                    <a:pt x="8632" y="16272"/>
                  </a:cubicBezTo>
                  <a:cubicBezTo>
                    <a:pt x="8671" y="16307"/>
                    <a:pt x="8507" y="16245"/>
                    <a:pt x="8553" y="16272"/>
                  </a:cubicBezTo>
                  <a:cubicBezTo>
                    <a:pt x="8586" y="16291"/>
                    <a:pt x="8520" y="16275"/>
                    <a:pt x="8553" y="16292"/>
                  </a:cubicBezTo>
                  <a:cubicBezTo>
                    <a:pt x="8642" y="16338"/>
                    <a:pt x="8734" y="16368"/>
                    <a:pt x="8830" y="16411"/>
                  </a:cubicBezTo>
                  <a:cubicBezTo>
                    <a:pt x="9020" y="16496"/>
                    <a:pt x="9211" y="16566"/>
                    <a:pt x="9406" y="16629"/>
                  </a:cubicBezTo>
                  <a:cubicBezTo>
                    <a:pt x="9524" y="16667"/>
                    <a:pt x="9644" y="16698"/>
                    <a:pt x="9763" y="16728"/>
                  </a:cubicBezTo>
                  <a:cubicBezTo>
                    <a:pt x="9715" y="16693"/>
                    <a:pt x="9690" y="16679"/>
                    <a:pt x="9644" y="16649"/>
                  </a:cubicBezTo>
                  <a:cubicBezTo>
                    <a:pt x="9545" y="16585"/>
                    <a:pt x="9451" y="16513"/>
                    <a:pt x="9346" y="16450"/>
                  </a:cubicBezTo>
                  <a:cubicBezTo>
                    <a:pt x="9125" y="16317"/>
                    <a:pt x="8929" y="16212"/>
                    <a:pt x="8692" y="16133"/>
                  </a:cubicBezTo>
                  <a:cubicBezTo>
                    <a:pt x="8639" y="16115"/>
                    <a:pt x="8627" y="16109"/>
                    <a:pt x="8592" y="16113"/>
                  </a:cubicBezTo>
                  <a:cubicBezTo>
                    <a:pt x="8628" y="16138"/>
                    <a:pt x="8633" y="16165"/>
                    <a:pt x="8672" y="16192"/>
                  </a:cubicBezTo>
                  <a:cubicBezTo>
                    <a:pt x="8744" y="16241"/>
                    <a:pt x="8811" y="16294"/>
                    <a:pt x="8890" y="16331"/>
                  </a:cubicBezTo>
                  <a:cubicBezTo>
                    <a:pt x="9072" y="16416"/>
                    <a:pt x="9278" y="16464"/>
                    <a:pt x="9465" y="16510"/>
                  </a:cubicBezTo>
                  <a:cubicBezTo>
                    <a:pt x="9530" y="16526"/>
                    <a:pt x="9520" y="16512"/>
                    <a:pt x="9585" y="16530"/>
                  </a:cubicBezTo>
                  <a:cubicBezTo>
                    <a:pt x="9554" y="16514"/>
                    <a:pt x="9541" y="16487"/>
                    <a:pt x="9505" y="16470"/>
                  </a:cubicBezTo>
                  <a:cubicBezTo>
                    <a:pt x="9446" y="16442"/>
                    <a:pt x="9385" y="16416"/>
                    <a:pt x="9327" y="16391"/>
                  </a:cubicBezTo>
                  <a:cubicBezTo>
                    <a:pt x="9292" y="16376"/>
                    <a:pt x="9342" y="16406"/>
                    <a:pt x="9307" y="16391"/>
                  </a:cubicBezTo>
                  <a:cubicBezTo>
                    <a:pt x="9517" y="16409"/>
                    <a:pt x="9734" y="16413"/>
                    <a:pt x="9942" y="16450"/>
                  </a:cubicBezTo>
                  <a:cubicBezTo>
                    <a:pt x="10078" y="16474"/>
                    <a:pt x="10204" y="16521"/>
                    <a:pt x="10339" y="16550"/>
                  </a:cubicBezTo>
                  <a:cubicBezTo>
                    <a:pt x="10378" y="16558"/>
                    <a:pt x="10339" y="16542"/>
                    <a:pt x="10378" y="16550"/>
                  </a:cubicBezTo>
                  <a:cubicBezTo>
                    <a:pt x="10315" y="16538"/>
                    <a:pt x="10269" y="16499"/>
                    <a:pt x="10200" y="16490"/>
                  </a:cubicBezTo>
                  <a:cubicBezTo>
                    <a:pt x="9956" y="16458"/>
                    <a:pt x="9725" y="16422"/>
                    <a:pt x="9485" y="16371"/>
                  </a:cubicBezTo>
                  <a:cubicBezTo>
                    <a:pt x="9304" y="16332"/>
                    <a:pt x="9115" y="16269"/>
                    <a:pt x="8930" y="16232"/>
                  </a:cubicBezTo>
                  <a:cubicBezTo>
                    <a:pt x="8814" y="16209"/>
                    <a:pt x="8705" y="16196"/>
                    <a:pt x="8592" y="16173"/>
                  </a:cubicBezTo>
                  <a:cubicBezTo>
                    <a:pt x="8627" y="16179"/>
                    <a:pt x="8538" y="16142"/>
                    <a:pt x="8572" y="16153"/>
                  </a:cubicBezTo>
                  <a:cubicBezTo>
                    <a:pt x="8681" y="16188"/>
                    <a:pt x="8797" y="16223"/>
                    <a:pt x="8910" y="16252"/>
                  </a:cubicBezTo>
                  <a:cubicBezTo>
                    <a:pt x="9062" y="16291"/>
                    <a:pt x="9135" y="16293"/>
                    <a:pt x="9287" y="16331"/>
                  </a:cubicBezTo>
                  <a:cubicBezTo>
                    <a:pt x="9280" y="16331"/>
                    <a:pt x="9274" y="16331"/>
                    <a:pt x="9267" y="16331"/>
                  </a:cubicBezTo>
                  <a:cubicBezTo>
                    <a:pt x="8997" y="16300"/>
                    <a:pt x="8725" y="16253"/>
                    <a:pt x="8453" y="16232"/>
                  </a:cubicBezTo>
                  <a:cubicBezTo>
                    <a:pt x="8257" y="16217"/>
                    <a:pt x="7906" y="16232"/>
                    <a:pt x="7779" y="16232"/>
                  </a:cubicBezTo>
                  <a:cubicBezTo>
                    <a:pt x="7845" y="16239"/>
                    <a:pt x="7894" y="16244"/>
                    <a:pt x="7957" y="16252"/>
                  </a:cubicBezTo>
                  <a:cubicBezTo>
                    <a:pt x="8066" y="16266"/>
                    <a:pt x="8168" y="16269"/>
                    <a:pt x="8275" y="16292"/>
                  </a:cubicBezTo>
                  <a:cubicBezTo>
                    <a:pt x="8316" y="16301"/>
                    <a:pt x="8273" y="16305"/>
                    <a:pt x="8315" y="16312"/>
                  </a:cubicBezTo>
                  <a:cubicBezTo>
                    <a:pt x="8308" y="16312"/>
                    <a:pt x="8302" y="16312"/>
                    <a:pt x="8295" y="16312"/>
                  </a:cubicBezTo>
                  <a:cubicBezTo>
                    <a:pt x="8087" y="16297"/>
                    <a:pt x="7904" y="16281"/>
                    <a:pt x="7699" y="16232"/>
                  </a:cubicBezTo>
                  <a:cubicBezTo>
                    <a:pt x="7511" y="16187"/>
                    <a:pt x="7331" y="16106"/>
                    <a:pt x="7144" y="16054"/>
                  </a:cubicBezTo>
                  <a:cubicBezTo>
                    <a:pt x="7083" y="16054"/>
                    <a:pt x="7063" y="16054"/>
                    <a:pt x="7025" y="16034"/>
                  </a:cubicBezTo>
                  <a:cubicBezTo>
                    <a:pt x="7060" y="16048"/>
                    <a:pt x="7051" y="16017"/>
                    <a:pt x="7084" y="16034"/>
                  </a:cubicBezTo>
                  <a:cubicBezTo>
                    <a:pt x="7145" y="16065"/>
                    <a:pt x="7217" y="16101"/>
                    <a:pt x="7283" y="16133"/>
                  </a:cubicBezTo>
                  <a:cubicBezTo>
                    <a:pt x="7420" y="16200"/>
                    <a:pt x="7558" y="16253"/>
                    <a:pt x="7699" y="16312"/>
                  </a:cubicBezTo>
                  <a:cubicBezTo>
                    <a:pt x="7855" y="16377"/>
                    <a:pt x="8019" y="16413"/>
                    <a:pt x="8176" y="16470"/>
                  </a:cubicBezTo>
                  <a:cubicBezTo>
                    <a:pt x="8236" y="16492"/>
                    <a:pt x="8285" y="16527"/>
                    <a:pt x="8354" y="16550"/>
                  </a:cubicBezTo>
                  <a:cubicBezTo>
                    <a:pt x="8321" y="16537"/>
                    <a:pt x="8308" y="16563"/>
                    <a:pt x="8275" y="16550"/>
                  </a:cubicBezTo>
                  <a:cubicBezTo>
                    <a:pt x="8147" y="16499"/>
                    <a:pt x="8001" y="16404"/>
                    <a:pt x="7878" y="16351"/>
                  </a:cubicBezTo>
                  <a:cubicBezTo>
                    <a:pt x="7784" y="16310"/>
                    <a:pt x="7732" y="16276"/>
                    <a:pt x="7640" y="16232"/>
                  </a:cubicBezTo>
                  <a:cubicBezTo>
                    <a:pt x="7801" y="16266"/>
                    <a:pt x="7957" y="16294"/>
                    <a:pt x="8116" y="16351"/>
                  </a:cubicBezTo>
                  <a:cubicBezTo>
                    <a:pt x="8259" y="16403"/>
                    <a:pt x="8391" y="16443"/>
                    <a:pt x="8533" y="16490"/>
                  </a:cubicBezTo>
                  <a:cubicBezTo>
                    <a:pt x="8553" y="16497"/>
                    <a:pt x="8572" y="16503"/>
                    <a:pt x="8592" y="16510"/>
                  </a:cubicBezTo>
                  <a:cubicBezTo>
                    <a:pt x="8549" y="16492"/>
                    <a:pt x="8656" y="16525"/>
                    <a:pt x="8612" y="16510"/>
                  </a:cubicBezTo>
                  <a:cubicBezTo>
                    <a:pt x="8578" y="16499"/>
                    <a:pt x="8544" y="16507"/>
                    <a:pt x="8513" y="16490"/>
                  </a:cubicBezTo>
                  <a:cubicBezTo>
                    <a:pt x="8459" y="16461"/>
                    <a:pt x="8409" y="16438"/>
                    <a:pt x="8354" y="16411"/>
                  </a:cubicBezTo>
                  <a:cubicBezTo>
                    <a:pt x="8310" y="16389"/>
                    <a:pt x="8272" y="16266"/>
                    <a:pt x="8255" y="16312"/>
                  </a:cubicBezTo>
                  <a:cubicBezTo>
                    <a:pt x="8244" y="16343"/>
                    <a:pt x="8266" y="16354"/>
                    <a:pt x="8275" y="16371"/>
                  </a:cubicBezTo>
                  <a:cubicBezTo>
                    <a:pt x="8291" y="16403"/>
                    <a:pt x="8364" y="16438"/>
                    <a:pt x="8394" y="16470"/>
                  </a:cubicBezTo>
                  <a:cubicBezTo>
                    <a:pt x="8401" y="16470"/>
                    <a:pt x="8407" y="16470"/>
                    <a:pt x="8414" y="16470"/>
                  </a:cubicBezTo>
                  <a:cubicBezTo>
                    <a:pt x="8390" y="16444"/>
                    <a:pt x="8501" y="16472"/>
                    <a:pt x="8473" y="16450"/>
                  </a:cubicBezTo>
                  <a:cubicBezTo>
                    <a:pt x="8427" y="16414"/>
                    <a:pt x="8332" y="16370"/>
                    <a:pt x="8275" y="16331"/>
                  </a:cubicBezTo>
                  <a:cubicBezTo>
                    <a:pt x="8134" y="16235"/>
                    <a:pt x="8029" y="16168"/>
                    <a:pt x="7858" y="16113"/>
                  </a:cubicBezTo>
                  <a:cubicBezTo>
                    <a:pt x="7661" y="16049"/>
                    <a:pt x="7440" y="16027"/>
                    <a:pt x="7243" y="15974"/>
                  </a:cubicBezTo>
                  <a:cubicBezTo>
                    <a:pt x="7225" y="15956"/>
                    <a:pt x="7221" y="15949"/>
                    <a:pt x="7203" y="15954"/>
                  </a:cubicBezTo>
                  <a:cubicBezTo>
                    <a:pt x="7221" y="15980"/>
                    <a:pt x="7272" y="16011"/>
                    <a:pt x="7302" y="16054"/>
                  </a:cubicBezTo>
                  <a:cubicBezTo>
                    <a:pt x="7384" y="16171"/>
                    <a:pt x="7442" y="16326"/>
                    <a:pt x="7541" y="16431"/>
                  </a:cubicBezTo>
                  <a:cubicBezTo>
                    <a:pt x="7639" y="16535"/>
                    <a:pt x="7764" y="16588"/>
                    <a:pt x="7878" y="16649"/>
                  </a:cubicBezTo>
                  <a:cubicBezTo>
                    <a:pt x="7934" y="16679"/>
                    <a:pt x="8021" y="16699"/>
                    <a:pt x="8076" y="16728"/>
                  </a:cubicBezTo>
                  <a:cubicBezTo>
                    <a:pt x="8063" y="16721"/>
                    <a:pt x="8050" y="16715"/>
                    <a:pt x="8037" y="16708"/>
                  </a:cubicBezTo>
                  <a:cubicBezTo>
                    <a:pt x="8004" y="16665"/>
                    <a:pt x="7981" y="16593"/>
                    <a:pt x="7938" y="16550"/>
                  </a:cubicBezTo>
                  <a:cubicBezTo>
                    <a:pt x="7852" y="16464"/>
                    <a:pt x="7765" y="16380"/>
                    <a:pt x="7680" y="16292"/>
                  </a:cubicBezTo>
                  <a:cubicBezTo>
                    <a:pt x="7632" y="16243"/>
                    <a:pt x="7511" y="16128"/>
                    <a:pt x="7461" y="16093"/>
                  </a:cubicBezTo>
                  <a:cubicBezTo>
                    <a:pt x="7399" y="16049"/>
                    <a:pt x="7364" y="16064"/>
                    <a:pt x="7322" y="16034"/>
                  </a:cubicBezTo>
                  <a:cubicBezTo>
                    <a:pt x="7333" y="16059"/>
                    <a:pt x="7362" y="16143"/>
                    <a:pt x="7382" y="16192"/>
                  </a:cubicBezTo>
                  <a:cubicBezTo>
                    <a:pt x="7421" y="16289"/>
                    <a:pt x="7450" y="16371"/>
                    <a:pt x="7501" y="16470"/>
                  </a:cubicBezTo>
                  <a:cubicBezTo>
                    <a:pt x="7540" y="16546"/>
                    <a:pt x="7609" y="16639"/>
                    <a:pt x="7660" y="16708"/>
                  </a:cubicBezTo>
                  <a:cubicBezTo>
                    <a:pt x="7683" y="16739"/>
                    <a:pt x="7636" y="16638"/>
                    <a:pt x="7660" y="16669"/>
                  </a:cubicBezTo>
                  <a:cubicBezTo>
                    <a:pt x="7616" y="16617"/>
                    <a:pt x="7594" y="16539"/>
                    <a:pt x="7541" y="16490"/>
                  </a:cubicBezTo>
                  <a:cubicBezTo>
                    <a:pt x="7421" y="16379"/>
                    <a:pt x="7300" y="16289"/>
                    <a:pt x="7164" y="16212"/>
                  </a:cubicBezTo>
                  <a:cubicBezTo>
                    <a:pt x="7144" y="16212"/>
                    <a:pt x="7137" y="16212"/>
                    <a:pt x="7144" y="16232"/>
                  </a:cubicBezTo>
                  <a:cubicBezTo>
                    <a:pt x="7184" y="16299"/>
                    <a:pt x="7217" y="16380"/>
                    <a:pt x="7263" y="16450"/>
                  </a:cubicBezTo>
                  <a:cubicBezTo>
                    <a:pt x="7329" y="16550"/>
                    <a:pt x="7417" y="16665"/>
                    <a:pt x="7501" y="16748"/>
                  </a:cubicBezTo>
                  <a:cubicBezTo>
                    <a:pt x="7523" y="16770"/>
                    <a:pt x="7573" y="16783"/>
                    <a:pt x="7600" y="16808"/>
                  </a:cubicBezTo>
                  <a:cubicBezTo>
                    <a:pt x="7579" y="16777"/>
                    <a:pt x="7544" y="16744"/>
                    <a:pt x="7521" y="16708"/>
                  </a:cubicBezTo>
                  <a:cubicBezTo>
                    <a:pt x="7487" y="16655"/>
                    <a:pt x="7482" y="16606"/>
                    <a:pt x="7441" y="16550"/>
                  </a:cubicBezTo>
                  <a:cubicBezTo>
                    <a:pt x="7403" y="16498"/>
                    <a:pt x="7332" y="16402"/>
                    <a:pt x="7283" y="16371"/>
                  </a:cubicBezTo>
                  <a:cubicBezTo>
                    <a:pt x="7231" y="16338"/>
                    <a:pt x="7163" y="16244"/>
                    <a:pt x="7124" y="16292"/>
                  </a:cubicBezTo>
                  <a:cubicBezTo>
                    <a:pt x="7059" y="16372"/>
                    <a:pt x="7199" y="16490"/>
                    <a:pt x="7203" y="16550"/>
                  </a:cubicBezTo>
                  <a:cubicBezTo>
                    <a:pt x="7206" y="16593"/>
                    <a:pt x="7188" y="16490"/>
                    <a:pt x="7203" y="16530"/>
                  </a:cubicBezTo>
                  <a:cubicBezTo>
                    <a:pt x="7110" y="16425"/>
                    <a:pt x="7006" y="16315"/>
                    <a:pt x="6906" y="16212"/>
                  </a:cubicBezTo>
                  <a:cubicBezTo>
                    <a:pt x="6815" y="16118"/>
                    <a:pt x="6771" y="16061"/>
                    <a:pt x="6668" y="15974"/>
                  </a:cubicBezTo>
                  <a:cubicBezTo>
                    <a:pt x="6661" y="15974"/>
                    <a:pt x="6655" y="15974"/>
                    <a:pt x="6648" y="15974"/>
                  </a:cubicBezTo>
                  <a:cubicBezTo>
                    <a:pt x="6661" y="16003"/>
                    <a:pt x="6667" y="16009"/>
                    <a:pt x="6687" y="16054"/>
                  </a:cubicBezTo>
                  <a:cubicBezTo>
                    <a:pt x="6727" y="16143"/>
                    <a:pt x="6765" y="16220"/>
                    <a:pt x="6806" y="16312"/>
                  </a:cubicBezTo>
                  <a:cubicBezTo>
                    <a:pt x="6852" y="16417"/>
                    <a:pt x="6926" y="16525"/>
                    <a:pt x="6965" y="16629"/>
                  </a:cubicBezTo>
                  <a:cubicBezTo>
                    <a:pt x="6974" y="16652"/>
                    <a:pt x="6955" y="16685"/>
                    <a:pt x="6965" y="16708"/>
                  </a:cubicBezTo>
                  <a:cubicBezTo>
                    <a:pt x="6920" y="16672"/>
                    <a:pt x="6873" y="16612"/>
                    <a:pt x="6846" y="16589"/>
                  </a:cubicBezTo>
                  <a:cubicBezTo>
                    <a:pt x="6773" y="16529"/>
                    <a:pt x="6732" y="16489"/>
                    <a:pt x="6668" y="16431"/>
                  </a:cubicBezTo>
                  <a:cubicBezTo>
                    <a:pt x="6593" y="16363"/>
                    <a:pt x="6549" y="16218"/>
                    <a:pt x="6449" y="16232"/>
                  </a:cubicBezTo>
                  <a:cubicBezTo>
                    <a:pt x="6376" y="16242"/>
                    <a:pt x="6420" y="16197"/>
                    <a:pt x="6390" y="16252"/>
                  </a:cubicBezTo>
                  <a:cubicBezTo>
                    <a:pt x="6341" y="16343"/>
                    <a:pt x="6462" y="16523"/>
                    <a:pt x="6509" y="16589"/>
                  </a:cubicBezTo>
                  <a:cubicBezTo>
                    <a:pt x="6529" y="16589"/>
                    <a:pt x="6548" y="16589"/>
                    <a:pt x="6568" y="16589"/>
                  </a:cubicBezTo>
                  <a:cubicBezTo>
                    <a:pt x="6575" y="16602"/>
                    <a:pt x="6581" y="16616"/>
                    <a:pt x="6588" y="16629"/>
                  </a:cubicBezTo>
                  <a:cubicBezTo>
                    <a:pt x="6566" y="16576"/>
                    <a:pt x="6593" y="16541"/>
                    <a:pt x="6568" y="16490"/>
                  </a:cubicBezTo>
                  <a:cubicBezTo>
                    <a:pt x="6511" y="16373"/>
                    <a:pt x="6438" y="16243"/>
                    <a:pt x="6370" y="16133"/>
                  </a:cubicBezTo>
                  <a:cubicBezTo>
                    <a:pt x="6352" y="16104"/>
                    <a:pt x="6333" y="16091"/>
                    <a:pt x="6310" y="16054"/>
                  </a:cubicBezTo>
                  <a:cubicBezTo>
                    <a:pt x="6300" y="16158"/>
                    <a:pt x="6355" y="16446"/>
                    <a:pt x="6271" y="16431"/>
                  </a:cubicBezTo>
                  <a:cubicBezTo>
                    <a:pt x="6203" y="16419"/>
                    <a:pt x="6173" y="16270"/>
                    <a:pt x="6112" y="16252"/>
                  </a:cubicBezTo>
                  <a:cubicBezTo>
                    <a:pt x="6058" y="16236"/>
                    <a:pt x="6049" y="16190"/>
                    <a:pt x="6032" y="16192"/>
                  </a:cubicBezTo>
                  <a:cubicBezTo>
                    <a:pt x="5997" y="16197"/>
                    <a:pt x="6004" y="16269"/>
                    <a:pt x="5973" y="16252"/>
                  </a:cubicBezTo>
                  <a:cubicBezTo>
                    <a:pt x="5885" y="16203"/>
                    <a:pt x="5981" y="16369"/>
                    <a:pt x="5933" y="16312"/>
                  </a:cubicBezTo>
                  <a:cubicBezTo>
                    <a:pt x="5880" y="16248"/>
                    <a:pt x="5912" y="16167"/>
                    <a:pt x="5874" y="16093"/>
                  </a:cubicBezTo>
                  <a:cubicBezTo>
                    <a:pt x="5859" y="16151"/>
                    <a:pt x="5819" y="16030"/>
                    <a:pt x="5814" y="16133"/>
                  </a:cubicBezTo>
                  <a:cubicBezTo>
                    <a:pt x="5809" y="16238"/>
                    <a:pt x="5822" y="16345"/>
                    <a:pt x="5814" y="16450"/>
                  </a:cubicBezTo>
                  <a:cubicBezTo>
                    <a:pt x="5782" y="16404"/>
                    <a:pt x="5831" y="16413"/>
                    <a:pt x="5794" y="16371"/>
                  </a:cubicBezTo>
                  <a:cubicBezTo>
                    <a:pt x="5768" y="16341"/>
                    <a:pt x="5729" y="16305"/>
                    <a:pt x="5695" y="16272"/>
                  </a:cubicBezTo>
                  <a:cubicBezTo>
                    <a:pt x="5654" y="16232"/>
                    <a:pt x="5591" y="16186"/>
                    <a:pt x="5556" y="16153"/>
                  </a:cubicBezTo>
                  <a:cubicBezTo>
                    <a:pt x="5566" y="16178"/>
                    <a:pt x="5543" y="16233"/>
                    <a:pt x="5576" y="16292"/>
                  </a:cubicBezTo>
                  <a:cubicBezTo>
                    <a:pt x="5613" y="16359"/>
                    <a:pt x="5665" y="16462"/>
                    <a:pt x="5715" y="16510"/>
                  </a:cubicBezTo>
                  <a:cubicBezTo>
                    <a:pt x="5787" y="16580"/>
                    <a:pt x="5844" y="16588"/>
                    <a:pt x="5913" y="16629"/>
                  </a:cubicBezTo>
                  <a:cubicBezTo>
                    <a:pt x="5964" y="16659"/>
                    <a:pt x="5978" y="16753"/>
                    <a:pt x="6032" y="16728"/>
                  </a:cubicBezTo>
                  <a:cubicBezTo>
                    <a:pt x="6153" y="16671"/>
                    <a:pt x="6093" y="16592"/>
                    <a:pt x="6112" y="16470"/>
                  </a:cubicBezTo>
                  <a:cubicBezTo>
                    <a:pt x="6121" y="16412"/>
                    <a:pt x="6107" y="16350"/>
                    <a:pt x="6112" y="16292"/>
                  </a:cubicBezTo>
                  <a:cubicBezTo>
                    <a:pt x="6198" y="16328"/>
                    <a:pt x="6162" y="16249"/>
                    <a:pt x="6191" y="16371"/>
                  </a:cubicBezTo>
                  <a:cubicBezTo>
                    <a:pt x="6191" y="16378"/>
                    <a:pt x="6191" y="16384"/>
                    <a:pt x="6191" y="16391"/>
                  </a:cubicBezTo>
                  <a:cubicBezTo>
                    <a:pt x="6145" y="16346"/>
                    <a:pt x="6123" y="16317"/>
                    <a:pt x="6072" y="16272"/>
                  </a:cubicBezTo>
                  <a:cubicBezTo>
                    <a:pt x="6042" y="16245"/>
                    <a:pt x="5975" y="16188"/>
                    <a:pt x="5933" y="16153"/>
                  </a:cubicBezTo>
                  <a:cubicBezTo>
                    <a:pt x="5974" y="16267"/>
                    <a:pt x="5930" y="16372"/>
                    <a:pt x="6013" y="16490"/>
                  </a:cubicBezTo>
                  <a:cubicBezTo>
                    <a:pt x="6046" y="16537"/>
                    <a:pt x="6139" y="16618"/>
                    <a:pt x="6191" y="16649"/>
                  </a:cubicBezTo>
                  <a:cubicBezTo>
                    <a:pt x="6237" y="16676"/>
                    <a:pt x="6319" y="16761"/>
                    <a:pt x="6390" y="16728"/>
                  </a:cubicBezTo>
                  <a:cubicBezTo>
                    <a:pt x="6475" y="16688"/>
                    <a:pt x="6409" y="16547"/>
                    <a:pt x="6410" y="16490"/>
                  </a:cubicBezTo>
                  <a:cubicBezTo>
                    <a:pt x="6411" y="16443"/>
                    <a:pt x="6352" y="16366"/>
                    <a:pt x="6350" y="16312"/>
                  </a:cubicBezTo>
                  <a:cubicBezTo>
                    <a:pt x="6349" y="16288"/>
                    <a:pt x="6371" y="16246"/>
                    <a:pt x="6370" y="16232"/>
                  </a:cubicBezTo>
                  <a:cubicBezTo>
                    <a:pt x="6397" y="16232"/>
                    <a:pt x="6397" y="16232"/>
                    <a:pt x="6350" y="16232"/>
                  </a:cubicBezTo>
                  <a:cubicBezTo>
                    <a:pt x="6355" y="16273"/>
                    <a:pt x="6279" y="16306"/>
                    <a:pt x="6350" y="16391"/>
                  </a:cubicBezTo>
                  <a:cubicBezTo>
                    <a:pt x="6411" y="16465"/>
                    <a:pt x="6269" y="16455"/>
                    <a:pt x="6330" y="16450"/>
                  </a:cubicBezTo>
                  <a:cubicBezTo>
                    <a:pt x="6373" y="16446"/>
                    <a:pt x="6407" y="16372"/>
                    <a:pt x="6410" y="16371"/>
                  </a:cubicBezTo>
                  <a:cubicBezTo>
                    <a:pt x="6454" y="16354"/>
                    <a:pt x="6434" y="16348"/>
                    <a:pt x="6469" y="16331"/>
                  </a:cubicBezTo>
                </a:path>
              </a:pathLst>
            </a:custGeom>
            <a:noFill/>
            <a:ln cap="rnd" w="34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395440" y="5829480"/>
              <a:ext cx="136080" cy="164880"/>
            </a:xfrm>
            <a:custGeom>
              <a:avLst/>
              <a:gdLst/>
              <a:ahLst/>
              <a:rect l="l" t="t" r="r" b="b"/>
              <a:pathLst>
                <a:path w="378" h="458">
                  <a:moveTo>
                    <a:pt x="6747" y="16192"/>
                  </a:moveTo>
                  <a:cubicBezTo>
                    <a:pt x="6792" y="16211"/>
                    <a:pt x="6807" y="16209"/>
                    <a:pt x="6826" y="16232"/>
                  </a:cubicBezTo>
                  <a:cubicBezTo>
                    <a:pt x="6883" y="16300"/>
                    <a:pt x="6936" y="16312"/>
                    <a:pt x="7005" y="16351"/>
                  </a:cubicBezTo>
                  <a:cubicBezTo>
                    <a:pt x="7058" y="16381"/>
                    <a:pt x="7075" y="16424"/>
                    <a:pt x="7104" y="16470"/>
                  </a:cubicBezTo>
                  <a:cubicBezTo>
                    <a:pt x="7128" y="16508"/>
                    <a:pt x="7124" y="16520"/>
                    <a:pt x="7124" y="16570"/>
                  </a:cubicBezTo>
                  <a:cubicBezTo>
                    <a:pt x="7124" y="16596"/>
                    <a:pt x="7124" y="16623"/>
                    <a:pt x="7124" y="16649"/>
                  </a:cubicBezTo>
                </a:path>
              </a:pathLst>
            </a:custGeom>
            <a:noFill/>
            <a:ln cap="rnd" w="34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452760" y="5700600"/>
              <a:ext cx="3765240" cy="371520"/>
            </a:xfrm>
            <a:custGeom>
              <a:avLst/>
              <a:gdLst/>
              <a:ahLst/>
              <a:rect l="l" t="t" r="r" b="b"/>
              <a:pathLst>
                <a:path w="10458" h="1033">
                  <a:moveTo>
                    <a:pt x="13176" y="16153"/>
                  </a:moveTo>
                  <a:cubicBezTo>
                    <a:pt x="13236" y="16242"/>
                    <a:pt x="13297" y="16319"/>
                    <a:pt x="13355" y="16411"/>
                  </a:cubicBezTo>
                  <a:cubicBezTo>
                    <a:pt x="13362" y="16423"/>
                    <a:pt x="13482" y="16505"/>
                    <a:pt x="13494" y="16510"/>
                  </a:cubicBezTo>
                  <a:cubicBezTo>
                    <a:pt x="13523" y="16524"/>
                    <a:pt x="13599" y="16562"/>
                    <a:pt x="13633" y="16570"/>
                  </a:cubicBezTo>
                  <a:cubicBezTo>
                    <a:pt x="13665" y="16578"/>
                    <a:pt x="13700" y="16585"/>
                    <a:pt x="13732" y="16589"/>
                  </a:cubicBezTo>
                  <a:cubicBezTo>
                    <a:pt x="13752" y="16589"/>
                    <a:pt x="13759" y="16589"/>
                    <a:pt x="13772" y="16589"/>
                  </a:cubicBezTo>
                  <a:cubicBezTo>
                    <a:pt x="13772" y="16509"/>
                    <a:pt x="13751" y="16507"/>
                    <a:pt x="13732" y="16470"/>
                  </a:cubicBezTo>
                  <a:cubicBezTo>
                    <a:pt x="13704" y="16415"/>
                    <a:pt x="13721" y="16405"/>
                    <a:pt x="13672" y="16351"/>
                  </a:cubicBezTo>
                  <a:cubicBezTo>
                    <a:pt x="13638" y="16314"/>
                    <a:pt x="13609" y="16300"/>
                    <a:pt x="13573" y="16272"/>
                  </a:cubicBezTo>
                  <a:cubicBezTo>
                    <a:pt x="13543" y="16249"/>
                    <a:pt x="13542" y="16204"/>
                    <a:pt x="13514" y="16173"/>
                  </a:cubicBezTo>
                  <a:cubicBezTo>
                    <a:pt x="13496" y="16155"/>
                    <a:pt x="13492" y="16148"/>
                    <a:pt x="13474" y="16153"/>
                  </a:cubicBezTo>
                  <a:cubicBezTo>
                    <a:pt x="13491" y="16170"/>
                    <a:pt x="13523" y="16187"/>
                    <a:pt x="13553" y="16212"/>
                  </a:cubicBezTo>
                  <a:cubicBezTo>
                    <a:pt x="13604" y="16254"/>
                    <a:pt x="13610" y="16309"/>
                    <a:pt x="13652" y="16351"/>
                  </a:cubicBezTo>
                  <a:cubicBezTo>
                    <a:pt x="13696" y="16395"/>
                    <a:pt x="13757" y="16433"/>
                    <a:pt x="13791" y="16470"/>
                  </a:cubicBezTo>
                  <a:cubicBezTo>
                    <a:pt x="13810" y="16509"/>
                    <a:pt x="13815" y="16522"/>
                    <a:pt x="13851" y="16510"/>
                  </a:cubicBezTo>
                  <a:cubicBezTo>
                    <a:pt x="13851" y="16457"/>
                    <a:pt x="13839" y="16440"/>
                    <a:pt x="13831" y="16391"/>
                  </a:cubicBezTo>
                  <a:cubicBezTo>
                    <a:pt x="13824" y="16346"/>
                    <a:pt x="13807" y="16314"/>
                    <a:pt x="13791" y="16272"/>
                  </a:cubicBezTo>
                  <a:cubicBezTo>
                    <a:pt x="13755" y="16175"/>
                    <a:pt x="13766" y="16222"/>
                    <a:pt x="13712" y="16153"/>
                  </a:cubicBezTo>
                  <a:cubicBezTo>
                    <a:pt x="13712" y="16146"/>
                    <a:pt x="13712" y="16140"/>
                    <a:pt x="13712" y="16133"/>
                  </a:cubicBezTo>
                  <a:cubicBezTo>
                    <a:pt x="13730" y="16144"/>
                    <a:pt x="13753" y="16139"/>
                    <a:pt x="13772" y="16153"/>
                  </a:cubicBezTo>
                  <a:cubicBezTo>
                    <a:pt x="13820" y="16188"/>
                    <a:pt x="13928" y="16253"/>
                    <a:pt x="13970" y="16292"/>
                  </a:cubicBezTo>
                  <a:cubicBezTo>
                    <a:pt x="13999" y="16320"/>
                    <a:pt x="14108" y="16361"/>
                    <a:pt x="14129" y="16391"/>
                  </a:cubicBezTo>
                  <a:cubicBezTo>
                    <a:pt x="14165" y="16441"/>
                    <a:pt x="14119" y="16415"/>
                    <a:pt x="14188" y="16431"/>
                  </a:cubicBezTo>
                  <a:cubicBezTo>
                    <a:pt x="14182" y="16385"/>
                    <a:pt x="14188" y="16347"/>
                    <a:pt x="14149" y="16312"/>
                  </a:cubicBezTo>
                  <a:cubicBezTo>
                    <a:pt x="14130" y="16295"/>
                    <a:pt x="14079" y="16251"/>
                    <a:pt x="14049" y="16232"/>
                  </a:cubicBezTo>
                  <a:cubicBezTo>
                    <a:pt x="14036" y="16225"/>
                    <a:pt x="14023" y="16219"/>
                    <a:pt x="14010" y="16212"/>
                  </a:cubicBezTo>
                  <a:cubicBezTo>
                    <a:pt x="13967" y="16236"/>
                    <a:pt x="13954" y="16232"/>
                    <a:pt x="13950" y="16292"/>
                  </a:cubicBezTo>
                  <a:cubicBezTo>
                    <a:pt x="13947" y="16340"/>
                    <a:pt x="13944" y="16389"/>
                    <a:pt x="13970" y="16431"/>
                  </a:cubicBezTo>
                  <a:cubicBezTo>
                    <a:pt x="14001" y="16481"/>
                    <a:pt x="14066" y="16515"/>
                    <a:pt x="14109" y="16550"/>
                  </a:cubicBezTo>
                  <a:cubicBezTo>
                    <a:pt x="14134" y="16571"/>
                    <a:pt x="14121" y="16564"/>
                    <a:pt x="14149" y="16550"/>
                  </a:cubicBezTo>
                  <a:cubicBezTo>
                    <a:pt x="14142" y="16539"/>
                    <a:pt x="14095" y="16453"/>
                    <a:pt x="14089" y="16450"/>
                  </a:cubicBezTo>
                  <a:cubicBezTo>
                    <a:pt x="14051" y="16431"/>
                    <a:pt x="14015" y="16426"/>
                    <a:pt x="13990" y="16391"/>
                  </a:cubicBezTo>
                  <a:cubicBezTo>
                    <a:pt x="13955" y="16341"/>
                    <a:pt x="13919" y="16322"/>
                    <a:pt x="13871" y="16292"/>
                  </a:cubicBezTo>
                  <a:cubicBezTo>
                    <a:pt x="13847" y="16268"/>
                    <a:pt x="13838" y="16257"/>
                    <a:pt x="13831" y="16232"/>
                  </a:cubicBezTo>
                  <a:cubicBezTo>
                    <a:pt x="13854" y="16249"/>
                    <a:pt x="13895" y="16283"/>
                    <a:pt x="13910" y="16292"/>
                  </a:cubicBezTo>
                  <a:cubicBezTo>
                    <a:pt x="13969" y="16327"/>
                    <a:pt x="13993" y="16340"/>
                    <a:pt x="14049" y="16391"/>
                  </a:cubicBezTo>
                  <a:cubicBezTo>
                    <a:pt x="14090" y="16428"/>
                    <a:pt x="14155" y="16487"/>
                    <a:pt x="14188" y="16510"/>
                  </a:cubicBezTo>
                  <a:cubicBezTo>
                    <a:pt x="14274" y="16569"/>
                    <a:pt x="14227" y="16491"/>
                    <a:pt x="14268" y="16470"/>
                  </a:cubicBezTo>
                  <a:cubicBezTo>
                    <a:pt x="14303" y="16470"/>
                    <a:pt x="14314" y="16473"/>
                    <a:pt x="14327" y="16450"/>
                  </a:cubicBezTo>
                </a:path>
                <a:path w="10458" h="1033">
                  <a:moveTo>
                    <a:pt x="19745" y="16073"/>
                  </a:moveTo>
                  <a:cubicBezTo>
                    <a:pt x="19779" y="16088"/>
                    <a:pt x="19831" y="16093"/>
                    <a:pt x="19864" y="16113"/>
                  </a:cubicBezTo>
                  <a:cubicBezTo>
                    <a:pt x="19899" y="16135"/>
                    <a:pt x="19943" y="16180"/>
                    <a:pt x="19983" y="16212"/>
                  </a:cubicBezTo>
                  <a:cubicBezTo>
                    <a:pt x="20020" y="16242"/>
                    <a:pt x="20067" y="16281"/>
                    <a:pt x="20102" y="16312"/>
                  </a:cubicBezTo>
                  <a:cubicBezTo>
                    <a:pt x="20130" y="16312"/>
                    <a:pt x="20140" y="16319"/>
                    <a:pt x="20141" y="16351"/>
                  </a:cubicBezTo>
                  <a:cubicBezTo>
                    <a:pt x="20111" y="16298"/>
                    <a:pt x="20123" y="16312"/>
                    <a:pt x="20082" y="16272"/>
                  </a:cubicBezTo>
                  <a:cubicBezTo>
                    <a:pt x="20026" y="16218"/>
                    <a:pt x="19999" y="16175"/>
                    <a:pt x="19943" y="16113"/>
                  </a:cubicBezTo>
                  <a:cubicBezTo>
                    <a:pt x="19909" y="16075"/>
                    <a:pt x="19855" y="16010"/>
                    <a:pt x="19804" y="15954"/>
                  </a:cubicBezTo>
                  <a:cubicBezTo>
                    <a:pt x="19773" y="15920"/>
                    <a:pt x="19717" y="15858"/>
                    <a:pt x="19685" y="15835"/>
                  </a:cubicBezTo>
                  <a:cubicBezTo>
                    <a:pt x="19678" y="15835"/>
                    <a:pt x="19672" y="15835"/>
                    <a:pt x="19665" y="15835"/>
                  </a:cubicBezTo>
                  <a:cubicBezTo>
                    <a:pt x="19678" y="15863"/>
                    <a:pt x="19691" y="15906"/>
                    <a:pt x="19705" y="15935"/>
                  </a:cubicBezTo>
                  <a:cubicBezTo>
                    <a:pt x="19725" y="15977"/>
                    <a:pt x="19781" y="16033"/>
                    <a:pt x="19804" y="16093"/>
                  </a:cubicBezTo>
                  <a:cubicBezTo>
                    <a:pt x="19824" y="16145"/>
                    <a:pt x="19832" y="16218"/>
                    <a:pt x="19844" y="16272"/>
                  </a:cubicBezTo>
                  <a:cubicBezTo>
                    <a:pt x="19854" y="16317"/>
                    <a:pt x="19853" y="16375"/>
                    <a:pt x="19883" y="16411"/>
                  </a:cubicBezTo>
                  <a:cubicBezTo>
                    <a:pt x="19900" y="16431"/>
                    <a:pt x="19886" y="16370"/>
                    <a:pt x="19903" y="16391"/>
                  </a:cubicBezTo>
                  <a:cubicBezTo>
                    <a:pt x="19865" y="16365"/>
                    <a:pt x="19806" y="16329"/>
                    <a:pt x="19764" y="16292"/>
                  </a:cubicBezTo>
                  <a:cubicBezTo>
                    <a:pt x="19713" y="16247"/>
                    <a:pt x="19619" y="16172"/>
                    <a:pt x="19586" y="16133"/>
                  </a:cubicBezTo>
                  <a:cubicBezTo>
                    <a:pt x="19539" y="16077"/>
                    <a:pt x="19530" y="16047"/>
                    <a:pt x="19487" y="16014"/>
                  </a:cubicBezTo>
                  <a:cubicBezTo>
                    <a:pt x="19495" y="16045"/>
                    <a:pt x="19495" y="16082"/>
                    <a:pt x="19506" y="16113"/>
                  </a:cubicBezTo>
                  <a:cubicBezTo>
                    <a:pt x="19540" y="16213"/>
                    <a:pt x="19609" y="16218"/>
                    <a:pt x="19665" y="16272"/>
                  </a:cubicBezTo>
                  <a:cubicBezTo>
                    <a:pt x="19707" y="16312"/>
                    <a:pt x="19705" y="16341"/>
                    <a:pt x="19764" y="16371"/>
                  </a:cubicBezTo>
                  <a:cubicBezTo>
                    <a:pt x="19752" y="16351"/>
                    <a:pt x="19739" y="16282"/>
                    <a:pt x="19725" y="16272"/>
                  </a:cubicBezTo>
                  <a:cubicBezTo>
                    <a:pt x="19662" y="16229"/>
                    <a:pt x="19627" y="16217"/>
                    <a:pt x="19566" y="16173"/>
                  </a:cubicBezTo>
                  <a:cubicBezTo>
                    <a:pt x="19545" y="16158"/>
                    <a:pt x="19507" y="16114"/>
                    <a:pt x="19467" y="16093"/>
                  </a:cubicBezTo>
                  <a:cubicBezTo>
                    <a:pt x="19478" y="16131"/>
                    <a:pt x="19499" y="16183"/>
                    <a:pt x="19506" y="16212"/>
                  </a:cubicBezTo>
                  <a:cubicBezTo>
                    <a:pt x="19527" y="16298"/>
                    <a:pt x="19561" y="16369"/>
                    <a:pt x="19586" y="16450"/>
                  </a:cubicBezTo>
                  <a:cubicBezTo>
                    <a:pt x="19604" y="16510"/>
                    <a:pt x="19605" y="16559"/>
                    <a:pt x="19645" y="16609"/>
                  </a:cubicBezTo>
                  <a:cubicBezTo>
                    <a:pt x="19645" y="16596"/>
                    <a:pt x="19645" y="16583"/>
                    <a:pt x="19645" y="16570"/>
                  </a:cubicBezTo>
                  <a:cubicBezTo>
                    <a:pt x="19632" y="16547"/>
                    <a:pt x="19622" y="16490"/>
                    <a:pt x="19606" y="16470"/>
                  </a:cubicBezTo>
                  <a:cubicBezTo>
                    <a:pt x="19569" y="16423"/>
                    <a:pt x="19506" y="16354"/>
                    <a:pt x="19467" y="16312"/>
                  </a:cubicBezTo>
                  <a:cubicBezTo>
                    <a:pt x="19445" y="16288"/>
                    <a:pt x="19368" y="16162"/>
                    <a:pt x="19348" y="16153"/>
                  </a:cubicBezTo>
                  <a:cubicBezTo>
                    <a:pt x="19324" y="16142"/>
                    <a:pt x="19312" y="16184"/>
                    <a:pt x="19288" y="16173"/>
                  </a:cubicBezTo>
                  <a:cubicBezTo>
                    <a:pt x="19296" y="16216"/>
                    <a:pt x="19325" y="16277"/>
                    <a:pt x="19328" y="16312"/>
                  </a:cubicBezTo>
                  <a:cubicBezTo>
                    <a:pt x="19335" y="16389"/>
                    <a:pt x="19328" y="16472"/>
                    <a:pt x="19328" y="16550"/>
                  </a:cubicBezTo>
                  <a:cubicBezTo>
                    <a:pt x="19309" y="16515"/>
                    <a:pt x="19337" y="16518"/>
                    <a:pt x="19308" y="16490"/>
                  </a:cubicBezTo>
                  <a:cubicBezTo>
                    <a:pt x="19280" y="16463"/>
                    <a:pt x="19209" y="16435"/>
                    <a:pt x="19189" y="16411"/>
                  </a:cubicBezTo>
                  <a:cubicBezTo>
                    <a:pt x="19156" y="16373"/>
                    <a:pt x="19152" y="16306"/>
                    <a:pt x="19110" y="16272"/>
                  </a:cubicBezTo>
                  <a:cubicBezTo>
                    <a:pt x="19049" y="16223"/>
                    <a:pt x="19040" y="16223"/>
                    <a:pt x="18990" y="16173"/>
                  </a:cubicBezTo>
                  <a:cubicBezTo>
                    <a:pt x="19008" y="16222"/>
                    <a:pt x="19018" y="16257"/>
                    <a:pt x="19030" y="16312"/>
                  </a:cubicBezTo>
                  <a:cubicBezTo>
                    <a:pt x="19040" y="16360"/>
                    <a:pt x="19036" y="16426"/>
                    <a:pt x="19050" y="16470"/>
                  </a:cubicBezTo>
                  <a:cubicBezTo>
                    <a:pt x="19056" y="16489"/>
                    <a:pt x="19079" y="16559"/>
                    <a:pt x="19090" y="16570"/>
                  </a:cubicBezTo>
                  <a:cubicBezTo>
                    <a:pt x="19100" y="16580"/>
                    <a:pt x="19138" y="16561"/>
                    <a:pt x="19149" y="16570"/>
                  </a:cubicBezTo>
                  <a:cubicBezTo>
                    <a:pt x="19142" y="16498"/>
                    <a:pt x="19147" y="16504"/>
                    <a:pt x="19110" y="16431"/>
                  </a:cubicBezTo>
                  <a:cubicBezTo>
                    <a:pt x="19083" y="16379"/>
                    <a:pt x="19060" y="16388"/>
                    <a:pt x="19030" y="16351"/>
                  </a:cubicBezTo>
                  <a:cubicBezTo>
                    <a:pt x="18997" y="16311"/>
                    <a:pt x="18990" y="16305"/>
                    <a:pt x="18951" y="16272"/>
                  </a:cubicBezTo>
                  <a:cubicBezTo>
                    <a:pt x="18889" y="16218"/>
                    <a:pt x="18904" y="16229"/>
                    <a:pt x="18832" y="16212"/>
                  </a:cubicBezTo>
                  <a:cubicBezTo>
                    <a:pt x="18825" y="16212"/>
                    <a:pt x="18819" y="16212"/>
                    <a:pt x="18812" y="16212"/>
                  </a:cubicBezTo>
                  <a:cubicBezTo>
                    <a:pt x="18812" y="16289"/>
                    <a:pt x="18821" y="16364"/>
                    <a:pt x="18832" y="16431"/>
                  </a:cubicBezTo>
                  <a:cubicBezTo>
                    <a:pt x="18838" y="16467"/>
                    <a:pt x="18845" y="16513"/>
                    <a:pt x="18852" y="16550"/>
                  </a:cubicBezTo>
                  <a:cubicBezTo>
                    <a:pt x="18837" y="16514"/>
                    <a:pt x="18853" y="16523"/>
                    <a:pt x="18832" y="16490"/>
                  </a:cubicBezTo>
                  <a:cubicBezTo>
                    <a:pt x="18796" y="16432"/>
                    <a:pt x="18767" y="16437"/>
                    <a:pt x="18713" y="16391"/>
                  </a:cubicBezTo>
                  <a:cubicBezTo>
                    <a:pt x="18654" y="16340"/>
                    <a:pt x="18587" y="16288"/>
                    <a:pt x="18534" y="16232"/>
                  </a:cubicBezTo>
                  <a:cubicBezTo>
                    <a:pt x="18499" y="16195"/>
                    <a:pt x="18478" y="16126"/>
                    <a:pt x="18455" y="16093"/>
                  </a:cubicBezTo>
                  <a:cubicBezTo>
                    <a:pt x="18455" y="16186"/>
                    <a:pt x="18565" y="16328"/>
                    <a:pt x="18475" y="16351"/>
                  </a:cubicBezTo>
                  <a:cubicBezTo>
                    <a:pt x="18469" y="16352"/>
                    <a:pt x="18408" y="16263"/>
                    <a:pt x="18395" y="16252"/>
                  </a:cubicBezTo>
                  <a:cubicBezTo>
                    <a:pt x="18371" y="16228"/>
                    <a:pt x="18360" y="16219"/>
                    <a:pt x="18336" y="16212"/>
                  </a:cubicBezTo>
                  <a:cubicBezTo>
                    <a:pt x="18339" y="16287"/>
                    <a:pt x="18351" y="16357"/>
                    <a:pt x="18355" y="16431"/>
                  </a:cubicBezTo>
                  <a:cubicBezTo>
                    <a:pt x="18358" y="16492"/>
                    <a:pt x="18368" y="16559"/>
                    <a:pt x="18375" y="16609"/>
                  </a:cubicBezTo>
                  <a:cubicBezTo>
                    <a:pt x="18392" y="16590"/>
                    <a:pt x="18403" y="16556"/>
                    <a:pt x="18435" y="16530"/>
                  </a:cubicBezTo>
                  <a:cubicBezTo>
                    <a:pt x="18461" y="16508"/>
                    <a:pt x="18510" y="16464"/>
                    <a:pt x="18534" y="16450"/>
                  </a:cubicBezTo>
                  <a:cubicBezTo>
                    <a:pt x="18570" y="16428"/>
                    <a:pt x="18635" y="16411"/>
                    <a:pt x="18673" y="16391"/>
                  </a:cubicBezTo>
                  <a:cubicBezTo>
                    <a:pt x="18721" y="16366"/>
                    <a:pt x="18735" y="16343"/>
                    <a:pt x="18792" y="16351"/>
                  </a:cubicBezTo>
                  <a:cubicBezTo>
                    <a:pt x="18839" y="16358"/>
                    <a:pt x="18875" y="16322"/>
                    <a:pt x="18871" y="16391"/>
                  </a:cubicBezTo>
                  <a:cubicBezTo>
                    <a:pt x="18868" y="16434"/>
                    <a:pt x="18806" y="16433"/>
                    <a:pt x="18772" y="16450"/>
                  </a:cubicBezTo>
                  <a:cubicBezTo>
                    <a:pt x="18765" y="16450"/>
                    <a:pt x="18759" y="16450"/>
                    <a:pt x="18752" y="16450"/>
                  </a:cubicBezTo>
                  <a:cubicBezTo>
                    <a:pt x="18777" y="16435"/>
                    <a:pt x="18807" y="16424"/>
                    <a:pt x="18832" y="16411"/>
                  </a:cubicBezTo>
                  <a:cubicBezTo>
                    <a:pt x="18866" y="16393"/>
                    <a:pt x="18900" y="16370"/>
                    <a:pt x="18931" y="16351"/>
                  </a:cubicBezTo>
                  <a:cubicBezTo>
                    <a:pt x="18732" y="16351"/>
                    <a:pt x="18567" y="16337"/>
                    <a:pt x="18375" y="16292"/>
                  </a:cubicBezTo>
                  <a:cubicBezTo>
                    <a:pt x="18290" y="16272"/>
                    <a:pt x="18220" y="16275"/>
                    <a:pt x="18137" y="16272"/>
                  </a:cubicBezTo>
                  <a:cubicBezTo>
                    <a:pt x="18207" y="16235"/>
                    <a:pt x="18207" y="16212"/>
                    <a:pt x="18296" y="16212"/>
                  </a:cubicBezTo>
                  <a:cubicBezTo>
                    <a:pt x="18314" y="16212"/>
                    <a:pt x="18396" y="16196"/>
                    <a:pt x="18375" y="16232"/>
                  </a:cubicBezTo>
                  <a:cubicBezTo>
                    <a:pt x="18352" y="16272"/>
                    <a:pt x="18297" y="16270"/>
                    <a:pt x="18256" y="16292"/>
                  </a:cubicBezTo>
                  <a:cubicBezTo>
                    <a:pt x="18216" y="16313"/>
                    <a:pt x="18151" y="16312"/>
                    <a:pt x="18117" y="16331"/>
                  </a:cubicBezTo>
                  <a:cubicBezTo>
                    <a:pt x="18084" y="16349"/>
                    <a:pt x="18068" y="16372"/>
                    <a:pt x="18038" y="16391"/>
                  </a:cubicBezTo>
                  <a:cubicBezTo>
                    <a:pt x="18190" y="16391"/>
                    <a:pt x="18342" y="16391"/>
                    <a:pt x="18494" y="16391"/>
                  </a:cubicBezTo>
                  <a:cubicBezTo>
                    <a:pt x="18400" y="16391"/>
                    <a:pt x="18299" y="16383"/>
                    <a:pt x="18217" y="16411"/>
                  </a:cubicBezTo>
                  <a:cubicBezTo>
                    <a:pt x="18155" y="16432"/>
                    <a:pt x="18170" y="16427"/>
                    <a:pt x="18117" y="16450"/>
                  </a:cubicBezTo>
                  <a:cubicBezTo>
                    <a:pt x="18142" y="16422"/>
                    <a:pt x="18148" y="16392"/>
                    <a:pt x="18197" y="16371"/>
                  </a:cubicBezTo>
                  <a:cubicBezTo>
                    <a:pt x="18248" y="16349"/>
                    <a:pt x="18287" y="16324"/>
                    <a:pt x="18336" y="16312"/>
                  </a:cubicBezTo>
                  <a:cubicBezTo>
                    <a:pt x="18372" y="16304"/>
                    <a:pt x="18419" y="16300"/>
                    <a:pt x="18455" y="16292"/>
                  </a:cubicBezTo>
                  <a:cubicBezTo>
                    <a:pt x="18403" y="16319"/>
                    <a:pt x="18350" y="16373"/>
                    <a:pt x="18296" y="16391"/>
                  </a:cubicBezTo>
                  <a:cubicBezTo>
                    <a:pt x="18197" y="16424"/>
                    <a:pt x="18065" y="16454"/>
                    <a:pt x="17959" y="16470"/>
                  </a:cubicBezTo>
                  <a:cubicBezTo>
                    <a:pt x="17799" y="16494"/>
                    <a:pt x="17643" y="16490"/>
                    <a:pt x="17482" y="16490"/>
                  </a:cubicBezTo>
                  <a:cubicBezTo>
                    <a:pt x="17505" y="16453"/>
                    <a:pt x="17488" y="16425"/>
                    <a:pt x="17522" y="16391"/>
                  </a:cubicBezTo>
                  <a:cubicBezTo>
                    <a:pt x="17583" y="16329"/>
                    <a:pt x="17682" y="16273"/>
                    <a:pt x="17760" y="16232"/>
                  </a:cubicBezTo>
                  <a:cubicBezTo>
                    <a:pt x="17807" y="16207"/>
                    <a:pt x="17849" y="16178"/>
                    <a:pt x="17899" y="16173"/>
                  </a:cubicBezTo>
                  <a:cubicBezTo>
                    <a:pt x="17906" y="16179"/>
                    <a:pt x="17912" y="16186"/>
                    <a:pt x="17919" y="16192"/>
                  </a:cubicBezTo>
                  <a:cubicBezTo>
                    <a:pt x="17901" y="16235"/>
                    <a:pt x="17961" y="16241"/>
                    <a:pt x="17919" y="16272"/>
                  </a:cubicBezTo>
                  <a:cubicBezTo>
                    <a:pt x="17851" y="16322"/>
                    <a:pt x="17761" y="16316"/>
                    <a:pt x="17681" y="16331"/>
                  </a:cubicBezTo>
                  <a:cubicBezTo>
                    <a:pt x="17542" y="16357"/>
                    <a:pt x="17405" y="16351"/>
                    <a:pt x="17264" y="16351"/>
                  </a:cubicBezTo>
                  <a:cubicBezTo>
                    <a:pt x="17244" y="16351"/>
                    <a:pt x="17225" y="16351"/>
                    <a:pt x="17205" y="16351"/>
                  </a:cubicBezTo>
                  <a:cubicBezTo>
                    <a:pt x="17211" y="16344"/>
                    <a:pt x="17095" y="16378"/>
                    <a:pt x="17185" y="16351"/>
                  </a:cubicBezTo>
                  <a:cubicBezTo>
                    <a:pt x="17241" y="16334"/>
                    <a:pt x="17303" y="16332"/>
                    <a:pt x="17363" y="16331"/>
                  </a:cubicBezTo>
                  <a:cubicBezTo>
                    <a:pt x="17502" y="16328"/>
                    <a:pt x="17641" y="16331"/>
                    <a:pt x="17780" y="16331"/>
                  </a:cubicBezTo>
                  <a:cubicBezTo>
                    <a:pt x="17728" y="16354"/>
                    <a:pt x="17694" y="16348"/>
                    <a:pt x="17641" y="16371"/>
                  </a:cubicBezTo>
                  <a:cubicBezTo>
                    <a:pt x="17509" y="16428"/>
                    <a:pt x="17417" y="16457"/>
                    <a:pt x="17284" y="16490"/>
                  </a:cubicBezTo>
                  <a:cubicBezTo>
                    <a:pt x="17220" y="16506"/>
                    <a:pt x="17163" y="16535"/>
                    <a:pt x="17105" y="16550"/>
                  </a:cubicBezTo>
                  <a:cubicBezTo>
                    <a:pt x="17121" y="16521"/>
                    <a:pt x="17107" y="16538"/>
                    <a:pt x="17125" y="16510"/>
                  </a:cubicBezTo>
                  <a:cubicBezTo>
                    <a:pt x="17143" y="16481"/>
                    <a:pt x="17168" y="16432"/>
                    <a:pt x="17205" y="16411"/>
                  </a:cubicBezTo>
                  <a:cubicBezTo>
                    <a:pt x="17267" y="16376"/>
                    <a:pt x="17280" y="16399"/>
                    <a:pt x="17343" y="16351"/>
                  </a:cubicBezTo>
                  <a:cubicBezTo>
                    <a:pt x="17350" y="16344"/>
                    <a:pt x="17356" y="16338"/>
                    <a:pt x="17363" y="16331"/>
                  </a:cubicBezTo>
                  <a:cubicBezTo>
                    <a:pt x="17064" y="16331"/>
                    <a:pt x="16768" y="16351"/>
                    <a:pt x="16470" y="16351"/>
                  </a:cubicBezTo>
                  <a:cubicBezTo>
                    <a:pt x="16463" y="16351"/>
                    <a:pt x="16457" y="16351"/>
                    <a:pt x="16450" y="16351"/>
                  </a:cubicBezTo>
                  <a:cubicBezTo>
                    <a:pt x="16482" y="16335"/>
                    <a:pt x="16517" y="16311"/>
                    <a:pt x="16550" y="16292"/>
                  </a:cubicBezTo>
                  <a:cubicBezTo>
                    <a:pt x="16600" y="16264"/>
                    <a:pt x="16670" y="16230"/>
                    <a:pt x="16728" y="16212"/>
                  </a:cubicBezTo>
                  <a:cubicBezTo>
                    <a:pt x="16780" y="16196"/>
                    <a:pt x="16813" y="16215"/>
                    <a:pt x="16867" y="16212"/>
                  </a:cubicBezTo>
                  <a:cubicBezTo>
                    <a:pt x="16838" y="16257"/>
                    <a:pt x="16817" y="16322"/>
                    <a:pt x="16768" y="16371"/>
                  </a:cubicBezTo>
                  <a:cubicBezTo>
                    <a:pt x="16674" y="16466"/>
                    <a:pt x="16476" y="16550"/>
                    <a:pt x="16351" y="16589"/>
                  </a:cubicBezTo>
                  <a:cubicBezTo>
                    <a:pt x="16272" y="16614"/>
                    <a:pt x="16192" y="16616"/>
                    <a:pt x="16113" y="16629"/>
                  </a:cubicBezTo>
                  <a:cubicBezTo>
                    <a:pt x="16137" y="16590"/>
                    <a:pt x="16137" y="16562"/>
                    <a:pt x="16173" y="16530"/>
                  </a:cubicBezTo>
                  <a:cubicBezTo>
                    <a:pt x="16261" y="16451"/>
                    <a:pt x="16340" y="16454"/>
                    <a:pt x="16450" y="16431"/>
                  </a:cubicBezTo>
                  <a:cubicBezTo>
                    <a:pt x="16548" y="16410"/>
                    <a:pt x="16650" y="16401"/>
                    <a:pt x="16748" y="16391"/>
                  </a:cubicBezTo>
                  <a:cubicBezTo>
                    <a:pt x="16755" y="16391"/>
                    <a:pt x="16761" y="16391"/>
                    <a:pt x="16768" y="16391"/>
                  </a:cubicBezTo>
                  <a:cubicBezTo>
                    <a:pt x="16690" y="16401"/>
                    <a:pt x="16722" y="16369"/>
                    <a:pt x="16629" y="16391"/>
                  </a:cubicBezTo>
                  <a:cubicBezTo>
                    <a:pt x="16536" y="16414"/>
                    <a:pt x="16422" y="16481"/>
                    <a:pt x="16331" y="16510"/>
                  </a:cubicBezTo>
                  <a:cubicBezTo>
                    <a:pt x="16274" y="16528"/>
                    <a:pt x="16248" y="16568"/>
                    <a:pt x="16292" y="16510"/>
                  </a:cubicBezTo>
                  <a:cubicBezTo>
                    <a:pt x="16331" y="16459"/>
                    <a:pt x="16338" y="16482"/>
                    <a:pt x="16391" y="16450"/>
                  </a:cubicBezTo>
                  <a:cubicBezTo>
                    <a:pt x="16418" y="16450"/>
                    <a:pt x="16418" y="16450"/>
                    <a:pt x="16371" y="16450"/>
                  </a:cubicBezTo>
                  <a:cubicBezTo>
                    <a:pt x="16314" y="16469"/>
                    <a:pt x="16251" y="16490"/>
                    <a:pt x="16192" y="16510"/>
                  </a:cubicBezTo>
                  <a:cubicBezTo>
                    <a:pt x="16118" y="16535"/>
                    <a:pt x="16048" y="16556"/>
                    <a:pt x="15974" y="16570"/>
                  </a:cubicBezTo>
                  <a:cubicBezTo>
                    <a:pt x="15967" y="16570"/>
                    <a:pt x="15961" y="16570"/>
                    <a:pt x="15954" y="16570"/>
                  </a:cubicBezTo>
                  <a:cubicBezTo>
                    <a:pt x="15981" y="16551"/>
                    <a:pt x="15990" y="16534"/>
                    <a:pt x="16034" y="16510"/>
                  </a:cubicBezTo>
                  <a:cubicBezTo>
                    <a:pt x="16118" y="16465"/>
                    <a:pt x="16209" y="16447"/>
                    <a:pt x="16292" y="16411"/>
                  </a:cubicBezTo>
                  <a:cubicBezTo>
                    <a:pt x="16342" y="16389"/>
                    <a:pt x="16366" y="16386"/>
                    <a:pt x="16411" y="16371"/>
                  </a:cubicBezTo>
                  <a:cubicBezTo>
                    <a:pt x="16244" y="16379"/>
                    <a:pt x="16119" y="16432"/>
                    <a:pt x="15954" y="16470"/>
                  </a:cubicBezTo>
                  <a:cubicBezTo>
                    <a:pt x="15818" y="16502"/>
                    <a:pt x="15648" y="16461"/>
                    <a:pt x="15518" y="16510"/>
                  </a:cubicBezTo>
                  <a:cubicBezTo>
                    <a:pt x="15458" y="16533"/>
                    <a:pt x="15500" y="16561"/>
                    <a:pt x="15458" y="16589"/>
                  </a:cubicBezTo>
                  <a:cubicBezTo>
                    <a:pt x="15445" y="16589"/>
                    <a:pt x="15432" y="16589"/>
                    <a:pt x="15419" y="16589"/>
                  </a:cubicBezTo>
                </a:path>
                <a:path w="10458" h="1033">
                  <a:moveTo>
                    <a:pt x="17006" y="16252"/>
                  </a:moveTo>
                  <a:cubicBezTo>
                    <a:pt x="16950" y="16280"/>
                    <a:pt x="16956" y="16268"/>
                    <a:pt x="16887" y="16292"/>
                  </a:cubicBezTo>
                  <a:cubicBezTo>
                    <a:pt x="16737" y="16344"/>
                    <a:pt x="16588" y="16376"/>
                    <a:pt x="16431" y="16411"/>
                  </a:cubicBezTo>
                  <a:cubicBezTo>
                    <a:pt x="16312" y="16438"/>
                    <a:pt x="16191" y="16464"/>
                    <a:pt x="16073" y="16490"/>
                  </a:cubicBezTo>
                  <a:cubicBezTo>
                    <a:pt x="16107" y="16476"/>
                    <a:pt x="16134" y="16469"/>
                    <a:pt x="16173" y="16450"/>
                  </a:cubicBezTo>
                  <a:cubicBezTo>
                    <a:pt x="16253" y="16412"/>
                    <a:pt x="16343" y="16379"/>
                    <a:pt x="16431" y="16351"/>
                  </a:cubicBezTo>
                  <a:cubicBezTo>
                    <a:pt x="16532" y="16319"/>
                    <a:pt x="16616" y="16288"/>
                    <a:pt x="16708" y="16232"/>
                  </a:cubicBezTo>
                  <a:cubicBezTo>
                    <a:pt x="16715" y="16225"/>
                    <a:pt x="16721" y="16219"/>
                    <a:pt x="16728" y="16212"/>
                  </a:cubicBezTo>
                  <a:cubicBezTo>
                    <a:pt x="16688" y="16252"/>
                    <a:pt x="16704" y="16237"/>
                    <a:pt x="16649" y="16252"/>
                  </a:cubicBezTo>
                  <a:cubicBezTo>
                    <a:pt x="16532" y="16284"/>
                    <a:pt x="16433" y="16290"/>
                    <a:pt x="16312" y="16292"/>
                  </a:cubicBezTo>
                  <a:cubicBezTo>
                    <a:pt x="16213" y="16294"/>
                    <a:pt x="16109" y="16297"/>
                    <a:pt x="16014" y="16272"/>
                  </a:cubicBezTo>
                  <a:cubicBezTo>
                    <a:pt x="15982" y="16264"/>
                    <a:pt x="16024" y="16251"/>
                    <a:pt x="15954" y="16272"/>
                  </a:cubicBezTo>
                  <a:cubicBezTo>
                    <a:pt x="15840" y="16306"/>
                    <a:pt x="15763" y="16384"/>
                    <a:pt x="15657" y="16431"/>
                  </a:cubicBezTo>
                  <a:cubicBezTo>
                    <a:pt x="15637" y="16440"/>
                    <a:pt x="15503" y="16502"/>
                    <a:pt x="15478" y="16490"/>
                  </a:cubicBezTo>
                  <a:cubicBezTo>
                    <a:pt x="15442" y="16472"/>
                    <a:pt x="15508" y="16418"/>
                    <a:pt x="15538" y="16391"/>
                  </a:cubicBezTo>
                  <a:cubicBezTo>
                    <a:pt x="15578" y="16354"/>
                    <a:pt x="15730" y="16319"/>
                    <a:pt x="15677" y="16331"/>
                  </a:cubicBezTo>
                  <a:cubicBezTo>
                    <a:pt x="15628" y="16342"/>
                    <a:pt x="15627" y="16353"/>
                    <a:pt x="15577" y="16371"/>
                  </a:cubicBezTo>
                  <a:cubicBezTo>
                    <a:pt x="15432" y="16417"/>
                    <a:pt x="15287" y="16448"/>
                    <a:pt x="15141" y="16490"/>
                  </a:cubicBezTo>
                  <a:cubicBezTo>
                    <a:pt x="14991" y="16533"/>
                    <a:pt x="14838" y="16581"/>
                    <a:pt x="14684" y="16609"/>
                  </a:cubicBezTo>
                  <a:cubicBezTo>
                    <a:pt x="14586" y="16627"/>
                    <a:pt x="14661" y="16610"/>
                    <a:pt x="14665" y="16589"/>
                  </a:cubicBezTo>
                  <a:cubicBezTo>
                    <a:pt x="14671" y="16559"/>
                    <a:pt x="14696" y="16528"/>
                    <a:pt x="14724" y="16510"/>
                  </a:cubicBezTo>
                  <a:cubicBezTo>
                    <a:pt x="14797" y="16462"/>
                    <a:pt x="14859" y="16450"/>
                    <a:pt x="14942" y="16431"/>
                  </a:cubicBezTo>
                  <a:cubicBezTo>
                    <a:pt x="14949" y="16431"/>
                    <a:pt x="14955" y="16431"/>
                    <a:pt x="14962" y="16431"/>
                  </a:cubicBezTo>
                  <a:cubicBezTo>
                    <a:pt x="14969" y="16424"/>
                    <a:pt x="14975" y="16418"/>
                    <a:pt x="14982" y="16411"/>
                  </a:cubicBezTo>
                  <a:cubicBezTo>
                    <a:pt x="14942" y="16430"/>
                    <a:pt x="14892" y="16428"/>
                    <a:pt x="14843" y="16450"/>
                  </a:cubicBezTo>
                  <a:cubicBezTo>
                    <a:pt x="14738" y="16498"/>
                    <a:pt x="14714" y="16507"/>
                    <a:pt x="14585" y="16510"/>
                  </a:cubicBezTo>
                  <a:cubicBezTo>
                    <a:pt x="14513" y="16511"/>
                    <a:pt x="14380" y="16534"/>
                    <a:pt x="14387" y="16490"/>
                  </a:cubicBezTo>
                  <a:cubicBezTo>
                    <a:pt x="14389" y="16478"/>
                    <a:pt x="14514" y="16437"/>
                    <a:pt x="14526" y="16431"/>
                  </a:cubicBezTo>
                  <a:cubicBezTo>
                    <a:pt x="14580" y="16405"/>
                    <a:pt x="14553" y="16454"/>
                    <a:pt x="14506" y="16431"/>
                  </a:cubicBezTo>
                  <a:cubicBezTo>
                    <a:pt x="14423" y="16454"/>
                    <a:pt x="14387" y="16457"/>
                    <a:pt x="14288" y="16470"/>
                  </a:cubicBezTo>
                  <a:cubicBezTo>
                    <a:pt x="14225" y="16478"/>
                    <a:pt x="14153" y="16513"/>
                    <a:pt x="14089" y="16510"/>
                  </a:cubicBezTo>
                  <a:cubicBezTo>
                    <a:pt x="14053" y="16510"/>
                    <a:pt x="14037" y="16513"/>
                    <a:pt x="14069" y="16490"/>
                  </a:cubicBezTo>
                  <a:cubicBezTo>
                    <a:pt x="14127" y="16463"/>
                    <a:pt x="14165" y="16442"/>
                    <a:pt x="14228" y="16431"/>
                  </a:cubicBezTo>
                  <a:cubicBezTo>
                    <a:pt x="14313" y="16416"/>
                    <a:pt x="14400" y="16419"/>
                    <a:pt x="14486" y="16411"/>
                  </a:cubicBezTo>
                  <a:cubicBezTo>
                    <a:pt x="14542" y="16406"/>
                    <a:pt x="14712" y="16355"/>
                    <a:pt x="14764" y="16391"/>
                  </a:cubicBezTo>
                  <a:cubicBezTo>
                    <a:pt x="14804" y="16419"/>
                    <a:pt x="14706" y="16417"/>
                    <a:pt x="14684" y="16431"/>
                  </a:cubicBezTo>
                  <a:cubicBezTo>
                    <a:pt x="14598" y="16485"/>
                    <a:pt x="14520" y="16531"/>
                    <a:pt x="14426" y="16570"/>
                  </a:cubicBezTo>
                  <a:cubicBezTo>
                    <a:pt x="14406" y="16576"/>
                    <a:pt x="14387" y="16583"/>
                    <a:pt x="14367" y="16589"/>
                  </a:cubicBezTo>
                  <a:cubicBezTo>
                    <a:pt x="14314" y="16589"/>
                    <a:pt x="14380" y="16589"/>
                    <a:pt x="14387" y="16589"/>
                  </a:cubicBezTo>
                  <a:cubicBezTo>
                    <a:pt x="14459" y="16549"/>
                    <a:pt x="14531" y="16502"/>
                    <a:pt x="14605" y="16470"/>
                  </a:cubicBezTo>
                  <a:cubicBezTo>
                    <a:pt x="14674" y="16440"/>
                    <a:pt x="14748" y="16411"/>
                    <a:pt x="14823" y="16411"/>
                  </a:cubicBezTo>
                  <a:cubicBezTo>
                    <a:pt x="14894" y="16411"/>
                    <a:pt x="14763" y="16404"/>
                    <a:pt x="14803" y="16431"/>
                  </a:cubicBezTo>
                  <a:cubicBezTo>
                    <a:pt x="14762" y="16444"/>
                    <a:pt x="14722" y="16461"/>
                    <a:pt x="14684" y="16470"/>
                  </a:cubicBezTo>
                  <a:cubicBezTo>
                    <a:pt x="14637" y="16482"/>
                    <a:pt x="14534" y="16506"/>
                    <a:pt x="14486" y="16490"/>
                  </a:cubicBezTo>
                  <a:cubicBezTo>
                    <a:pt x="14382" y="16456"/>
                    <a:pt x="14497" y="16439"/>
                    <a:pt x="14545" y="16411"/>
                  </a:cubicBezTo>
                  <a:cubicBezTo>
                    <a:pt x="14676" y="16335"/>
                    <a:pt x="14809" y="16267"/>
                    <a:pt x="14962" y="16252"/>
                  </a:cubicBezTo>
                  <a:cubicBezTo>
                    <a:pt x="15028" y="16246"/>
                    <a:pt x="15107" y="16265"/>
                    <a:pt x="15141" y="16272"/>
                  </a:cubicBezTo>
                  <a:cubicBezTo>
                    <a:pt x="15115" y="16293"/>
                    <a:pt x="15092" y="16343"/>
                    <a:pt x="15081" y="16351"/>
                  </a:cubicBezTo>
                  <a:cubicBezTo>
                    <a:pt x="15056" y="16369"/>
                    <a:pt x="15015" y="16389"/>
                    <a:pt x="14982" y="16411"/>
                  </a:cubicBezTo>
                  <a:cubicBezTo>
                    <a:pt x="14951" y="16432"/>
                    <a:pt x="14884" y="16454"/>
                    <a:pt x="14843" y="16470"/>
                  </a:cubicBezTo>
                  <a:cubicBezTo>
                    <a:pt x="14795" y="16488"/>
                    <a:pt x="14717" y="16488"/>
                    <a:pt x="14665" y="16490"/>
                  </a:cubicBezTo>
                  <a:cubicBezTo>
                    <a:pt x="14638" y="16490"/>
                    <a:pt x="14625" y="16490"/>
                    <a:pt x="14605" y="16490"/>
                  </a:cubicBezTo>
                  <a:cubicBezTo>
                    <a:pt x="14707" y="16422"/>
                    <a:pt x="14827" y="16352"/>
                    <a:pt x="14962" y="16312"/>
                  </a:cubicBezTo>
                  <a:cubicBezTo>
                    <a:pt x="15186" y="16246"/>
                    <a:pt x="15410" y="16182"/>
                    <a:pt x="15637" y="16133"/>
                  </a:cubicBezTo>
                  <a:cubicBezTo>
                    <a:pt x="15695" y="16120"/>
                    <a:pt x="15658" y="16138"/>
                    <a:pt x="15716" y="16153"/>
                  </a:cubicBezTo>
                  <a:cubicBezTo>
                    <a:pt x="15659" y="16201"/>
                    <a:pt x="15603" y="16257"/>
                    <a:pt x="15538" y="16292"/>
                  </a:cubicBezTo>
                  <a:cubicBezTo>
                    <a:pt x="15479" y="16324"/>
                    <a:pt x="15387" y="16386"/>
                    <a:pt x="15319" y="16411"/>
                  </a:cubicBezTo>
                  <a:cubicBezTo>
                    <a:pt x="15293" y="16421"/>
                    <a:pt x="15213" y="16436"/>
                    <a:pt x="15180" y="16431"/>
                  </a:cubicBezTo>
                  <a:cubicBezTo>
                    <a:pt x="15123" y="16422"/>
                    <a:pt x="15141" y="16400"/>
                    <a:pt x="15121" y="16391"/>
                  </a:cubicBezTo>
                  <a:cubicBezTo>
                    <a:pt x="15156" y="16379"/>
                    <a:pt x="15189" y="16365"/>
                    <a:pt x="15220" y="16351"/>
                  </a:cubicBezTo>
                  <a:cubicBezTo>
                    <a:pt x="15316" y="16309"/>
                    <a:pt x="15377" y="16297"/>
                    <a:pt x="15478" y="16292"/>
                  </a:cubicBezTo>
                  <a:cubicBezTo>
                    <a:pt x="15523" y="16290"/>
                    <a:pt x="15572" y="16292"/>
                    <a:pt x="15617" y="16292"/>
                  </a:cubicBezTo>
                  <a:cubicBezTo>
                    <a:pt x="15586" y="16323"/>
                    <a:pt x="15616" y="16310"/>
                    <a:pt x="15577" y="16331"/>
                  </a:cubicBezTo>
                  <a:cubicBezTo>
                    <a:pt x="15525" y="16359"/>
                    <a:pt x="15446" y="16439"/>
                    <a:pt x="15379" y="16470"/>
                  </a:cubicBezTo>
                  <a:cubicBezTo>
                    <a:pt x="15304" y="16504"/>
                    <a:pt x="15200" y="16548"/>
                    <a:pt x="15121" y="16570"/>
                  </a:cubicBezTo>
                  <a:cubicBezTo>
                    <a:pt x="15088" y="16570"/>
                    <a:pt x="15081" y="16570"/>
                    <a:pt x="15061" y="16570"/>
                  </a:cubicBezTo>
                  <a:cubicBezTo>
                    <a:pt x="15085" y="16548"/>
                    <a:pt x="15123" y="16526"/>
                    <a:pt x="15141" y="16510"/>
                  </a:cubicBezTo>
                  <a:cubicBezTo>
                    <a:pt x="15210" y="16448"/>
                    <a:pt x="15214" y="16461"/>
                    <a:pt x="15300" y="16411"/>
                  </a:cubicBezTo>
                  <a:cubicBezTo>
                    <a:pt x="15361" y="16375"/>
                    <a:pt x="15441" y="16344"/>
                    <a:pt x="15498" y="16312"/>
                  </a:cubicBezTo>
                  <a:cubicBezTo>
                    <a:pt x="15551" y="16294"/>
                    <a:pt x="15578" y="16288"/>
                    <a:pt x="15518" y="16292"/>
                  </a:cubicBezTo>
                  <a:cubicBezTo>
                    <a:pt x="15412" y="16297"/>
                    <a:pt x="15306" y="16303"/>
                    <a:pt x="15200" y="16312"/>
                  </a:cubicBezTo>
                  <a:cubicBezTo>
                    <a:pt x="14945" y="16334"/>
                    <a:pt x="14702" y="16351"/>
                    <a:pt x="14446" y="16351"/>
                  </a:cubicBezTo>
                  <a:cubicBezTo>
                    <a:pt x="14308" y="16351"/>
                    <a:pt x="14164" y="16344"/>
                    <a:pt x="14089" y="16312"/>
                  </a:cubicBezTo>
                  <a:cubicBezTo>
                    <a:pt x="14112" y="16292"/>
                    <a:pt x="14108" y="16273"/>
                    <a:pt x="14129" y="16252"/>
                  </a:cubicBezTo>
                  <a:cubicBezTo>
                    <a:pt x="14146" y="16235"/>
                    <a:pt x="14210" y="16207"/>
                    <a:pt x="14228" y="16192"/>
                  </a:cubicBezTo>
                  <a:cubicBezTo>
                    <a:pt x="14282" y="16148"/>
                    <a:pt x="14301" y="16142"/>
                    <a:pt x="14367" y="16133"/>
                  </a:cubicBezTo>
                  <a:cubicBezTo>
                    <a:pt x="14405" y="16128"/>
                    <a:pt x="14438" y="16128"/>
                    <a:pt x="14466" y="16153"/>
                  </a:cubicBezTo>
                  <a:cubicBezTo>
                    <a:pt x="14538" y="16216"/>
                    <a:pt x="14487" y="16208"/>
                    <a:pt x="14466" y="16252"/>
                  </a:cubicBezTo>
                  <a:cubicBezTo>
                    <a:pt x="14452" y="16282"/>
                    <a:pt x="14424" y="16311"/>
                    <a:pt x="14407" y="16331"/>
                  </a:cubicBezTo>
                  <a:cubicBezTo>
                    <a:pt x="14385" y="16356"/>
                    <a:pt x="14403" y="16342"/>
                    <a:pt x="14387" y="16371"/>
                  </a:cubicBezTo>
                  <a:cubicBezTo>
                    <a:pt x="14619" y="16371"/>
                    <a:pt x="15126" y="16271"/>
                    <a:pt x="15319" y="16391"/>
                  </a:cubicBezTo>
                  <a:cubicBezTo>
                    <a:pt x="15383" y="16431"/>
                    <a:pt x="15353" y="16424"/>
                    <a:pt x="15319" y="16450"/>
                  </a:cubicBezTo>
                  <a:cubicBezTo>
                    <a:pt x="15292" y="16470"/>
                    <a:pt x="15229" y="16457"/>
                    <a:pt x="15200" y="16470"/>
                  </a:cubicBezTo>
                  <a:cubicBezTo>
                    <a:pt x="15154" y="16490"/>
                    <a:pt x="15148" y="16493"/>
                    <a:pt x="15101" y="16510"/>
                  </a:cubicBezTo>
                  <a:cubicBezTo>
                    <a:pt x="15108" y="16510"/>
                    <a:pt x="15114" y="16510"/>
                    <a:pt x="15121" y="16510"/>
                  </a:cubicBezTo>
                  <a:cubicBezTo>
                    <a:pt x="15193" y="16455"/>
                    <a:pt x="15205" y="16446"/>
                    <a:pt x="15300" y="16411"/>
                  </a:cubicBezTo>
                  <a:cubicBezTo>
                    <a:pt x="15328" y="16421"/>
                    <a:pt x="15407" y="16386"/>
                    <a:pt x="15399" y="16431"/>
                  </a:cubicBezTo>
                  <a:cubicBezTo>
                    <a:pt x="15391" y="16473"/>
                    <a:pt x="15290" y="16498"/>
                    <a:pt x="15319" y="16530"/>
                  </a:cubicBezTo>
                  <a:cubicBezTo>
                    <a:pt x="15321" y="16532"/>
                    <a:pt x="15310" y="16542"/>
                    <a:pt x="15379" y="16510"/>
                  </a:cubicBezTo>
                  <a:cubicBezTo>
                    <a:pt x="15420" y="16491"/>
                    <a:pt x="15432" y="16483"/>
                    <a:pt x="15478" y="16470"/>
                  </a:cubicBezTo>
                  <a:cubicBezTo>
                    <a:pt x="15550" y="16450"/>
                    <a:pt x="15601" y="16451"/>
                    <a:pt x="15677" y="16450"/>
                  </a:cubicBezTo>
                  <a:cubicBezTo>
                    <a:pt x="15727" y="16449"/>
                    <a:pt x="15928" y="16426"/>
                    <a:pt x="15935" y="16470"/>
                  </a:cubicBezTo>
                  <a:cubicBezTo>
                    <a:pt x="15939" y="16496"/>
                    <a:pt x="15871" y="16558"/>
                    <a:pt x="15855" y="16570"/>
                  </a:cubicBezTo>
                  <a:cubicBezTo>
                    <a:pt x="15837" y="16583"/>
                    <a:pt x="15796" y="16597"/>
                    <a:pt x="15776" y="16609"/>
                  </a:cubicBezTo>
                  <a:cubicBezTo>
                    <a:pt x="15791" y="16582"/>
                    <a:pt x="15829" y="16541"/>
                    <a:pt x="15835" y="16530"/>
                  </a:cubicBezTo>
                  <a:cubicBezTo>
                    <a:pt x="15869" y="16470"/>
                    <a:pt x="15872" y="16487"/>
                    <a:pt x="15935" y="16431"/>
                  </a:cubicBezTo>
                  <a:cubicBezTo>
                    <a:pt x="16003" y="16370"/>
                    <a:pt x="15997" y="16350"/>
                    <a:pt x="16073" y="16312"/>
                  </a:cubicBezTo>
                  <a:cubicBezTo>
                    <a:pt x="16080" y="16312"/>
                    <a:pt x="16086" y="16312"/>
                    <a:pt x="16093" y="16312"/>
                  </a:cubicBezTo>
                  <a:cubicBezTo>
                    <a:pt x="16063" y="16328"/>
                    <a:pt x="16048" y="16336"/>
                    <a:pt x="16014" y="16351"/>
                  </a:cubicBezTo>
                  <a:cubicBezTo>
                    <a:pt x="15934" y="16386"/>
                    <a:pt x="15901" y="16404"/>
                    <a:pt x="15815" y="16470"/>
                  </a:cubicBezTo>
                  <a:cubicBezTo>
                    <a:pt x="15809" y="16477"/>
                    <a:pt x="15802" y="16483"/>
                    <a:pt x="15796" y="16490"/>
                  </a:cubicBezTo>
                  <a:cubicBezTo>
                    <a:pt x="15766" y="16501"/>
                    <a:pt x="15655" y="16567"/>
                    <a:pt x="15736" y="16530"/>
                  </a:cubicBezTo>
                  <a:cubicBezTo>
                    <a:pt x="15867" y="16470"/>
                    <a:pt x="15967" y="16432"/>
                    <a:pt x="16113" y="16391"/>
                  </a:cubicBezTo>
                  <a:cubicBezTo>
                    <a:pt x="16266" y="16348"/>
                    <a:pt x="16424" y="16274"/>
                    <a:pt x="16570" y="16232"/>
                  </a:cubicBezTo>
                  <a:cubicBezTo>
                    <a:pt x="16583" y="16232"/>
                    <a:pt x="16596" y="16232"/>
                    <a:pt x="16609" y="16232"/>
                  </a:cubicBezTo>
                  <a:cubicBezTo>
                    <a:pt x="16590" y="16256"/>
                    <a:pt x="16582" y="16279"/>
                    <a:pt x="16550" y="16312"/>
                  </a:cubicBezTo>
                  <a:cubicBezTo>
                    <a:pt x="16477" y="16387"/>
                    <a:pt x="16416" y="16469"/>
                    <a:pt x="16331" y="16530"/>
                  </a:cubicBezTo>
                  <a:cubicBezTo>
                    <a:pt x="16231" y="16602"/>
                    <a:pt x="16069" y="16701"/>
                    <a:pt x="15954" y="16748"/>
                  </a:cubicBezTo>
                  <a:cubicBezTo>
                    <a:pt x="15928" y="16748"/>
                    <a:pt x="15915" y="16748"/>
                    <a:pt x="15895" y="16748"/>
                  </a:cubicBezTo>
                  <a:cubicBezTo>
                    <a:pt x="15920" y="16721"/>
                    <a:pt x="15941" y="16660"/>
                    <a:pt x="15954" y="16649"/>
                  </a:cubicBezTo>
                  <a:cubicBezTo>
                    <a:pt x="15974" y="16632"/>
                    <a:pt x="16048" y="16582"/>
                    <a:pt x="16073" y="16570"/>
                  </a:cubicBezTo>
                  <a:cubicBezTo>
                    <a:pt x="16179" y="16517"/>
                    <a:pt x="16307" y="16483"/>
                    <a:pt x="16431" y="16470"/>
                  </a:cubicBezTo>
                  <a:cubicBezTo>
                    <a:pt x="16544" y="16458"/>
                    <a:pt x="16653" y="16452"/>
                    <a:pt x="16768" y="16450"/>
                  </a:cubicBezTo>
                  <a:cubicBezTo>
                    <a:pt x="16823" y="16449"/>
                    <a:pt x="16865" y="16438"/>
                    <a:pt x="16887" y="16470"/>
                  </a:cubicBezTo>
                  <a:cubicBezTo>
                    <a:pt x="16916" y="16512"/>
                    <a:pt x="16826" y="16516"/>
                    <a:pt x="16788" y="16550"/>
                  </a:cubicBezTo>
                  <a:cubicBezTo>
                    <a:pt x="16788" y="16577"/>
                    <a:pt x="16781" y="16583"/>
                    <a:pt x="16748" y="16570"/>
                  </a:cubicBezTo>
                  <a:cubicBezTo>
                    <a:pt x="16731" y="16571"/>
                    <a:pt x="16664" y="16612"/>
                    <a:pt x="16649" y="16589"/>
                  </a:cubicBezTo>
                  <a:cubicBezTo>
                    <a:pt x="16648" y="16587"/>
                    <a:pt x="16701" y="16507"/>
                    <a:pt x="16708" y="16490"/>
                  </a:cubicBezTo>
                  <a:cubicBezTo>
                    <a:pt x="16724" y="16453"/>
                    <a:pt x="16732" y="16402"/>
                    <a:pt x="16768" y="16371"/>
                  </a:cubicBezTo>
                  <a:cubicBezTo>
                    <a:pt x="16791" y="16348"/>
                    <a:pt x="16801" y="16342"/>
                    <a:pt x="16828" y="16351"/>
                  </a:cubicBezTo>
                  <a:cubicBezTo>
                    <a:pt x="16814" y="16383"/>
                    <a:pt x="16847" y="16342"/>
                    <a:pt x="16828" y="16371"/>
                  </a:cubicBezTo>
                  <a:cubicBezTo>
                    <a:pt x="16793" y="16424"/>
                    <a:pt x="16795" y="16463"/>
                    <a:pt x="16768" y="16510"/>
                  </a:cubicBezTo>
                  <a:cubicBezTo>
                    <a:pt x="16750" y="16541"/>
                    <a:pt x="16687" y="16575"/>
                    <a:pt x="16669" y="16609"/>
                  </a:cubicBezTo>
                  <a:cubicBezTo>
                    <a:pt x="16669" y="16616"/>
                    <a:pt x="16669" y="16622"/>
                    <a:pt x="16669" y="16629"/>
                  </a:cubicBezTo>
                  <a:cubicBezTo>
                    <a:pt x="16707" y="16597"/>
                    <a:pt x="16752" y="16553"/>
                    <a:pt x="16808" y="16530"/>
                  </a:cubicBezTo>
                  <a:cubicBezTo>
                    <a:pt x="16940" y="16477"/>
                    <a:pt x="17049" y="16448"/>
                    <a:pt x="17185" y="16411"/>
                  </a:cubicBezTo>
                  <a:cubicBezTo>
                    <a:pt x="17258" y="16391"/>
                    <a:pt x="17331" y="16368"/>
                    <a:pt x="17403" y="16351"/>
                  </a:cubicBezTo>
                  <a:cubicBezTo>
                    <a:pt x="17423" y="16331"/>
                    <a:pt x="17430" y="16324"/>
                    <a:pt x="17403" y="16351"/>
                  </a:cubicBezTo>
                  <a:cubicBezTo>
                    <a:pt x="17321" y="16389"/>
                    <a:pt x="17256" y="16419"/>
                    <a:pt x="17165" y="16450"/>
                  </a:cubicBezTo>
                  <a:cubicBezTo>
                    <a:pt x="17106" y="16470"/>
                    <a:pt x="17002" y="16547"/>
                    <a:pt x="16947" y="16550"/>
                  </a:cubicBezTo>
                  <a:cubicBezTo>
                    <a:pt x="16873" y="16554"/>
                    <a:pt x="17023" y="16556"/>
                    <a:pt x="16947" y="16510"/>
                  </a:cubicBezTo>
                  <a:cubicBezTo>
                    <a:pt x="17061" y="16402"/>
                    <a:pt x="17153" y="16330"/>
                    <a:pt x="17304" y="16272"/>
                  </a:cubicBezTo>
                  <a:cubicBezTo>
                    <a:pt x="17385" y="16241"/>
                    <a:pt x="17458" y="16222"/>
                    <a:pt x="17542" y="16212"/>
                  </a:cubicBezTo>
                  <a:cubicBezTo>
                    <a:pt x="17587" y="16207"/>
                    <a:pt x="17635" y="16212"/>
                    <a:pt x="17681" y="16212"/>
                  </a:cubicBezTo>
                  <a:cubicBezTo>
                    <a:pt x="17675" y="16261"/>
                    <a:pt x="17678" y="16271"/>
                    <a:pt x="17641" y="16331"/>
                  </a:cubicBezTo>
                  <a:cubicBezTo>
                    <a:pt x="17609" y="16382"/>
                    <a:pt x="17572" y="16445"/>
                    <a:pt x="17502" y="16490"/>
                  </a:cubicBezTo>
                  <a:cubicBezTo>
                    <a:pt x="17415" y="16547"/>
                    <a:pt x="17265" y="16578"/>
                    <a:pt x="17165" y="16589"/>
                  </a:cubicBezTo>
                  <a:cubicBezTo>
                    <a:pt x="17139" y="16592"/>
                    <a:pt x="17111" y="16588"/>
                    <a:pt x="17085" y="16589"/>
                  </a:cubicBezTo>
                  <a:cubicBezTo>
                    <a:pt x="17091" y="16537"/>
                    <a:pt x="17089" y="16498"/>
                    <a:pt x="17105" y="16470"/>
                  </a:cubicBezTo>
                  <a:cubicBezTo>
                    <a:pt x="17170" y="16355"/>
                    <a:pt x="17289" y="16318"/>
                    <a:pt x="17403" y="16272"/>
                  </a:cubicBezTo>
                  <a:cubicBezTo>
                    <a:pt x="17450" y="16253"/>
                    <a:pt x="17499" y="16229"/>
                    <a:pt x="17542" y="16212"/>
                  </a:cubicBezTo>
                  <a:cubicBezTo>
                    <a:pt x="17499" y="16234"/>
                    <a:pt x="17526" y="16211"/>
                    <a:pt x="17482" y="16232"/>
                  </a:cubicBezTo>
                  <a:cubicBezTo>
                    <a:pt x="17425" y="16259"/>
                    <a:pt x="17370" y="16288"/>
                    <a:pt x="17304" y="16312"/>
                  </a:cubicBezTo>
                  <a:cubicBezTo>
                    <a:pt x="17148" y="16369"/>
                    <a:pt x="17010" y="16434"/>
                    <a:pt x="16847" y="16470"/>
                  </a:cubicBezTo>
                  <a:cubicBezTo>
                    <a:pt x="16746" y="16492"/>
                    <a:pt x="16714" y="16465"/>
                    <a:pt x="16669" y="16450"/>
                  </a:cubicBezTo>
                  <a:cubicBezTo>
                    <a:pt x="16704" y="16423"/>
                    <a:pt x="16740" y="16415"/>
                    <a:pt x="16768" y="16391"/>
                  </a:cubicBezTo>
                  <a:cubicBezTo>
                    <a:pt x="16856" y="16314"/>
                    <a:pt x="16939" y="16265"/>
                    <a:pt x="17046" y="16212"/>
                  </a:cubicBezTo>
                  <a:cubicBezTo>
                    <a:pt x="17135" y="16168"/>
                    <a:pt x="17137" y="16173"/>
                    <a:pt x="17185" y="16192"/>
                  </a:cubicBezTo>
                  <a:cubicBezTo>
                    <a:pt x="17220" y="16206"/>
                    <a:pt x="17232" y="16218"/>
                    <a:pt x="17264" y="16232"/>
                  </a:cubicBezTo>
                  <a:cubicBezTo>
                    <a:pt x="17312" y="16254"/>
                    <a:pt x="17350" y="16261"/>
                    <a:pt x="17403" y="16292"/>
                  </a:cubicBezTo>
                  <a:cubicBezTo>
                    <a:pt x="17516" y="16358"/>
                    <a:pt x="17555" y="16366"/>
                    <a:pt x="17681" y="16391"/>
                  </a:cubicBezTo>
                  <a:cubicBezTo>
                    <a:pt x="17818" y="16418"/>
                    <a:pt x="17977" y="16425"/>
                    <a:pt x="18117" y="16411"/>
                  </a:cubicBezTo>
                  <a:cubicBezTo>
                    <a:pt x="18250" y="16398"/>
                    <a:pt x="18384" y="16396"/>
                    <a:pt x="18514" y="16371"/>
                  </a:cubicBezTo>
                  <a:cubicBezTo>
                    <a:pt x="18537" y="16348"/>
                    <a:pt x="18547" y="16342"/>
                    <a:pt x="18574" y="16351"/>
                  </a:cubicBezTo>
                  <a:cubicBezTo>
                    <a:pt x="18523" y="16336"/>
                    <a:pt x="18520" y="16316"/>
                    <a:pt x="18435" y="16312"/>
                  </a:cubicBezTo>
                  <a:cubicBezTo>
                    <a:pt x="18117" y="16297"/>
                    <a:pt x="17798" y="16316"/>
                    <a:pt x="17482" y="16331"/>
                  </a:cubicBezTo>
                  <a:cubicBezTo>
                    <a:pt x="17423" y="16334"/>
                    <a:pt x="17402" y="16331"/>
                    <a:pt x="17343" y="16331"/>
                  </a:cubicBezTo>
                  <a:cubicBezTo>
                    <a:pt x="17391" y="16311"/>
                    <a:pt x="17470" y="16261"/>
                    <a:pt x="17522" y="16252"/>
                  </a:cubicBezTo>
                  <a:cubicBezTo>
                    <a:pt x="17609" y="16237"/>
                    <a:pt x="17712" y="16234"/>
                    <a:pt x="17800" y="16232"/>
                  </a:cubicBezTo>
                  <a:cubicBezTo>
                    <a:pt x="17985" y="16228"/>
                    <a:pt x="18175" y="16224"/>
                    <a:pt x="18355" y="16252"/>
                  </a:cubicBezTo>
                  <a:cubicBezTo>
                    <a:pt x="18415" y="16261"/>
                    <a:pt x="18404" y="16254"/>
                    <a:pt x="18435" y="16292"/>
                  </a:cubicBezTo>
                  <a:cubicBezTo>
                    <a:pt x="18444" y="16303"/>
                    <a:pt x="18448" y="16338"/>
                    <a:pt x="18455" y="16351"/>
                  </a:cubicBezTo>
                  <a:cubicBezTo>
                    <a:pt x="18415" y="16357"/>
                    <a:pt x="18374" y="16368"/>
                    <a:pt x="18336" y="16371"/>
                  </a:cubicBezTo>
                  <a:cubicBezTo>
                    <a:pt x="18275" y="16376"/>
                    <a:pt x="18271" y="16337"/>
                    <a:pt x="18256" y="16331"/>
                  </a:cubicBezTo>
                  <a:cubicBezTo>
                    <a:pt x="18218" y="16317"/>
                    <a:pt x="18217" y="16315"/>
                    <a:pt x="18157" y="16331"/>
                  </a:cubicBezTo>
                  <a:cubicBezTo>
                    <a:pt x="18141" y="16335"/>
                    <a:pt x="17999" y="16410"/>
                    <a:pt x="17998" y="16411"/>
                  </a:cubicBezTo>
                  <a:cubicBezTo>
                    <a:pt x="17954" y="16460"/>
                    <a:pt x="17959" y="16431"/>
                    <a:pt x="17998" y="16450"/>
                  </a:cubicBezTo>
                  <a:cubicBezTo>
                    <a:pt x="18082" y="16491"/>
                    <a:pt x="18260" y="16450"/>
                    <a:pt x="18355" y="16450"/>
                  </a:cubicBezTo>
                  <a:cubicBezTo>
                    <a:pt x="18321" y="16460"/>
                    <a:pt x="18311" y="16486"/>
                    <a:pt x="18276" y="16490"/>
                  </a:cubicBezTo>
                  <a:cubicBezTo>
                    <a:pt x="18204" y="16499"/>
                    <a:pt x="18021" y="16519"/>
                    <a:pt x="18018" y="16450"/>
                  </a:cubicBezTo>
                  <a:cubicBezTo>
                    <a:pt x="18017" y="16426"/>
                    <a:pt x="18059" y="16404"/>
                    <a:pt x="18078" y="16391"/>
                  </a:cubicBezTo>
                  <a:cubicBezTo>
                    <a:pt x="18131" y="16355"/>
                    <a:pt x="18145" y="16371"/>
                    <a:pt x="18197" y="16351"/>
                  </a:cubicBezTo>
                  <a:cubicBezTo>
                    <a:pt x="18261" y="16327"/>
                    <a:pt x="18204" y="16369"/>
                    <a:pt x="18197" y="16371"/>
                  </a:cubicBezTo>
                  <a:cubicBezTo>
                    <a:pt x="18184" y="16371"/>
                    <a:pt x="18170" y="16371"/>
                    <a:pt x="18157" y="16371"/>
                  </a:cubicBezTo>
                  <a:cubicBezTo>
                    <a:pt x="18044" y="16376"/>
                    <a:pt x="17933" y="16385"/>
                    <a:pt x="17820" y="16391"/>
                  </a:cubicBezTo>
                  <a:cubicBezTo>
                    <a:pt x="17721" y="16396"/>
                    <a:pt x="17639" y="16395"/>
                    <a:pt x="17562" y="16450"/>
                  </a:cubicBezTo>
                  <a:cubicBezTo>
                    <a:pt x="17491" y="16500"/>
                    <a:pt x="17535" y="16472"/>
                    <a:pt x="17562" y="16530"/>
                  </a:cubicBezTo>
                  <a:cubicBezTo>
                    <a:pt x="17595" y="16530"/>
                    <a:pt x="17601" y="16530"/>
                    <a:pt x="17621" y="16530"/>
                  </a:cubicBezTo>
                </a:path>
                <a:path w="10458" h="1033">
                  <a:moveTo>
                    <a:pt x="9803" y="16391"/>
                  </a:moveTo>
                  <a:cubicBezTo>
                    <a:pt x="9832" y="16411"/>
                    <a:pt x="9873" y="16426"/>
                    <a:pt x="9902" y="16450"/>
                  </a:cubicBezTo>
                  <a:cubicBezTo>
                    <a:pt x="9937" y="16480"/>
                    <a:pt x="9956" y="16493"/>
                    <a:pt x="9981" y="16510"/>
                  </a:cubicBezTo>
                  <a:cubicBezTo>
                    <a:pt x="10009" y="16529"/>
                    <a:pt x="10030" y="16534"/>
                    <a:pt x="10061" y="16550"/>
                  </a:cubicBezTo>
                  <a:cubicBezTo>
                    <a:pt x="10098" y="16569"/>
                    <a:pt x="10103" y="16554"/>
                    <a:pt x="10140" y="16570"/>
                  </a:cubicBezTo>
                  <a:cubicBezTo>
                    <a:pt x="10148" y="16574"/>
                    <a:pt x="10193" y="16599"/>
                    <a:pt x="10220" y="16609"/>
                  </a:cubicBezTo>
                  <a:cubicBezTo>
                    <a:pt x="10230" y="16613"/>
                    <a:pt x="10256" y="16645"/>
                    <a:pt x="10299" y="16629"/>
                  </a:cubicBezTo>
                  <a:cubicBezTo>
                    <a:pt x="10341" y="16613"/>
                    <a:pt x="10362" y="16544"/>
                    <a:pt x="10378" y="16530"/>
                  </a:cubicBezTo>
                  <a:cubicBezTo>
                    <a:pt x="10420" y="16494"/>
                    <a:pt x="10475" y="16451"/>
                    <a:pt x="10517" y="16391"/>
                  </a:cubicBezTo>
                  <a:cubicBezTo>
                    <a:pt x="10560" y="16329"/>
                    <a:pt x="10602" y="16246"/>
                    <a:pt x="10656" y="16192"/>
                  </a:cubicBezTo>
                  <a:cubicBezTo>
                    <a:pt x="10674" y="16174"/>
                    <a:pt x="10722" y="16124"/>
                    <a:pt x="10755" y="16153"/>
                  </a:cubicBezTo>
                  <a:cubicBezTo>
                    <a:pt x="10797" y="16189"/>
                    <a:pt x="10744" y="16425"/>
                    <a:pt x="10735" y="16470"/>
                  </a:cubicBezTo>
                  <a:cubicBezTo>
                    <a:pt x="10768" y="16445"/>
                    <a:pt x="10763" y="16457"/>
                    <a:pt x="10795" y="16431"/>
                  </a:cubicBezTo>
                  <a:cubicBezTo>
                    <a:pt x="10822" y="16409"/>
                    <a:pt x="10867" y="16372"/>
                    <a:pt x="10894" y="16351"/>
                  </a:cubicBezTo>
                  <a:cubicBezTo>
                    <a:pt x="10972" y="16290"/>
                    <a:pt x="11068" y="16238"/>
                    <a:pt x="11152" y="16192"/>
                  </a:cubicBezTo>
                  <a:cubicBezTo>
                    <a:pt x="11252" y="16137"/>
                    <a:pt x="11274" y="16169"/>
                    <a:pt x="11351" y="16173"/>
                  </a:cubicBezTo>
                  <a:cubicBezTo>
                    <a:pt x="11343" y="16214"/>
                    <a:pt x="11351" y="16235"/>
                    <a:pt x="11331" y="16272"/>
                  </a:cubicBezTo>
                  <a:cubicBezTo>
                    <a:pt x="11294" y="16341"/>
                    <a:pt x="11222" y="16451"/>
                    <a:pt x="11152" y="16490"/>
                  </a:cubicBezTo>
                  <a:cubicBezTo>
                    <a:pt x="11110" y="16514"/>
                    <a:pt x="11038" y="16528"/>
                    <a:pt x="10993" y="16550"/>
                  </a:cubicBezTo>
                  <a:cubicBezTo>
                    <a:pt x="10957" y="16567"/>
                    <a:pt x="10972" y="16559"/>
                    <a:pt x="10934" y="16570"/>
                  </a:cubicBezTo>
                  <a:cubicBezTo>
                    <a:pt x="10965" y="16551"/>
                    <a:pt x="11001" y="16503"/>
                    <a:pt x="11033" y="16490"/>
                  </a:cubicBezTo>
                  <a:cubicBezTo>
                    <a:pt x="11123" y="16454"/>
                    <a:pt x="11254" y="16447"/>
                    <a:pt x="11351" y="16431"/>
                  </a:cubicBezTo>
                  <a:cubicBezTo>
                    <a:pt x="11484" y="16409"/>
                    <a:pt x="11614" y="16411"/>
                    <a:pt x="11748" y="16411"/>
                  </a:cubicBezTo>
                  <a:cubicBezTo>
                    <a:pt x="11728" y="16465"/>
                    <a:pt x="11715" y="16458"/>
                    <a:pt x="11688" y="16490"/>
                  </a:cubicBezTo>
                  <a:cubicBezTo>
                    <a:pt x="11606" y="16585"/>
                    <a:pt x="11587" y="16576"/>
                    <a:pt x="11450" y="16629"/>
                  </a:cubicBezTo>
                  <a:cubicBezTo>
                    <a:pt x="11379" y="16657"/>
                    <a:pt x="11304" y="16718"/>
                    <a:pt x="11232" y="16728"/>
                  </a:cubicBezTo>
                  <a:cubicBezTo>
                    <a:pt x="11179" y="16746"/>
                    <a:pt x="11159" y="16760"/>
                    <a:pt x="11172" y="16708"/>
                  </a:cubicBezTo>
                  <a:cubicBezTo>
                    <a:pt x="11186" y="16691"/>
                    <a:pt x="11220" y="16616"/>
                    <a:pt x="11232" y="16609"/>
                  </a:cubicBezTo>
                  <a:cubicBezTo>
                    <a:pt x="11333" y="16545"/>
                    <a:pt x="11475" y="16488"/>
                    <a:pt x="11589" y="16450"/>
                  </a:cubicBezTo>
                  <a:cubicBezTo>
                    <a:pt x="11653" y="16428"/>
                    <a:pt x="11738" y="16386"/>
                    <a:pt x="11807" y="16371"/>
                  </a:cubicBezTo>
                  <a:cubicBezTo>
                    <a:pt x="11884" y="16355"/>
                    <a:pt x="12000" y="16382"/>
                    <a:pt x="12045" y="16391"/>
                  </a:cubicBezTo>
                  <a:cubicBezTo>
                    <a:pt x="12013" y="16409"/>
                    <a:pt x="11978" y="16426"/>
                    <a:pt x="11946" y="16450"/>
                  </a:cubicBezTo>
                  <a:cubicBezTo>
                    <a:pt x="11852" y="16520"/>
                    <a:pt x="11743" y="16572"/>
                    <a:pt x="11648" y="16649"/>
                  </a:cubicBezTo>
                  <a:cubicBezTo>
                    <a:pt x="11641" y="16656"/>
                    <a:pt x="11635" y="16662"/>
                    <a:pt x="11628" y="16669"/>
                  </a:cubicBezTo>
                  <a:cubicBezTo>
                    <a:pt x="11475" y="16688"/>
                    <a:pt x="11577" y="16662"/>
                    <a:pt x="11628" y="16649"/>
                  </a:cubicBezTo>
                  <a:cubicBezTo>
                    <a:pt x="11764" y="16613"/>
                    <a:pt x="11904" y="16612"/>
                    <a:pt x="12045" y="16609"/>
                  </a:cubicBezTo>
                  <a:cubicBezTo>
                    <a:pt x="12204" y="16606"/>
                    <a:pt x="12362" y="16609"/>
                    <a:pt x="12521" y="16609"/>
                  </a:cubicBezTo>
                  <a:cubicBezTo>
                    <a:pt x="12480" y="16629"/>
                    <a:pt x="12429" y="16643"/>
                    <a:pt x="12382" y="16669"/>
                  </a:cubicBezTo>
                  <a:cubicBezTo>
                    <a:pt x="12295" y="16716"/>
                    <a:pt x="12267" y="16721"/>
                    <a:pt x="12164" y="16728"/>
                  </a:cubicBezTo>
                  <a:cubicBezTo>
                    <a:pt x="12132" y="16730"/>
                    <a:pt x="12098" y="16728"/>
                    <a:pt x="12065" y="16728"/>
                  </a:cubicBezTo>
                  <a:cubicBezTo>
                    <a:pt x="12084" y="16689"/>
                    <a:pt x="12070" y="16645"/>
                    <a:pt x="12105" y="16609"/>
                  </a:cubicBezTo>
                  <a:cubicBezTo>
                    <a:pt x="12146" y="16567"/>
                    <a:pt x="12257" y="16474"/>
                    <a:pt x="12303" y="16450"/>
                  </a:cubicBezTo>
                  <a:cubicBezTo>
                    <a:pt x="12335" y="16433"/>
                    <a:pt x="12400" y="16402"/>
                    <a:pt x="12422" y="16431"/>
                  </a:cubicBezTo>
                  <a:cubicBezTo>
                    <a:pt x="12453" y="16472"/>
                    <a:pt x="12383" y="16514"/>
                    <a:pt x="12363" y="16530"/>
                  </a:cubicBezTo>
                  <a:cubicBezTo>
                    <a:pt x="12323" y="16561"/>
                    <a:pt x="12303" y="16591"/>
                    <a:pt x="12283" y="16609"/>
                  </a:cubicBezTo>
                  <a:cubicBezTo>
                    <a:pt x="12325" y="16554"/>
                    <a:pt x="12308" y="16547"/>
                    <a:pt x="12382" y="16490"/>
                  </a:cubicBezTo>
                  <a:cubicBezTo>
                    <a:pt x="12482" y="16413"/>
                    <a:pt x="12553" y="16409"/>
                    <a:pt x="12660" y="16371"/>
                  </a:cubicBezTo>
                  <a:cubicBezTo>
                    <a:pt x="12706" y="16341"/>
                    <a:pt x="12708" y="16327"/>
                    <a:pt x="12740" y="16331"/>
                  </a:cubicBezTo>
                  <a:cubicBezTo>
                    <a:pt x="12720" y="16346"/>
                    <a:pt x="12698" y="16395"/>
                    <a:pt x="12660" y="16411"/>
                  </a:cubicBezTo>
                  <a:cubicBezTo>
                    <a:pt x="12534" y="16464"/>
                    <a:pt x="12382" y="16530"/>
                    <a:pt x="12244" y="16570"/>
                  </a:cubicBezTo>
                  <a:cubicBezTo>
                    <a:pt x="12226" y="16575"/>
                    <a:pt x="12063" y="16625"/>
                    <a:pt x="12025" y="16609"/>
                  </a:cubicBezTo>
                  <a:cubicBezTo>
                    <a:pt x="12009" y="16577"/>
                    <a:pt x="12002" y="16572"/>
                    <a:pt x="12005" y="16550"/>
                  </a:cubicBezTo>
                  <a:cubicBezTo>
                    <a:pt x="12017" y="16506"/>
                    <a:pt x="11996" y="16487"/>
                    <a:pt x="12025" y="16450"/>
                  </a:cubicBezTo>
                  <a:cubicBezTo>
                    <a:pt x="12050" y="16419"/>
                    <a:pt x="12123" y="16403"/>
                    <a:pt x="12164" y="16391"/>
                  </a:cubicBezTo>
                  <a:cubicBezTo>
                    <a:pt x="12208" y="16379"/>
                    <a:pt x="12251" y="16373"/>
                    <a:pt x="12303" y="16371"/>
                  </a:cubicBezTo>
                  <a:cubicBezTo>
                    <a:pt x="12352" y="16369"/>
                    <a:pt x="12362" y="16371"/>
                    <a:pt x="12382" y="16391"/>
                  </a:cubicBezTo>
                  <a:cubicBezTo>
                    <a:pt x="12416" y="16425"/>
                    <a:pt x="12377" y="16396"/>
                    <a:pt x="12363" y="16431"/>
                  </a:cubicBezTo>
                  <a:cubicBezTo>
                    <a:pt x="12343" y="16480"/>
                    <a:pt x="12351" y="16488"/>
                    <a:pt x="12323" y="16530"/>
                  </a:cubicBezTo>
                  <a:cubicBezTo>
                    <a:pt x="12291" y="16546"/>
                    <a:pt x="12222" y="16586"/>
                    <a:pt x="12283" y="16530"/>
                  </a:cubicBezTo>
                  <a:cubicBezTo>
                    <a:pt x="12336" y="16481"/>
                    <a:pt x="12440" y="16444"/>
                    <a:pt x="12502" y="16411"/>
                  </a:cubicBezTo>
                  <a:cubicBezTo>
                    <a:pt x="12625" y="16346"/>
                    <a:pt x="12781" y="16305"/>
                    <a:pt x="12918" y="16272"/>
                  </a:cubicBezTo>
                  <a:cubicBezTo>
                    <a:pt x="12986" y="16256"/>
                    <a:pt x="13093" y="16207"/>
                    <a:pt x="13117" y="16272"/>
                  </a:cubicBezTo>
                  <a:cubicBezTo>
                    <a:pt x="13135" y="16322"/>
                    <a:pt x="12986" y="16447"/>
                    <a:pt x="12958" y="16470"/>
                  </a:cubicBezTo>
                  <a:cubicBezTo>
                    <a:pt x="12926" y="16470"/>
                    <a:pt x="12911" y="16479"/>
                    <a:pt x="12898" y="16510"/>
                  </a:cubicBezTo>
                  <a:cubicBezTo>
                    <a:pt x="12865" y="16510"/>
                    <a:pt x="12852" y="16504"/>
                    <a:pt x="12859" y="16530"/>
                  </a:cubicBezTo>
                  <a:cubicBezTo>
                    <a:pt x="12883" y="16482"/>
                    <a:pt x="12848" y="16473"/>
                    <a:pt x="12898" y="16431"/>
                  </a:cubicBezTo>
                  <a:cubicBezTo>
                    <a:pt x="12941" y="16395"/>
                    <a:pt x="13026" y="16357"/>
                    <a:pt x="13077" y="16331"/>
                  </a:cubicBezTo>
                  <a:cubicBezTo>
                    <a:pt x="13116" y="16311"/>
                    <a:pt x="13134" y="16323"/>
                    <a:pt x="13176" y="16312"/>
                  </a:cubicBezTo>
                  <a:cubicBezTo>
                    <a:pt x="13161" y="16334"/>
                    <a:pt x="13142" y="16369"/>
                    <a:pt x="13117" y="16391"/>
                  </a:cubicBezTo>
                  <a:cubicBezTo>
                    <a:pt x="13045" y="16456"/>
                    <a:pt x="12971" y="16523"/>
                    <a:pt x="12879" y="16570"/>
                  </a:cubicBezTo>
                  <a:cubicBezTo>
                    <a:pt x="12825" y="16597"/>
                    <a:pt x="12833" y="16583"/>
                    <a:pt x="12779" y="16609"/>
                  </a:cubicBezTo>
                  <a:cubicBezTo>
                    <a:pt x="12815" y="16580"/>
                    <a:pt x="12820" y="16552"/>
                    <a:pt x="12859" y="16530"/>
                  </a:cubicBezTo>
                  <a:cubicBezTo>
                    <a:pt x="12921" y="16495"/>
                    <a:pt x="13008" y="16476"/>
                    <a:pt x="13077" y="16470"/>
                  </a:cubicBezTo>
                  <a:cubicBezTo>
                    <a:pt x="13325" y="16450"/>
                    <a:pt x="13582" y="16470"/>
                    <a:pt x="13831" y="16470"/>
                  </a:cubicBezTo>
                  <a:cubicBezTo>
                    <a:pt x="13807" y="16488"/>
                    <a:pt x="13774" y="16532"/>
                    <a:pt x="13732" y="16550"/>
                  </a:cubicBezTo>
                  <a:cubicBezTo>
                    <a:pt x="13683" y="16571"/>
                    <a:pt x="13626" y="16569"/>
                    <a:pt x="13573" y="16570"/>
                  </a:cubicBezTo>
                  <a:cubicBezTo>
                    <a:pt x="13483" y="16572"/>
                    <a:pt x="13398" y="16577"/>
                    <a:pt x="13315" y="16550"/>
                  </a:cubicBezTo>
                  <a:cubicBezTo>
                    <a:pt x="13264" y="16533"/>
                    <a:pt x="13241" y="16516"/>
                    <a:pt x="13196" y="16490"/>
                  </a:cubicBezTo>
                  <a:cubicBezTo>
                    <a:pt x="13224" y="16455"/>
                    <a:pt x="13196" y="16425"/>
                    <a:pt x="13256" y="16391"/>
                  </a:cubicBezTo>
                  <a:cubicBezTo>
                    <a:pt x="13350" y="16338"/>
                    <a:pt x="13428" y="16326"/>
                    <a:pt x="13494" y="16292"/>
                  </a:cubicBezTo>
                  <a:cubicBezTo>
                    <a:pt x="13570" y="16253"/>
                    <a:pt x="13597" y="16260"/>
                    <a:pt x="13672" y="16252"/>
                  </a:cubicBezTo>
                  <a:cubicBezTo>
                    <a:pt x="13657" y="16277"/>
                    <a:pt x="13644" y="16293"/>
                    <a:pt x="13633" y="16312"/>
                  </a:cubicBezTo>
                  <a:cubicBezTo>
                    <a:pt x="13612" y="16350"/>
                    <a:pt x="13610" y="16379"/>
                    <a:pt x="13573" y="16411"/>
                  </a:cubicBezTo>
                  <a:cubicBezTo>
                    <a:pt x="13537" y="16442"/>
                    <a:pt x="13517" y="16443"/>
                    <a:pt x="13474" y="16450"/>
                  </a:cubicBezTo>
                  <a:cubicBezTo>
                    <a:pt x="13424" y="16458"/>
                    <a:pt x="13413" y="16443"/>
                    <a:pt x="13375" y="16431"/>
                  </a:cubicBezTo>
                  <a:cubicBezTo>
                    <a:pt x="13333" y="16418"/>
                    <a:pt x="13343" y="16396"/>
                    <a:pt x="13275" y="16391"/>
                  </a:cubicBezTo>
                  <a:cubicBezTo>
                    <a:pt x="13174" y="16384"/>
                    <a:pt x="12717" y="16373"/>
                    <a:pt x="12720" y="16371"/>
                  </a:cubicBezTo>
                  <a:cubicBezTo>
                    <a:pt x="12767" y="16337"/>
                    <a:pt x="12810" y="16329"/>
                    <a:pt x="12859" y="16312"/>
                  </a:cubicBezTo>
                  <a:cubicBezTo>
                    <a:pt x="12921" y="16290"/>
                    <a:pt x="12973" y="16270"/>
                    <a:pt x="13037" y="16252"/>
                  </a:cubicBezTo>
                  <a:cubicBezTo>
                    <a:pt x="13000" y="16263"/>
                    <a:pt x="12978" y="16255"/>
                    <a:pt x="12938" y="16272"/>
                  </a:cubicBezTo>
                  <a:cubicBezTo>
                    <a:pt x="12857" y="16306"/>
                    <a:pt x="12768" y="16341"/>
                    <a:pt x="12680" y="16371"/>
                  </a:cubicBezTo>
                  <a:cubicBezTo>
                    <a:pt x="12571" y="16408"/>
                    <a:pt x="12489" y="16445"/>
                    <a:pt x="12382" y="16470"/>
                  </a:cubicBezTo>
                  <a:cubicBezTo>
                    <a:pt x="12345" y="16479"/>
                    <a:pt x="12301" y="16484"/>
                    <a:pt x="12263" y="16490"/>
                  </a:cubicBezTo>
                  <a:cubicBezTo>
                    <a:pt x="12284" y="16448"/>
                    <a:pt x="12270" y="16439"/>
                    <a:pt x="12303" y="16411"/>
                  </a:cubicBezTo>
                  <a:cubicBezTo>
                    <a:pt x="12341" y="16379"/>
                    <a:pt x="12398" y="16335"/>
                    <a:pt x="12442" y="16312"/>
                  </a:cubicBezTo>
                  <a:cubicBezTo>
                    <a:pt x="12482" y="16291"/>
                    <a:pt x="12537" y="16255"/>
                    <a:pt x="12581" y="16232"/>
                  </a:cubicBezTo>
                  <a:cubicBezTo>
                    <a:pt x="12609" y="16232"/>
                    <a:pt x="12623" y="16228"/>
                    <a:pt x="12640" y="16212"/>
                  </a:cubicBezTo>
                  <a:cubicBezTo>
                    <a:pt x="12640" y="16314"/>
                    <a:pt x="12628" y="16410"/>
                    <a:pt x="12621" y="16510"/>
                  </a:cubicBezTo>
                  <a:cubicBezTo>
                    <a:pt x="12617" y="16568"/>
                    <a:pt x="12609" y="16573"/>
                    <a:pt x="12660" y="16589"/>
                  </a:cubicBezTo>
                  <a:cubicBezTo>
                    <a:pt x="12699" y="16601"/>
                    <a:pt x="12758" y="16589"/>
                    <a:pt x="12799" y="16589"/>
                  </a:cubicBezTo>
                  <a:cubicBezTo>
                    <a:pt x="12778" y="16551"/>
                    <a:pt x="12795" y="16548"/>
                    <a:pt x="12740" y="16510"/>
                  </a:cubicBezTo>
                  <a:cubicBezTo>
                    <a:pt x="12691" y="16476"/>
                    <a:pt x="12683" y="16449"/>
                    <a:pt x="12640" y="16411"/>
                  </a:cubicBezTo>
                  <a:cubicBezTo>
                    <a:pt x="12630" y="16402"/>
                    <a:pt x="12553" y="16318"/>
                    <a:pt x="12541" y="16312"/>
                  </a:cubicBezTo>
                  <a:cubicBezTo>
                    <a:pt x="12459" y="16273"/>
                    <a:pt x="12352" y="16276"/>
                    <a:pt x="12263" y="16272"/>
                  </a:cubicBezTo>
                  <a:cubicBezTo>
                    <a:pt x="12125" y="16266"/>
                    <a:pt x="12019" y="16278"/>
                    <a:pt x="11886" y="16312"/>
                  </a:cubicBezTo>
                  <a:cubicBezTo>
                    <a:pt x="11724" y="16353"/>
                    <a:pt x="11541" y="16396"/>
                    <a:pt x="11390" y="16470"/>
                  </a:cubicBezTo>
                  <a:cubicBezTo>
                    <a:pt x="11220" y="16553"/>
                    <a:pt x="11058" y="16656"/>
                    <a:pt x="10894" y="16748"/>
                  </a:cubicBezTo>
                  <a:cubicBezTo>
                    <a:pt x="10820" y="16789"/>
                    <a:pt x="10782" y="16814"/>
                    <a:pt x="10716" y="16867"/>
                  </a:cubicBezTo>
                  <a:cubicBezTo>
                    <a:pt x="10722" y="16860"/>
                    <a:pt x="10729" y="16854"/>
                    <a:pt x="10735" y="16847"/>
                  </a:cubicBezTo>
                  <a:cubicBezTo>
                    <a:pt x="10777" y="16826"/>
                    <a:pt x="10819" y="16825"/>
                    <a:pt x="10855" y="16808"/>
                  </a:cubicBezTo>
                  <a:cubicBezTo>
                    <a:pt x="10900" y="16786"/>
                    <a:pt x="10946" y="16767"/>
                    <a:pt x="10993" y="16748"/>
                  </a:cubicBezTo>
                  <a:cubicBezTo>
                    <a:pt x="11035" y="16731"/>
                    <a:pt x="11135" y="16700"/>
                    <a:pt x="11172" y="16669"/>
                  </a:cubicBezTo>
                  <a:cubicBezTo>
                    <a:pt x="11231" y="16620"/>
                    <a:pt x="11197" y="16641"/>
                    <a:pt x="11152" y="16609"/>
                  </a:cubicBezTo>
                  <a:cubicBezTo>
                    <a:pt x="11121" y="16587"/>
                    <a:pt x="11090" y="16583"/>
                    <a:pt x="11053" y="16570"/>
                  </a:cubicBezTo>
                  <a:cubicBezTo>
                    <a:pt x="10981" y="16545"/>
                    <a:pt x="10930" y="16535"/>
                    <a:pt x="10855" y="16530"/>
                  </a:cubicBezTo>
                  <a:cubicBezTo>
                    <a:pt x="10822" y="16530"/>
                    <a:pt x="10815" y="16530"/>
                    <a:pt x="10795" y="16530"/>
                  </a:cubicBezTo>
                  <a:cubicBezTo>
                    <a:pt x="10877" y="16526"/>
                    <a:pt x="10952" y="16516"/>
                    <a:pt x="11033" y="16510"/>
                  </a:cubicBezTo>
                  <a:cubicBezTo>
                    <a:pt x="11072" y="16507"/>
                    <a:pt x="11113" y="16510"/>
                    <a:pt x="11152" y="16510"/>
                  </a:cubicBezTo>
                  <a:cubicBezTo>
                    <a:pt x="11100" y="16524"/>
                    <a:pt x="11044" y="16537"/>
                    <a:pt x="10974" y="16550"/>
                  </a:cubicBezTo>
                  <a:cubicBezTo>
                    <a:pt x="10812" y="16581"/>
                    <a:pt x="10658" y="16573"/>
                    <a:pt x="10497" y="16589"/>
                  </a:cubicBezTo>
                  <a:cubicBezTo>
                    <a:pt x="10428" y="16596"/>
                    <a:pt x="10364" y="16614"/>
                    <a:pt x="10299" y="16629"/>
                  </a:cubicBezTo>
                  <a:cubicBezTo>
                    <a:pt x="10312" y="16607"/>
                    <a:pt x="10316" y="16554"/>
                    <a:pt x="10339" y="16530"/>
                  </a:cubicBezTo>
                  <a:cubicBezTo>
                    <a:pt x="10385" y="16484"/>
                    <a:pt x="10423" y="16523"/>
                    <a:pt x="10339" y="16490"/>
                  </a:cubicBezTo>
                  <a:cubicBezTo>
                    <a:pt x="10180" y="16428"/>
                    <a:pt x="9837" y="16484"/>
                    <a:pt x="9684" y="16510"/>
                  </a:cubicBezTo>
                  <a:cubicBezTo>
                    <a:pt x="9746" y="16479"/>
                    <a:pt x="9742" y="16459"/>
                    <a:pt x="9823" y="16450"/>
                  </a:cubicBezTo>
                  <a:cubicBezTo>
                    <a:pt x="9933" y="16438"/>
                    <a:pt x="10050" y="16450"/>
                    <a:pt x="10160" y="16450"/>
                  </a:cubicBezTo>
                  <a:cubicBezTo>
                    <a:pt x="10138" y="16466"/>
                    <a:pt x="10116" y="16488"/>
                    <a:pt x="10081" y="16510"/>
                  </a:cubicBezTo>
                  <a:cubicBezTo>
                    <a:pt x="10023" y="16547"/>
                    <a:pt x="9956" y="16581"/>
                    <a:pt x="9902" y="16609"/>
                  </a:cubicBezTo>
                  <a:cubicBezTo>
                    <a:pt x="9874" y="16623"/>
                    <a:pt x="9930" y="16595"/>
                    <a:pt x="9902" y="16609"/>
                  </a:cubicBezTo>
                </a:path>
              </a:pathLst>
            </a:custGeom>
            <a:noFill/>
            <a:ln cap="rnd" w="34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492360" y="465300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743280" y="4724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Bodoni MT Black"/>
              </a:rPr>
              <a:t>CORNER</a:t>
            </a:r>
            <a:endParaRPr b="0" lang="en-US" sz="2400" spc="-1" strike="noStrike">
              <a:solidFill>
                <a:srgbClr val="000000"/>
              </a:solidFill>
              <a:latin typeface="Arial"/>
            </a:endParaRPr>
          </a:p>
        </p:txBody>
      </p:sp>
      <p:sp>
        <p:nvSpPr>
          <p:cNvPr id="86" name=""/>
          <p:cNvSpPr/>
          <p:nvPr/>
        </p:nvSpPr>
        <p:spPr>
          <a:xfrm>
            <a:off x="5435640" y="1989000"/>
            <a:ext cx="2449440" cy="1008360"/>
          </a:xfrm>
          <a:prstGeom prst="wedgeRoundRectCallout">
            <a:avLst>
              <a:gd name="adj1" fmla="val -66009"/>
              <a:gd name="adj2" fmla="val 5440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Responsibilities are pointless! Hehehe.</a:t>
            </a:r>
            <a:endParaRPr b="0" lang="en-US" sz="2000" spc="-1" strike="noStrike">
              <a:solidFill>
                <a:srgbClr val="000000"/>
              </a:solidFill>
              <a:latin typeface="Arial"/>
            </a:endParaRPr>
          </a:p>
        </p:txBody>
      </p:sp>
      <p:sp>
        <p:nvSpPr>
          <p:cNvPr id="87" name=""/>
          <p:cNvSpPr/>
          <p:nvPr/>
        </p:nvSpPr>
        <p:spPr>
          <a:xfrm>
            <a:off x="4073760" y="5157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Bodoni MT Black"/>
              </a:rPr>
              <a:t>SHOP</a:t>
            </a:r>
            <a:endParaRPr b="0" lang="en-US" sz="2400" spc="-1" strike="noStrike">
              <a:solidFill>
                <a:srgbClr val="000000"/>
              </a:solidFill>
              <a:latin typeface="Arial"/>
            </a:endParaRPr>
          </a:p>
        </p:txBody>
      </p:sp>
      <p:sp>
        <p:nvSpPr>
          <p:cNvPr id="88" name=""/>
          <p:cNvSpPr/>
          <p:nvPr/>
        </p:nvSpPr>
        <p:spPr>
          <a:xfrm>
            <a:off x="1403280" y="609300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As a teenager, Cook managed a corner shop…</a:t>
            </a:r>
            <a:endParaRPr b="0" lang="en-US" sz="1800" spc="-1" strike="noStrike">
              <a:solidFill>
                <a:srgbClr val="000000"/>
              </a:solidFill>
              <a:latin typeface="Arial"/>
            </a:endParaRPr>
          </a:p>
        </p:txBody>
      </p:sp>
    </p:spTree>
  </p:cSld>
  <p:transition advTm="3000">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65"/>
                                        </p:tgtEl>
                                        <p:attrNameLst>
                                          <p:attrName>style.visibility</p:attrName>
                                        </p:attrNameLst>
                                      </p:cBhvr>
                                      <p:to>
                                        <p:strVal val="visible"/>
                                      </p:to>
                                    </p:set>
                                    <p:anim calcmode="lin" valueType="num">
                                      <p:cBhvr additive="base">
                                        <p:cTn id="90" dur="500" fill="hold"/>
                                        <p:tgtEl>
                                          <p:spTgt spid="65"/>
                                        </p:tgtEl>
                                        <p:attrNameLst>
                                          <p:attrName>ppt_x</p:attrName>
                                        </p:attrNameLst>
                                      </p:cBhvr>
                                      <p:tavLst>
                                        <p:tav tm="0">
                                          <p:val>
                                            <p:strVal val="1+#ppt_w/2"/>
                                          </p:val>
                                        </p:tav>
                                        <p:tav tm="100000">
                                          <p:val>
                                            <p:strVal val="#ppt_x"/>
                                          </p:val>
                                        </p:tav>
                                      </p:tavLst>
                                    </p:anim>
                                    <p:anim calcmode="lin" valueType="num">
                                      <p:cBhvr additive="base">
                                        <p:cTn id="91"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3000"/>
                                  </p:stCondLst>
                                  <p:childTnLst>
                                    <p:set>
                                      <p:cBhvr>
                                        <p:cTn id="95" dur="1" fill="hold">
                                          <p:stCondLst>
                                            <p:cond delay="0"/>
                                          </p:stCondLst>
                                        </p:cTn>
                                        <p:tgtEl>
                                          <p:spTgt spid="86"/>
                                        </p:tgtEl>
                                        <p:attrNameLst>
                                          <p:attrName>style.visibility</p:attrName>
                                        </p:attrNameLst>
                                      </p:cBhvr>
                                      <p:to>
                                        <p:strVal val="visible"/>
                                      </p:to>
                                    </p:set>
                                    <p:animEffect filter="dissolve" transition="in">
                                      <p:cBhvr additive="repl">
                                        <p:cTn id="96" dur="500"/>
                                        <p:tgtEl>
                                          <p:spTgt spid="8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3000"/>
                                  </p:stCondLst>
                                  <p:childTnLst>
                                    <p:animEffect filter="dissolve" transition="out">
                                      <p:cBhvr additive="repl">
                                        <p:cTn id="100" dur="500"/>
                                        <p:tgtEl>
                                          <p:spTgt spid="86"/>
                                        </p:tgtEl>
                                      </p:cBhvr>
                                    </p:animEffect>
                                    <p:set>
                                      <p:cBhvr>
                                        <p:cTn id="101" dur="1" fill="hold">
                                          <p:stCondLst>
                                            <p:cond delay="499"/>
                                          </p:stCondLst>
                                        </p:cTn>
                                        <p:tgtEl>
                                          <p:spTgt spid="86"/>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8">
                                  <p:stCondLst>
                                    <p:cond delay="0"/>
                                  </p:stCondLst>
                                  <p:childTnLst>
                                    <p:anim calcmode="lin" valueType="num">
                                      <p:cBhvr additive="base">
                                        <p:cTn id="105" dur="500"/>
                                        <p:tgtEl>
                                          <p:spTgt spid="65"/>
                                        </p:tgtEl>
                                        <p:attrNameLst>
                                          <p:attrName>ppt_x</p:attrName>
                                        </p:attrNameLst>
                                      </p:cBhvr>
                                      <p:tavLst>
                                        <p:tav tm="0">
                                          <p:val>
                                            <p:strVal val="#ppt_x"/>
                                          </p:val>
                                        </p:tav>
                                        <p:tav tm="100000">
                                          <p:val>
                                            <p:strVal val="0-#ppt_w/2"/>
                                          </p:val>
                                        </p:tav>
                                      </p:tavLst>
                                    </p:anim>
                                    <p:anim calcmode="lin" valueType="num">
                                      <p:cBhvr additive="base">
                                        <p:cTn id="106" dur="500"/>
                                        <p:tgtEl>
                                          <p:spTgt spid="65"/>
                                        </p:tgtEl>
                                        <p:attrNameLst>
                                          <p:attrName>ppt_y</p:attrName>
                                        </p:attrNameLst>
                                      </p:cBhvr>
                                      <p:tavLst>
                                        <p:tav tm="0">
                                          <p:val>
                                            <p:strVal val="#ppt_y"/>
                                          </p:val>
                                        </p:tav>
                                        <p:tav tm="100000">
                                          <p:val>
                                            <p:strVal val="#ppt_y"/>
                                          </p:val>
                                        </p:tav>
                                      </p:tavLst>
                                    </p:anim>
                                    <p:set>
                                      <p:cBhvr>
                                        <p:cTn id="107"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89" name="" descr=""/>
          <p:cNvPicPr/>
          <p:nvPr/>
        </p:nvPicPr>
        <p:blipFill>
          <a:blip r:embed="rId1"/>
          <a:srcRect l="47529" t="0" r="0" b="0"/>
          <a:stretch/>
        </p:blipFill>
        <p:spPr>
          <a:xfrm>
            <a:off x="3132000" y="3068640"/>
            <a:ext cx="2624400" cy="3162240"/>
          </a:xfrm>
          <a:prstGeom prst="rect">
            <a:avLst/>
          </a:prstGeom>
          <a:ln w="0">
            <a:noFill/>
          </a:ln>
        </p:spPr>
      </p:pic>
      <p:pic>
        <p:nvPicPr>
          <p:cNvPr id="90" name="" descr=""/>
          <p:cNvPicPr/>
          <p:nvPr/>
        </p:nvPicPr>
        <p:blipFill>
          <a:blip r:embed="rId2"/>
          <a:srcRect l="0" t="0" r="52478" b="0"/>
          <a:stretch/>
        </p:blipFill>
        <p:spPr>
          <a:xfrm>
            <a:off x="755640" y="3068640"/>
            <a:ext cx="2376360" cy="3162240"/>
          </a:xfrm>
          <a:prstGeom prst="rect">
            <a:avLst/>
          </a:prstGeom>
          <a:ln w="0">
            <a:noFill/>
          </a:ln>
        </p:spPr>
      </p:pic>
      <p:pic>
        <p:nvPicPr>
          <p:cNvPr id="91" name="" descr=""/>
          <p:cNvPicPr/>
          <p:nvPr/>
        </p:nvPicPr>
        <p:blipFill>
          <a:blip r:embed="rId3"/>
          <a:stretch/>
        </p:blipFill>
        <p:spPr>
          <a:xfrm>
            <a:off x="9540720" y="4149720"/>
            <a:ext cx="743040" cy="934920"/>
          </a:xfrm>
          <a:prstGeom prst="rect">
            <a:avLst/>
          </a:prstGeom>
          <a:ln w="0">
            <a:noFill/>
          </a:ln>
        </p:spPr>
      </p:pic>
      <p:sp>
        <p:nvSpPr>
          <p:cNvPr id="92" name=""/>
          <p:cNvSpPr/>
          <p:nvPr/>
        </p:nvSpPr>
        <p:spPr>
          <a:xfrm>
            <a:off x="1187280" y="765000"/>
            <a:ext cx="67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Until boarding his first ship, a coal collier, at age 17.</a:t>
            </a:r>
            <a:endParaRPr b="0" lang="en-US" sz="1800" spc="-1" strike="noStrike">
              <a:solidFill>
                <a:srgbClr val="000000"/>
              </a:solidFill>
              <a:latin typeface="Arial"/>
            </a:endParaRPr>
          </a:p>
        </p:txBody>
      </p:sp>
    </p:spTree>
  </p:cSld>
  <p:transition advTm="1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path" presetID="0">
                                  <p:stCondLst>
                                    <p:cond delay="3000"/>
                                  </p:stCondLst>
                                  <p:childTnLst>
                                    <p:animMotion origin="layout" path="M -3.46945E-018 3.70113E-007 C -0.00382 -0.00763 -0.00469 -0.01665 -0.00851 -0.02406 C -0.01111 -0.02915 -0.01476 -0.03423 -0.01806 -0.03863 C -0.02084 -0.04904 -0.0283 -0.0576 -0.03611 -0.06107 C -0.03698 -0.06269 -0.03733 -0.06477 -0.03854 -0.06569 C -0.0408 -0.06755 -0.04584 -0.06893 -0.04584 -0.06893 C -0.05018 -0.065 -0.05156 -0.05968 -0.05538 -0.05459 C -0.05799 -0.04117 -0.06545 -0.03146 -0.06979 -0.0192 C -0.0717 -0.01365 -0.07327 -0.00856 -0.07587 -0.00324 C -0.08281 -0.00625 -0.08351 -0.01874 -0.08559 -0.0273 C -0.08646 -0.031 -0.08889 -0.03354 -0.09028 -0.03701 C -0.09115 -0.03909 -0.09202 -0.04117 -0.09271 -0.04326 C -0.09323 -0.04488 -0.09288 -0.04719 -0.09393 -0.04811 C -0.09601 -0.0502 -0.09879 -0.0502 -0.10122 -0.05135 C -0.1059 -0.0576 -0.11181 -0.06454 -0.11806 -0.06731 C -0.12969 -0.06338 -0.13872 -0.05112 -0.14705 -0.04002 C -0.14861 -0.03377 -0.1507 -0.0303 -0.15417 -0.02568 C -0.15573 -0.01689 -0.15781 -0.01504 -0.16389 -0.01133 C -0.18403 -0.01527 -0.18785 -0.03909 -0.20365 -0.05297 C -0.20886 -0.06338 -0.2059 -0.06176 -0.21198 -0.06431 C -0.21563 -0.06593 -0.22292 -0.06893 -0.22292 -0.06893 C -0.2309 -0.06847 -0.23906 -0.0694 -0.24705 -0.06731 C -0.25347 -0.06569 -0.26545 -0.04996 -0.27101 -0.04488 C -0.27622 -0.04025 -0.28334 -0.03609 -0.28906 -0.03215 C -0.30018 -0.0421 -0.30556 -0.05968 -0.31806 -0.06731 C -0.32136 -0.07379 -0.32448 -0.07402 -0.33004 -0.07703 C -0.33802 -0.07657 -0.34618 -0.0768 -0.35417 -0.07541 C -0.35764 -0.07472 -0.36268 -0.06893 -0.36632 -0.06731 C -0.3757 -0.0495 -0.36007 -0.07772 -0.37344 -0.05945 C -0.37465 -0.05783 -0.37465 -0.05482 -0.37587 -0.05297 C -0.37674 -0.05158 -0.37847 -0.05089 -0.37952 -0.04973 C -0.38594 -0.04256 -0.38715 -0.03632 -0.39636 -0.03215 C -0.40156 -0.03447 -0.40573 -0.04187 -0.41077 -0.04649 C -0.41788 -0.06061 -0.43941 -0.07287 -0.45174 -0.07703 C -0.45938 -0.07634 -0.46771 -0.07842 -0.47465 -0.07379 C -0.47639 -0.07263 -0.47778 -0.07009 -0.47952 -0.06893 C -0.48802 -0.06292 -0.4967 -0.05968 -0.50486 -0.05297 C -0.51111 -0.04788 -0.51684 -0.0421 -0.52292 -0.03701 C -0.525 -0.03539 -0.52691 -0.03377 -0.529 -0.03215 C -0.5309 -0.03053 -0.5349 -0.0273 -0.5349 -0.0273 C -0.54323 -0.01249 -0.54028 -0.0192 -0.54462 -0.0081 C -0.55903 -0.02221 -0.56788 -0.05043 -0.58681 -0.05459 C -0.59844 -0.05343 -0.60261 -0.05621 -0.60955 -0.04649 C -0.61528 -0.02406 -0.60834 -0.04673 -0.61563 -0.03215 C -0.61893 -0.02544 -0.62031 -0.01781 -0.62413 -0.01133 C -0.62448 -0.00971 -0.62483 -0.0081 -0.62535 -0.00648 C -0.62604 -0.00463 -0.62726 -0.00347 -0.62778 -0.00162 C -0.62865 0.00116 -0.62969 0.01041 -0.63004 0.01295 C -0.63368 0.00972 -0.64184 -0.00069 -0.6434 -0.00486 C -0.64584 -0.01133 -0.64722 -0.01504 -0.65174 -0.0192 C -0.65556 -0.02683 -0.66215 -0.03817 -0.66754 -0.04326 C -0.66997 -0.0532 -0.66702 -0.04326 -0.67344 -0.05621 C -0.67934 -0.06824 -0.68281 -0.08466 -0.69271 -0.0916 C -0.69479 -0.09947 -0.69948 -0.10548 -0.70486 -0.10918 C -0.70608 -0.11126 -0.7099 -0.11867 -0.71198 -0.12029 C -0.7165 -0.12352 -0.72761 -0.12723 -0.73247 -0.12838 C -0.73854 -0.12792 -0.74462 -0.12815 -0.75052 -0.12676 C -0.75278 -0.1263 -0.75834 -0.11774 -0.76146 -0.11566 C -0.76563 -0.10733 -0.77465 -0.09299 -0.78073 -0.08674 C -0.78229 -0.0805 -0.78525 -0.0761 -0.78802 -0.07055 C -0.78924 -0.06292 -0.79254 -0.06061 -0.79393 -0.05297 C -0.79427 -0.04071 -0.79445 -0.02822 -0.79514 -0.01596 C -0.79566 -0.00763 -0.80052 -0.00116 -0.80243 0.00648 C -0.80018 0.05344 -0.80035 0.03863 -0.80243 0.1108 C -0.80261 0.11959 -0.80521 0.1152 -0.80243 0.1189 E">
                                      <p:cBhvr>
                                        <p:cTn id="113" dur="2000" fill="hold"/>
                                        <p:tgtEl>
                                          <p:spTgt spid="91"/>
                                        </p:tgtEl>
                                      </p:cBhvr>
                                    </p:animMotion>
                                  </p:childTnLst>
                                </p:cTn>
                              </p:par>
                            </p:childTnLst>
                          </p:cTn>
                        </p:par>
                        <p:par>
                          <p:cTn id="114" fill="hold">
                            <p:stCondLst>
                              <p:cond delay="5000"/>
                            </p:stCondLst>
                            <p:childTnLst>
                              <p:par>
                                <p:cTn id="115" nodeType="afterEffect" fill="hold" presetClass="exit" presetID="2" presetSubtype="8">
                                  <p:stCondLst>
                                    <p:cond delay="0"/>
                                  </p:stCondLst>
                                  <p:childTnLst>
                                    <p:anim calcmode="lin" valueType="num">
                                      <p:cBhvr additive="base">
                                        <p:cTn id="116" dur="500"/>
                                        <p:tgtEl>
                                          <p:spTgt spid="90"/>
                                        </p:tgtEl>
                                        <p:attrNameLst>
                                          <p:attrName>ppt_x</p:attrName>
                                        </p:attrNameLst>
                                      </p:cBhvr>
                                      <p:tavLst>
                                        <p:tav tm="0">
                                          <p:val>
                                            <p:strVal val="#ppt_x"/>
                                          </p:val>
                                        </p:tav>
                                        <p:tav tm="100000">
                                          <p:val>
                                            <p:strVal val="0-#ppt_w/2"/>
                                          </p:val>
                                        </p:tav>
                                      </p:tavLst>
                                    </p:anim>
                                    <p:anim calcmode="lin" valueType="num">
                                      <p:cBhvr additive="base">
                                        <p:cTn id="117" dur="500"/>
                                        <p:tgtEl>
                                          <p:spTgt spid="90"/>
                                        </p:tgtEl>
                                        <p:attrNameLst>
                                          <p:attrName>ppt_y</p:attrName>
                                        </p:attrNameLst>
                                      </p:cBhvr>
                                      <p:tavLst>
                                        <p:tav tm="0">
                                          <p:val>
                                            <p:strVal val="#ppt_y"/>
                                          </p:val>
                                        </p:tav>
                                        <p:tav tm="100000">
                                          <p:val>
                                            <p:strVal val="#ppt_y"/>
                                          </p:val>
                                        </p:tav>
                                      </p:tavLst>
                                    </p:anim>
                                    <p:set>
                                      <p:cBhvr>
                                        <p:cTn id="118" dur="1" fill="hold">
                                          <p:stCondLst>
                                            <p:cond delay="499"/>
                                          </p:stCondLst>
                                        </p:cTn>
                                        <p:tgtEl>
                                          <p:spTgt spid="90"/>
                                        </p:tgtEl>
                                        <p:attrNameLst>
                                          <p:attrName>style.visibility</p:attrName>
                                        </p:attrNameLst>
                                      </p:cBhvr>
                                      <p:to>
                                        <p:strVal val="hidden"/>
                                      </p:to>
                                    </p:set>
                                  </p:childTnLst>
                                </p:cTn>
                              </p:par>
                              <p:par>
                                <p:cTn id="119" nodeType="withEffect" fill="hold" presetClass="exit" presetID="2" presetSubtype="8">
                                  <p:stCondLst>
                                    <p:cond delay="0"/>
                                  </p:stCondLst>
                                  <p:childTnLst>
                                    <p:anim calcmode="lin" valueType="num">
                                      <p:cBhvr additive="base">
                                        <p:cTn id="120" dur="500"/>
                                        <p:tgtEl>
                                          <p:spTgt spid="91"/>
                                        </p:tgtEl>
                                        <p:attrNameLst>
                                          <p:attrName>ppt_x</p:attrName>
                                        </p:attrNameLst>
                                      </p:cBhvr>
                                      <p:tavLst>
                                        <p:tav tm="0">
                                          <p:val>
                                            <p:strVal val="#ppt_x"/>
                                          </p:val>
                                        </p:tav>
                                        <p:tav tm="100000">
                                          <p:val>
                                            <p:strVal val="0-#ppt_w/2"/>
                                          </p:val>
                                        </p:tav>
                                      </p:tavLst>
                                    </p:anim>
                                    <p:anim calcmode="lin" valueType="num">
                                      <p:cBhvr additive="base">
                                        <p:cTn id="121" dur="500"/>
                                        <p:tgtEl>
                                          <p:spTgt spid="91"/>
                                        </p:tgtEl>
                                        <p:attrNameLst>
                                          <p:attrName>ppt_y</p:attrName>
                                        </p:attrNameLst>
                                      </p:cBhvr>
                                      <p:tavLst>
                                        <p:tav tm="0">
                                          <p:val>
                                            <p:strVal val="#ppt_y"/>
                                          </p:val>
                                        </p:tav>
                                        <p:tav tm="100000">
                                          <p:val>
                                            <p:strVal val="#ppt_y"/>
                                          </p:val>
                                        </p:tav>
                                      </p:tavLst>
                                    </p:anim>
                                    <p:set>
                                      <p:cBhvr>
                                        <p:cTn id="122"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rcRect l="0" t="0" r="52478" b="0"/>
          <a:stretch/>
        </p:blipFill>
        <p:spPr>
          <a:xfrm>
            <a:off x="5580000" y="3068640"/>
            <a:ext cx="2376720" cy="3162240"/>
          </a:xfrm>
          <a:prstGeom prst="rect">
            <a:avLst/>
          </a:prstGeom>
          <a:ln w="0">
            <a:noFill/>
          </a:ln>
        </p:spPr>
      </p:pic>
      <p:pic>
        <p:nvPicPr>
          <p:cNvPr id="94" name="" descr=""/>
          <p:cNvPicPr/>
          <p:nvPr/>
        </p:nvPicPr>
        <p:blipFill>
          <a:blip r:embed="rId2"/>
          <a:srcRect l="22700" t="53018" r="15335" b="18467"/>
          <a:stretch/>
        </p:blipFill>
        <p:spPr>
          <a:xfrm>
            <a:off x="395280" y="4454640"/>
            <a:ext cx="5183280" cy="1770120"/>
          </a:xfrm>
          <a:prstGeom prst="rect">
            <a:avLst/>
          </a:prstGeom>
          <a:ln w="0">
            <a:noFill/>
          </a:ln>
        </p:spPr>
      </p:pic>
      <p:sp>
        <p:nvSpPr>
          <p:cNvPr id="95" name=""/>
          <p:cNvSpPr/>
          <p:nvPr/>
        </p:nvSpPr>
        <p:spPr>
          <a:xfrm>
            <a:off x="4140360" y="3429000"/>
            <a:ext cx="2449440" cy="647640"/>
          </a:xfrm>
          <a:prstGeom prst="wedgeRoundRectCallout">
            <a:avLst>
              <a:gd name="adj1" fmla="val 55250"/>
              <a:gd name="adj2" fmla="val 18799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OOOOH! A big one!</a:t>
            </a:r>
            <a:endParaRPr b="0" lang="en-US" sz="2000" spc="-1" strike="noStrike">
              <a:solidFill>
                <a:srgbClr val="000000"/>
              </a:solidFill>
              <a:latin typeface="Arial"/>
            </a:endParaRPr>
          </a:p>
        </p:txBody>
      </p:sp>
      <p:pic>
        <p:nvPicPr>
          <p:cNvPr id="96" name="" descr=""/>
          <p:cNvPicPr/>
          <p:nvPr/>
        </p:nvPicPr>
        <p:blipFill>
          <a:blip r:embed="rId3"/>
          <a:stretch/>
        </p:blipFill>
        <p:spPr>
          <a:xfrm>
            <a:off x="6372360" y="4797360"/>
            <a:ext cx="742680" cy="935280"/>
          </a:xfrm>
          <a:prstGeom prst="rect">
            <a:avLst/>
          </a:prstGeom>
          <a:ln w="0">
            <a:noFill/>
          </a:ln>
        </p:spPr>
      </p:pic>
      <p:sp>
        <p:nvSpPr>
          <p:cNvPr id="97" name=""/>
          <p:cNvSpPr/>
          <p:nvPr/>
        </p:nvSpPr>
        <p:spPr>
          <a:xfrm>
            <a:off x="1187280" y="765000"/>
            <a:ext cx="67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He then joined the Royal Navy in 1756 when France and England went to war.</a:t>
            </a:r>
            <a:endParaRPr b="0" lang="en-US" sz="1800" spc="-1" strike="noStrike">
              <a:solidFill>
                <a:srgbClr val="000000"/>
              </a:solidFill>
              <a:latin typeface="Arial"/>
            </a:endParaRPr>
          </a:p>
        </p:txBody>
      </p:sp>
    </p:spTree>
  </p:cSld>
  <p:transition advTm="10000">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3000"/>
                                  </p:stCondLst>
                                  <p:childTnLst>
                                    <p:set>
                                      <p:cBhvr>
                                        <p:cTn id="128" dur="1" fill="hold">
                                          <p:stCondLst>
                                            <p:cond delay="0"/>
                                          </p:stCondLst>
                                        </p:cTn>
                                        <p:tgtEl>
                                          <p:spTgt spid="96"/>
                                        </p:tgtEl>
                                        <p:attrNameLst>
                                          <p:attrName>style.visibility</p:attrName>
                                        </p:attrNameLst>
                                      </p:cBhvr>
                                      <p:to>
                                        <p:strVal val="visible"/>
                                      </p:to>
                                    </p:set>
                                    <p:anim calcmode="lin" valueType="num">
                                      <p:cBhvr additive="base">
                                        <p:cTn id="129" dur="500" fill="hold"/>
                                        <p:tgtEl>
                                          <p:spTgt spid="96"/>
                                        </p:tgtEl>
                                        <p:attrNameLst>
                                          <p:attrName>ppt_x</p:attrName>
                                        </p:attrNameLst>
                                      </p:cBhvr>
                                      <p:tavLst>
                                        <p:tav tm="0">
                                          <p:val>
                                            <p:strVal val="1+#ppt_w/2"/>
                                          </p:val>
                                        </p:tav>
                                        <p:tav tm="100000">
                                          <p:val>
                                            <p:strVal val="#ppt_x"/>
                                          </p:val>
                                        </p:tav>
                                      </p:tavLst>
                                    </p:anim>
                                    <p:anim calcmode="lin" valueType="num">
                                      <p:cBhvr additive="base">
                                        <p:cTn id="130" dur="500" fill="hold"/>
                                        <p:tgtEl>
                                          <p:spTgt spid="96"/>
                                        </p:tgtEl>
                                        <p:attrNameLst>
                                          <p:attrName>ppt_y</p:attrName>
                                        </p:attrNameLst>
                                      </p:cBhvr>
                                      <p:tavLst>
                                        <p:tav tm="0">
                                          <p:val>
                                            <p:strVal val="#ppt_y"/>
                                          </p:val>
                                        </p:tav>
                                        <p:tav tm="100000">
                                          <p:val>
                                            <p:strVal val="#ppt_y"/>
                                          </p:val>
                                        </p:tav>
                                      </p:tavLst>
                                    </p:anim>
                                  </p:childTnLst>
                                </p:cTn>
                              </p:par>
                              <p:par>
                                <p:cTn id="131" nodeType="withEffect" fill="hold" presetClass="entr" presetID="2" presetSubtype="2">
                                  <p:stCondLst>
                                    <p:cond delay="3000"/>
                                  </p:stCondLst>
                                  <p:childTnLst>
                                    <p:set>
                                      <p:cBhvr>
                                        <p:cTn id="132" dur="1" fill="hold">
                                          <p:stCondLst>
                                            <p:cond delay="0"/>
                                          </p:stCondLst>
                                        </p:cTn>
                                        <p:tgtEl>
                                          <p:spTgt spid="93"/>
                                        </p:tgtEl>
                                        <p:attrNameLst>
                                          <p:attrName>style.visibility</p:attrName>
                                        </p:attrNameLst>
                                      </p:cBhvr>
                                      <p:to>
                                        <p:strVal val="visible"/>
                                      </p:to>
                                    </p:set>
                                    <p:anim calcmode="lin" valueType="num">
                                      <p:cBhvr additive="base">
                                        <p:cTn id="133" dur="500" fill="hold"/>
                                        <p:tgtEl>
                                          <p:spTgt spid="93"/>
                                        </p:tgtEl>
                                        <p:attrNameLst>
                                          <p:attrName>ppt_x</p:attrName>
                                        </p:attrNameLst>
                                      </p:cBhvr>
                                      <p:tavLst>
                                        <p:tav tm="0">
                                          <p:val>
                                            <p:strVal val="1+#ppt_w/2"/>
                                          </p:val>
                                        </p:tav>
                                        <p:tav tm="100000">
                                          <p:val>
                                            <p:strVal val="#ppt_x"/>
                                          </p:val>
                                        </p:tav>
                                      </p:tavLst>
                                    </p:anim>
                                    <p:anim calcmode="lin" valueType="num">
                                      <p:cBhvr additive="base">
                                        <p:cTn id="134" dur="500" fill="hold"/>
                                        <p:tgtEl>
                                          <p:spTgt spid="93"/>
                                        </p:tgtEl>
                                        <p:attrNameLst>
                                          <p:attrName>ppt_y</p:attrName>
                                        </p:attrNameLst>
                                      </p:cBhvr>
                                      <p:tavLst>
                                        <p:tav tm="0">
                                          <p:val>
                                            <p:strVal val="#ppt_y"/>
                                          </p:val>
                                        </p:tav>
                                        <p:tav tm="100000">
                                          <p:val>
                                            <p:strVal val="#ppt_y"/>
                                          </p:val>
                                        </p:tav>
                                      </p:tavLst>
                                    </p:anim>
                                  </p:childTnLst>
                                </p:cTn>
                              </p:par>
                            </p:childTnLst>
                          </p:cTn>
                        </p:par>
                        <p:par>
                          <p:cTn id="135" fill="hold">
                            <p:stCondLst>
                              <p:cond delay="3500"/>
                            </p:stCondLst>
                            <p:childTnLst>
                              <p:par>
                                <p:cTn id="136" nodeType="afterEffect" fill="hold" presetClass="entr" presetID="9">
                                  <p:stCondLst>
                                    <p:cond delay="0"/>
                                  </p:stCondLst>
                                  <p:childTnLst>
                                    <p:set>
                                      <p:cBhvr>
                                        <p:cTn id="137" dur="1" fill="hold">
                                          <p:stCondLst>
                                            <p:cond delay="0"/>
                                          </p:stCondLst>
                                        </p:cTn>
                                        <p:tgtEl>
                                          <p:spTgt spid="95"/>
                                        </p:tgtEl>
                                        <p:attrNameLst>
                                          <p:attrName>style.visibility</p:attrName>
                                        </p:attrNameLst>
                                      </p:cBhvr>
                                      <p:to>
                                        <p:strVal val="visible"/>
                                      </p:to>
                                    </p:set>
                                    <p:animEffect filter="dissolve" transition="in">
                                      <p:cBhvr additive="repl">
                                        <p:cTn id="138" dur="500"/>
                                        <p:tgtEl>
                                          <p:spTgt spid="95"/>
                                        </p:tgtEl>
                                      </p:cBhvr>
                                    </p:animEffect>
                                  </p:childTnLst>
                                </p:cTn>
                              </p:par>
                            </p:childTnLst>
                          </p:cTn>
                        </p:par>
                        <p:par>
                          <p:cTn id="139" fill="hold">
                            <p:stCondLst>
                              <p:cond delay="4000"/>
                            </p:stCondLst>
                            <p:childTnLst>
                              <p:par>
                                <p:cTn id="140" nodeType="afterEffect" fill="hold" presetClass="exit" presetID="9">
                                  <p:stCondLst>
                                    <p:cond delay="1500"/>
                                  </p:stCondLst>
                                  <p:childTnLst>
                                    <p:animEffect filter="dissolve" transition="out">
                                      <p:cBhvr additive="repl">
                                        <p:cTn id="141" dur="500"/>
                                        <p:tgtEl>
                                          <p:spTgt spid="95"/>
                                        </p:tgtEl>
                                      </p:cBhvr>
                                    </p:animEffect>
                                    <p:set>
                                      <p:cBhvr>
                                        <p:cTn id="142" dur="1" fill="hold">
                                          <p:stCondLst>
                                            <p:cond delay="499"/>
                                          </p:stCondLst>
                                        </p:cTn>
                                        <p:tgtEl>
                                          <p:spTgt spid="95"/>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0 -2.59259E-006 C -0.00295 -0.03449 -0.00434 -0.06759 -0.01302 -0.10115 C -0.01684 -0.13565 -0.02378 -0.17268 -0.04132 -0.20208 C -0.0434 -0.21157 -0.04913 -0.21875 -0.05278 -0.22778 C -0.05851 -0.2419 -0.06285 -0.25694 -0.07257 -0.26805 C -0.07569 -0.2787 -0.07118 -0.26666 -0.07986 -0.27754 C -0.08559 -0.28495 -0.08663 -0.29213 -0.09531 -0.29537 C -0.09844 -0.30926 -0.10937 -0.30879 -0.11806 -0.3162 C -0.12639 -0.32315 -0.13507 -0.32754 -0.14375 -0.33379 C -0.14601 -0.33541 -0.14826 -0.3375 -0.15087 -0.33865 C -0.15642 -0.3412 -0.16788 -0.34514 -0.16788 -0.3449 C -0.17483 -0.35301 -0.18142 -0.35347 -0.19062 -0.35625 C -0.19462 -0.3574 -0.20208 -0.35949 -0.20208 -0.35926 C -0.20729 -0.35903 -0.2125 -0.35879 -0.21771 -0.35787 C -0.22448 -0.35671 -0.22812 -0.35069 -0.23333 -0.34676 C -0.23733 -0.34375 -0.24184 -0.34143 -0.24618 -0.33865 C -0.25191 -0.33472 -0.26319 -0.32592 -0.26319 -0.32569 C -0.26788 -0.31782 -0.27587 -0.31018 -0.28299 -0.30486 C -0.29045 -0.28865 -0.28646 -0.29606 -0.29444 -0.2824 C -0.29601 -0.27546 -0.29757 -0.2662 -0.3 -0.25995 C -0.30156 -0.25648 -0.30573 -0.25023 -0.30573 -0.25 C -0.30764 -0.24028 -0.3099 -0.24051 -0.31441 -0.23264 C -0.31667 -0.2287 -0.32014 -0.2199 -0.32014 -0.21967 C -0.32135 -0.21227 -0.32205 -0.20694 -0.32569 -0.20046 C -0.3276 -0.18819 -0.32969 -0.17592 -0.33142 -0.16365 C -0.33177 -0.12916 -0.3316 -0.09421 -0.33281 -0.05949 C -0.33351 -0.04444 -0.33993 -0.0294 -0.33993 -0.01435 E">
                                      <p:cBhvr>
                                        <p:cTn id="146" dur="2000" fill="hold"/>
                                        <p:tgtEl>
                                          <p:spTgt spid="96"/>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8">
                                  <p:stCondLst>
                                    <p:cond delay="0"/>
                                  </p:stCondLst>
                                  <p:childTnLst>
                                    <p:anim calcmode="lin" valueType="num">
                                      <p:cBhvr additive="base">
                                        <p:cTn id="150" dur="500"/>
                                        <p:tgtEl>
                                          <p:spTgt spid="96"/>
                                        </p:tgtEl>
                                        <p:attrNameLst>
                                          <p:attrName>ppt_x</p:attrName>
                                        </p:attrNameLst>
                                      </p:cBhvr>
                                      <p:tavLst>
                                        <p:tav tm="0">
                                          <p:val>
                                            <p:strVal val="#ppt_x"/>
                                          </p:val>
                                        </p:tav>
                                        <p:tav tm="100000">
                                          <p:val>
                                            <p:strVal val="0-#ppt_w/2"/>
                                          </p:val>
                                        </p:tav>
                                      </p:tavLst>
                                    </p:anim>
                                    <p:anim calcmode="lin" valueType="num">
                                      <p:cBhvr additive="base">
                                        <p:cTn id="151" dur="500"/>
                                        <p:tgtEl>
                                          <p:spTgt spid="96"/>
                                        </p:tgtEl>
                                        <p:attrNameLst>
                                          <p:attrName>ppt_y</p:attrName>
                                        </p:attrNameLst>
                                      </p:cBhvr>
                                      <p:tavLst>
                                        <p:tav tm="0">
                                          <p:val>
                                            <p:strVal val="#ppt_y"/>
                                          </p:val>
                                        </p:tav>
                                        <p:tav tm="100000">
                                          <p:val>
                                            <p:strVal val="#ppt_y"/>
                                          </p:val>
                                        </p:tav>
                                      </p:tavLst>
                                    </p:anim>
                                    <p:set>
                                      <p:cBhvr>
                                        <p:cTn id="152" dur="1" fill="hold">
                                          <p:stCondLst>
                                            <p:cond delay="499"/>
                                          </p:stCondLst>
                                        </p:cTn>
                                        <p:tgtEl>
                                          <p:spTgt spid="96"/>
                                        </p:tgtEl>
                                        <p:attrNameLst>
                                          <p:attrName>style.visibility</p:attrName>
                                        </p:attrNameLst>
                                      </p:cBhvr>
                                      <p:to>
                                        <p:strVal val="hidden"/>
                                      </p:to>
                                    </p:set>
                                  </p:childTnLst>
                                </p:cTn>
                              </p:par>
                              <p:par>
                                <p:cTn id="153" nodeType="withEffect" fill="hold" presetClass="exit" presetID="2" presetSubtype="8">
                                  <p:stCondLst>
                                    <p:cond delay="0"/>
                                  </p:stCondLst>
                                  <p:childTnLst>
                                    <p:anim calcmode="lin" valueType="num">
                                      <p:cBhvr additive="base">
                                        <p:cTn id="154" dur="500"/>
                                        <p:tgtEl>
                                          <p:spTgt spid="94"/>
                                        </p:tgtEl>
                                        <p:attrNameLst>
                                          <p:attrName>ppt_x</p:attrName>
                                        </p:attrNameLst>
                                      </p:cBhvr>
                                      <p:tavLst>
                                        <p:tav tm="0">
                                          <p:val>
                                            <p:strVal val="#ppt_x"/>
                                          </p:val>
                                        </p:tav>
                                        <p:tav tm="100000">
                                          <p:val>
                                            <p:strVal val="0-#ppt_w/2"/>
                                          </p:val>
                                        </p:tav>
                                      </p:tavLst>
                                    </p:anim>
                                    <p:anim calcmode="lin" valueType="num">
                                      <p:cBhvr additive="base">
                                        <p:cTn id="155" dur="500"/>
                                        <p:tgtEl>
                                          <p:spTgt spid="94"/>
                                        </p:tgtEl>
                                        <p:attrNameLst>
                                          <p:attrName>ppt_y</p:attrName>
                                        </p:attrNameLst>
                                      </p:cBhvr>
                                      <p:tavLst>
                                        <p:tav tm="0">
                                          <p:val>
                                            <p:strVal val="#ppt_y"/>
                                          </p:val>
                                        </p:tav>
                                        <p:tav tm="100000">
                                          <p:val>
                                            <p:strVal val="#ppt_y"/>
                                          </p:val>
                                        </p:tav>
                                      </p:tavLst>
                                    </p:anim>
                                    <p:set>
                                      <p:cBhvr>
                                        <p:cTn id="156"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98" name=""/>
          <p:cNvSpPr/>
          <p:nvPr/>
        </p:nvSpPr>
        <p:spPr>
          <a:xfrm>
            <a:off x="168120" y="476280"/>
            <a:ext cx="8805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On the 21</a:t>
            </a:r>
            <a:r>
              <a:rPr b="0" lang="en-US" sz="1800" spc="-1" strike="noStrike" baseline="30000">
                <a:solidFill>
                  <a:srgbClr val="ffffff"/>
                </a:solidFill>
                <a:latin typeface="Bodoni MT Black"/>
              </a:rPr>
              <a:t>st</a:t>
            </a:r>
            <a:r>
              <a:rPr b="0" lang="en-US" sz="1800" spc="-1" strike="noStrike">
                <a:solidFill>
                  <a:srgbClr val="ffffff"/>
                </a:solidFill>
                <a:latin typeface="Bodoni MT Black"/>
              </a:rPr>
              <a:t> December 1762 at the age of 35, Cook married Elizabeth Batts, who was thirteen years younger than he was, at St Margaret's church</a:t>
            </a:r>
            <a:endParaRPr b="0" lang="en-US" sz="1800" spc="-1" strike="noStrike">
              <a:solidFill>
                <a:srgbClr val="000000"/>
              </a:solidFill>
              <a:latin typeface="Arial"/>
            </a:endParaRPr>
          </a:p>
        </p:txBody>
      </p:sp>
      <p:grpSp>
        <p:nvGrpSpPr>
          <p:cNvPr id="99" name=""/>
          <p:cNvGrpSpPr/>
          <p:nvPr/>
        </p:nvGrpSpPr>
        <p:grpSpPr>
          <a:xfrm>
            <a:off x="2190600" y="1700280"/>
            <a:ext cx="4762800" cy="4734000"/>
            <a:chOff x="2190600" y="1700280"/>
            <a:chExt cx="4762800" cy="4734000"/>
          </a:xfrm>
        </p:grpSpPr>
        <p:pic>
          <p:nvPicPr>
            <p:cNvPr id="100" name="" descr=""/>
            <p:cNvPicPr/>
            <p:nvPr/>
          </p:nvPicPr>
          <p:blipFill>
            <a:blip r:embed="rId1"/>
            <a:stretch/>
          </p:blipFill>
          <p:spPr>
            <a:xfrm>
              <a:off x="2190600" y="1700280"/>
              <a:ext cx="4762800" cy="4734000"/>
            </a:xfrm>
            <a:prstGeom prst="rect">
              <a:avLst/>
            </a:prstGeom>
            <a:ln w="0">
              <a:noFill/>
            </a:ln>
          </p:spPr>
        </p:pic>
        <p:pic>
          <p:nvPicPr>
            <p:cNvPr id="101" name="" descr=""/>
            <p:cNvPicPr/>
            <p:nvPr/>
          </p:nvPicPr>
          <p:blipFill>
            <a:blip r:embed="rId2">
              <a:grayscl/>
            </a:blip>
            <a:srcRect l="0" t="13970" r="0" b="0"/>
            <a:stretch/>
          </p:blipFill>
          <p:spPr>
            <a:xfrm>
              <a:off x="4716360" y="2408400"/>
              <a:ext cx="979560" cy="1020600"/>
            </a:xfrm>
            <a:prstGeom prst="rect">
              <a:avLst/>
            </a:prstGeom>
            <a:ln w="0">
              <a:noFill/>
            </a:ln>
          </p:spPr>
        </p:pic>
        <p:pic>
          <p:nvPicPr>
            <p:cNvPr id="102" name="" descr=""/>
            <p:cNvPicPr/>
            <p:nvPr/>
          </p:nvPicPr>
          <p:blipFill>
            <a:blip r:embed="rId3">
              <a:grayscl/>
            </a:blip>
            <a:stretch/>
          </p:blipFill>
          <p:spPr>
            <a:xfrm>
              <a:off x="3492360" y="2349360"/>
              <a:ext cx="1408320" cy="1408320"/>
            </a:xfrm>
            <a:prstGeom prst="rect">
              <a:avLst/>
            </a:prstGeom>
            <a:ln w="0">
              <a:noFill/>
            </a:ln>
          </p:spPr>
        </p:pic>
      </p:grpSp>
      <p:sp>
        <p:nvSpPr>
          <p:cNvPr id="103" name=""/>
          <p:cNvSpPr/>
          <p:nvPr/>
        </p:nvSpPr>
        <p:spPr>
          <a:xfrm>
            <a:off x="5867280" y="1484280"/>
            <a:ext cx="2449800" cy="647640"/>
          </a:xfrm>
          <a:prstGeom prst="wedgeRoundRectCallout">
            <a:avLst>
              <a:gd name="adj1" fmla="val -62703"/>
              <a:gd name="adj2" fmla="val 2102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I love you too</a:t>
            </a:r>
            <a:endParaRPr b="0" lang="en-US" sz="2000" spc="-1" strike="noStrike">
              <a:solidFill>
                <a:srgbClr val="000000"/>
              </a:solidFill>
              <a:latin typeface="Arial"/>
            </a:endParaRPr>
          </a:p>
        </p:txBody>
      </p:sp>
      <p:sp>
        <p:nvSpPr>
          <p:cNvPr id="104" name=""/>
          <p:cNvSpPr/>
          <p:nvPr/>
        </p:nvSpPr>
        <p:spPr>
          <a:xfrm>
            <a:off x="971640" y="1413000"/>
            <a:ext cx="2449440" cy="647640"/>
          </a:xfrm>
          <a:prstGeom prst="wedgeRoundRectCallout">
            <a:avLst>
              <a:gd name="adj1" fmla="val 65231"/>
              <a:gd name="adj2" fmla="val 2522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I love you…</a:t>
            </a:r>
            <a:endParaRPr b="0" lang="en-US" sz="2000" spc="-1" strike="noStrike">
              <a:solidFill>
                <a:srgbClr val="000000"/>
              </a:solidFill>
              <a:latin typeface="Arial"/>
            </a:endParaRPr>
          </a:p>
        </p:txBody>
      </p:sp>
    </p:spTree>
  </p:cSld>
  <p:transition advTm="3000">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0">
                                  <p:stCondLst>
                                    <p:cond delay="0"/>
                                  </p:stCondLst>
                                  <p:childTnLst>
                                    <p:set>
                                      <p:cBhvr>
                                        <p:cTn id="162" dur="1" fill="hold">
                                          <p:stCondLst>
                                            <p:cond delay="0"/>
                                          </p:stCondLst>
                                        </p:cTn>
                                        <p:tgtEl>
                                          <p:spTgt spid="99"/>
                                        </p:tgtEl>
                                        <p:attrNameLst>
                                          <p:attrName>style.visibility</p:attrName>
                                        </p:attrNameLst>
                                      </p:cBhvr>
                                      <p:to>
                                        <p:strVal val="visible"/>
                                      </p:to>
                                    </p:set>
                                    <p:animEffect filter="fade" transition="in">
                                      <p:cBhvr additive="repl">
                                        <p:cTn id="163" dur="2000"/>
                                        <p:tgtEl>
                                          <p:spTgt spid="99"/>
                                        </p:tgtEl>
                                      </p:cBhvr>
                                    </p:animEffect>
                                  </p:childTnLst>
                                </p:cTn>
                              </p:par>
                            </p:childTnLst>
                          </p:cTn>
                        </p:par>
                        <p:par>
                          <p:cTn id="164" fill="hold">
                            <p:stCondLst>
                              <p:cond delay="2000"/>
                            </p:stCondLst>
                            <p:childTnLst>
                              <p:par>
                                <p:cTn id="165" nodeType="afterEffect" fill="hold" presetClass="entr" presetID="9">
                                  <p:stCondLst>
                                    <p:cond delay="7000"/>
                                  </p:stCondLst>
                                  <p:childTnLst>
                                    <p:set>
                                      <p:cBhvr>
                                        <p:cTn id="166" dur="1" fill="hold">
                                          <p:stCondLst>
                                            <p:cond delay="0"/>
                                          </p:stCondLst>
                                        </p:cTn>
                                        <p:tgtEl>
                                          <p:spTgt spid="104"/>
                                        </p:tgtEl>
                                        <p:attrNameLst>
                                          <p:attrName>style.visibility</p:attrName>
                                        </p:attrNameLst>
                                      </p:cBhvr>
                                      <p:to>
                                        <p:strVal val="visible"/>
                                      </p:to>
                                    </p:set>
                                    <p:animEffect filter="dissolve" transition="in">
                                      <p:cBhvr additive="repl">
                                        <p:cTn id="167" dur="500"/>
                                        <p:tgtEl>
                                          <p:spTgt spid="104"/>
                                        </p:tgtEl>
                                      </p:cBhvr>
                                    </p:animEffect>
                                  </p:childTnLst>
                                </p:cTn>
                              </p:par>
                            </p:childTnLst>
                          </p:cTn>
                        </p:par>
                        <p:par>
                          <p:cTn id="168" fill="hold">
                            <p:stCondLst>
                              <p:cond delay="9500"/>
                            </p:stCondLst>
                            <p:childTnLst>
                              <p:par>
                                <p:cTn id="169" nodeType="afterEffect" fill="hold" presetClass="exit" presetID="9">
                                  <p:stCondLst>
                                    <p:cond delay="1000"/>
                                  </p:stCondLst>
                                  <p:childTnLst>
                                    <p:animEffect filter="dissolve" transition="out">
                                      <p:cBhvr additive="repl">
                                        <p:cTn id="170" dur="500"/>
                                        <p:tgtEl>
                                          <p:spTgt spid="104"/>
                                        </p:tgtEl>
                                      </p:cBhvr>
                                    </p:animEffect>
                                    <p:set>
                                      <p:cBhvr>
                                        <p:cTn id="171" dur="1" fill="hold">
                                          <p:stCondLst>
                                            <p:cond delay="499"/>
                                          </p:stCondLst>
                                        </p:cTn>
                                        <p:tgtEl>
                                          <p:spTgt spid="104"/>
                                        </p:tgtEl>
                                        <p:attrNameLst>
                                          <p:attrName>style.visibility</p:attrName>
                                        </p:attrNameLst>
                                      </p:cBhvr>
                                      <p:to>
                                        <p:strVal val="hidden"/>
                                      </p:to>
                                    </p:set>
                                  </p:childTnLst>
                                </p:cTn>
                              </p:par>
                            </p:childTnLst>
                          </p:cTn>
                        </p:par>
                        <p:par>
                          <p:cTn id="172" fill="hold">
                            <p:stCondLst>
                              <p:cond delay="11000"/>
                            </p:stCondLst>
                            <p:childTnLst>
                              <p:par>
                                <p:cTn id="173" nodeType="afterEffect" fill="hold" presetClass="entr" presetID="9">
                                  <p:stCondLst>
                                    <p:cond delay="1000"/>
                                  </p:stCondLst>
                                  <p:childTnLst>
                                    <p:set>
                                      <p:cBhvr>
                                        <p:cTn id="174" dur="1" fill="hold">
                                          <p:stCondLst>
                                            <p:cond delay="0"/>
                                          </p:stCondLst>
                                        </p:cTn>
                                        <p:tgtEl>
                                          <p:spTgt spid="103"/>
                                        </p:tgtEl>
                                        <p:attrNameLst>
                                          <p:attrName>style.visibility</p:attrName>
                                        </p:attrNameLst>
                                      </p:cBhvr>
                                      <p:to>
                                        <p:strVal val="visible"/>
                                      </p:to>
                                    </p:set>
                                    <p:animEffect filter="dissolve" transition="in">
                                      <p:cBhvr additive="repl">
                                        <p:cTn id="175" dur="500"/>
                                        <p:tgtEl>
                                          <p:spTgt spid="103"/>
                                        </p:tgtEl>
                                      </p:cBhvr>
                                    </p:animEffect>
                                  </p:childTnLst>
                                </p:cTn>
                              </p:par>
                            </p:childTnLst>
                          </p:cTn>
                        </p:par>
                        <p:par>
                          <p:cTn id="176" fill="hold">
                            <p:stCondLst>
                              <p:cond delay="12500"/>
                            </p:stCondLst>
                            <p:childTnLst>
                              <p:par>
                                <p:cTn id="177" nodeType="afterEffect" fill="hold" presetClass="exit" presetID="9">
                                  <p:stCondLst>
                                    <p:cond delay="1000"/>
                                  </p:stCondLst>
                                  <p:childTnLst>
                                    <p:animEffect filter="dissolve" transition="out">
                                      <p:cBhvr additive="repl">
                                        <p:cTn id="178" dur="500"/>
                                        <p:tgtEl>
                                          <p:spTgt spid="103"/>
                                        </p:tgtEl>
                                      </p:cBhvr>
                                    </p:animEffect>
                                    <p:set>
                                      <p:cBhvr>
                                        <p:cTn id="179"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6:30:02Z</dcterms:created>
  <dc:creator>Tynan</dc:creator>
  <dc:description/>
  <dc:language>en-US</dc:language>
  <cp:lastModifiedBy>room17</cp:lastModifiedBy>
  <dcterms:modified xsi:type="dcterms:W3CDTF">2008-08-31T23:30:30Z</dcterms:modified>
  <cp:revision>8</cp:revision>
  <dc:subject/>
  <dc:title>Slide 1</dc:title>
</cp:coreProperties>
</file>